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3BE4-A462-41AC-9F13-F76C040F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438-0EB5-49A6-8F94-438A97A2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702E-9407-46A1-BA14-969F950A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C552-37E9-4C43-A2DD-025B55F6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8B33-5F89-49CC-8C2E-061AFA09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65B5-2988-4738-B6B9-C3204312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BF2A-3DF8-434F-8871-B451E222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187E-A6CF-4B18-A342-3FBCFE25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5754-B7BA-407E-A59D-E8EAAB68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3EAD-640A-4931-9187-488370E3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F9A7-4AA4-4F1D-B3B3-1429CE5F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5E5-EF0E-4717-89C7-32C0BF67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E7D6-A813-4A85-A979-7B305271B68B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March 20, 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3059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Minion"/>
              </a:rPr>
              <a:t>PLM Excellence Program 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Dr. S. Bocionek/ Dr. J. Eickh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 PHE BMG 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unich, March 20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152280"/>
            <a:ext cx="815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„ Fit 4 Apoxi“: Fässler </a:t>
            </a: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(step 1: Analysis Projec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765000"/>
            <a:ext cx="4464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Charter for the 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Re-define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„platform“ in its totality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adressing people, process and product needs. Derive an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timal supplier co-operation model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based on a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as R&amp;D productivity tool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, and having in mind a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aximized re-use factor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of all invested efforts (specs, designs, code/features, base product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Future-safety and R&amp;D productivity will come from key informatics principles like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abstraction, componentization, 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nd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backward-compatible desig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The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trade-offs between „good platform“ and „market pressure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“ will be analyzed for a concrete product, e.g. Diamond, and described in at least two scenari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Potential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hite spots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in the functionality of Apoxi to allow for a first product will be identified (incl. an estimate of the time to comple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A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ecision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will be possible at the end of the analysis phase what the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first product on Apoxi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will be, and when we can deliv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Objectives for the „platform“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architecture (incl. 3rd party compone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release con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requirements &amp; CR proces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project management process (incl. 3rd parti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development process (ag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training and education con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Measures of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Abstraction layer requirements in place (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Agreed upon rationale for APOXI cost lower native cost (4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White spots in Apoxi known; IFX comittment to close (4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Apoxi product decisions possible for Q1-Q3 2007 (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plan for next 6 – 12 months ready and agreed (4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990720"/>
            <a:ext cx="44276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sponsi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gram mgr: Georg Fässler / Uli Gei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L: Patric Houben - Chief architect : Norbert Haidu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Team members: nomin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Steering board: SB, Sydon, Mucke, Bjö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porting &amp; Review (until end of Mar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porting and review every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Architecture 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66ff33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Group members identified; committed &lt;0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Workshop abstraction layer : 6.03.06 &lt; T &lt; 3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5560">
              <a:lnSpc>
                <a:spcPct val="8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including all development parties :</a:t>
            </a:r>
            <a:r>
              <a:rPr b="0" lang="en-US" sz="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IFX-Comneon, Aplix, PSE, Tele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Management 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lease strategy &lt; 10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quirement platform management &lt; 3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cess rollout &lt; 3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8265960" y="414504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8530920" y="4374720"/>
            <a:ext cx="157320" cy="15696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81760" y="4138560"/>
            <a:ext cx="3767040" cy="144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ff33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FIT 4 APOXI workshop currently on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ee ab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Invent the Future“: Bauregg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8880" y="837720"/>
            <a:ext cx="439092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600" spc="-1" strike="noStrike">
                <a:solidFill>
                  <a:srgbClr val="3a0e66"/>
                </a:solidFill>
                <a:latin typeface="Arial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</a:rPr>
              <a:t>Strengthen IP portfolio of BenQ Mobile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</a:rPr>
              <a:t>Make invention disclosures part of routine PLM work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</a:rPr>
              <a:t>Stimulate fun to invent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: Jan 06   End: Aug 06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gree on invention disclosure targets (Feb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nvestigate status and potential measures (Feb.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 invention initiative (Mar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mplement incentive proposal (Mar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mplement organisational changes (Apr.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90 invention disclosures filed (Jul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180 invention disclosures filed (Dec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10160" y="838080"/>
            <a:ext cx="407664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anagement summary monthly to RD boar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See 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Coach: Dr. Bocionek &amp; Dr. Schneider-Hufschmid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ogram Manager:  Bauregger, Hartmann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8" name=""/>
          <p:cNvSpPr/>
          <p:nvPr/>
        </p:nvSpPr>
        <p:spPr>
          <a:xfrm>
            <a:off x="4610160" y="2962440"/>
            <a:ext cx="4448160" cy="277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Invention disclosure targets agr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tatus and potential measures avail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Organizational change deci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lignment with ISR for invention initi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Execute organizational ch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177040" y="3162240"/>
            <a:ext cx="644760" cy="270000"/>
            <a:chOff x="8177040" y="3162240"/>
            <a:chExt cx="644760" cy="270000"/>
          </a:xfrm>
        </p:grpSpPr>
        <p:sp>
          <p:nvSpPr>
            <p:cNvPr id="110" name=""/>
            <p:cNvSpPr/>
            <p:nvPr/>
          </p:nvSpPr>
          <p:spPr>
            <a:xfrm rot="16200000">
              <a:off x="8364240" y="2974680"/>
              <a:ext cx="270000" cy="644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8629560" y="3217320"/>
              <a:ext cx="157320" cy="157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Thin Client Phone“: Bauregg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8880" y="837720"/>
            <a:ext cx="439092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Realization of a WLAN VoIP Phone Prototype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Design like Apple’s iPOD Nano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iority thin package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Skype client must be used.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802.11b/g implementation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: Jan 06   End: Aug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 Feature definitions (Jan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Interdisciplinary team starts (Feb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Draft Predevelopment Project Plan (Feb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Final Predevelopment Project Plan (Ma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ystem Supplier selection HW and SW (Ma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ystem deliverables agreed with supplier (Apr.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Component definition done (e.g. Display, etc.) (Ap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 PCB and Mechanical Design (Ap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Prototype running (Jul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Documentation (Aug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 decision (Aug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10160" y="838080"/>
            <a:ext cx="407664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anagement summary monthly to RD boar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See 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Coach: Dr. Bocione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ogram Manager:  Bauregge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oject Leader:        V. Otto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"/>
          <p:cNvSpPr/>
          <p:nvPr/>
        </p:nvSpPr>
        <p:spPr>
          <a:xfrm>
            <a:off x="4610160" y="2962440"/>
            <a:ext cx="4448160" cy="361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“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hort List” for supplier selection rea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raft project plan rea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First stack up concept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PMC planning implem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ccount ope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tart detailed feature definition with C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Fix final project plan (Marc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elect system supplier (Marc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8177040" y="3162240"/>
            <a:ext cx="644760" cy="270000"/>
            <a:chOff x="8177040" y="3162240"/>
            <a:chExt cx="644760" cy="270000"/>
          </a:xfrm>
        </p:grpSpPr>
        <p:sp>
          <p:nvSpPr>
            <p:cNvPr id="117" name=""/>
            <p:cNvSpPr/>
            <p:nvPr/>
          </p:nvSpPr>
          <p:spPr>
            <a:xfrm rot="16200000">
              <a:off x="8364240" y="2974680"/>
              <a:ext cx="270000" cy="644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8629560" y="3217320"/>
              <a:ext cx="157320" cy="157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5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</a:t>
            </a:r>
            <a:r>
              <a:rPr b="1" lang="de-DE" sz="3200" spc="-1" strike="noStrike">
                <a:solidFill>
                  <a:srgbClr val="3a0e66"/>
                </a:solidFill>
                <a:latin typeface="Arial Unicode MS"/>
              </a:rPr>
              <a:t> MD Q-Improvement </a:t>
            </a:r>
            <a:r>
              <a:rPr b="1" lang="de-DE" sz="1800" spc="-1" strike="noStrike">
                <a:solidFill>
                  <a:srgbClr val="3a0e66"/>
                </a:solidFill>
                <a:latin typeface="Arial Unicode MS"/>
              </a:rPr>
              <a:t>( status 17.3.06 )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0770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event defects and high return rat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Detect and correct potential problems as early as possibl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Focus on PLM – SCM collabor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art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Tool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upplier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&lt; 2% field return ra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rogram Manager: Thonhause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0160" y="990720"/>
            <a:ext cx="407664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onthly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roject start: Feb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oot cause/ levers : March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-      Start implementation : April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753000"/>
            <a:ext cx="852516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3 sub projectteams installed  ( MD performance, Integrator supplier, MD / SQA interfac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nterdisciplinary teams nominated ( MD, SCM and SP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oot cause and levers defined  ( aligned between all partie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lead products : Onyx and Obsi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nterface MD –SQA fixed and agreed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- implementation plan  ( March 06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8399160" y="361296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8459640" y="3855600"/>
            <a:ext cx="157320" cy="157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8664480" y="3855600"/>
            <a:ext cx="15732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8238960" y="3863880"/>
            <a:ext cx="1620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Best in Test“: Wack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4077000" cy="27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314640" indent="-31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Create 5 significant metrics for performance measurement of ST , e.g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-22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Test coverage, pass ra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-22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Code coverag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-22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Defect injection analysi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-22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Bug handling cycle tim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-2246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 Unicode MS"/>
              </a:rPr>
              <a:t>Field return ra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inimize number of new bugs detected after S4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Provide test cases for TDD </a:t>
            </a:r>
            <a:r>
              <a:rPr b="1" i="1" lang="en-US" sz="1200" spc="-1" strike="noStrike">
                <a:solidFill>
                  <a:srgbClr val="3333cc"/>
                </a:solidFill>
                <a:latin typeface="Arial Unicode MS"/>
              </a:rPr>
              <a:t>for acceptance test</a:t>
            </a: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 on tim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Provide measurement for changed lines of code after C3 milestone for componen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Provide measurement for 1st pass yield (pass rate during first test run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Improve ST performance based on metrics abov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 Unicode MS"/>
              </a:rPr>
              <a:t>Rollout of Testdirector</a:t>
            </a: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4640" indent="-31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A) First metric setup 1.2.06,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done 27.1.06</a:t>
            </a:r>
            <a:br>
              <a:rPr sz="1200"/>
            </a:b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B) Complete metric setup 1.5.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etric set up 1.5.06 incl. first roll out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Availability of required test cases for TDD in pilot scrum team in time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etric set up by 01.05. incl. first roll ou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etric set up by 01.05. incl. first roll ou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Improvement targets for ST based on metrics above defined  by 15.05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 Unicode MS"/>
              </a:rPr>
              <a:t>Buy decision 15.4.05, pilot run 30.7.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0160" y="838080"/>
            <a:ext cx="407664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rogram Manager:  Wacke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anagement summary monthly to RD boar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"/>
          <p:cNvSpPr/>
          <p:nvPr/>
        </p:nvSpPr>
        <p:spPr>
          <a:xfrm>
            <a:off x="4610160" y="2962440"/>
            <a:ext cx="4448160" cy="36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kickoff with line managers and project leaders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ll teams are named, and tasks are in progress as plan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ata collection for all metrics sta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verage EXIT/day metric introduced, data availabl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principle workflow for TDD agreed with RD S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– budget for Test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etailed data collection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further alignment with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177040" y="3162240"/>
            <a:ext cx="644760" cy="270000"/>
            <a:chOff x="8177040" y="3162240"/>
            <a:chExt cx="644760" cy="270000"/>
          </a:xfrm>
        </p:grpSpPr>
        <p:sp>
          <p:nvSpPr>
            <p:cNvPr id="132" name=""/>
            <p:cNvSpPr/>
            <p:nvPr/>
          </p:nvSpPr>
          <p:spPr>
            <a:xfrm rot="16200000">
              <a:off x="8364240" y="2974680"/>
              <a:ext cx="270000" cy="644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6200000">
              <a:off x="8629560" y="3217320"/>
              <a:ext cx="157320" cy="157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819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3a0e66"/>
                </a:solidFill>
                <a:latin typeface="Minion"/>
              </a:rPr>
              <a:t>BACKUP</a:t>
            </a:r>
            <a:endParaRPr b="1" lang="en-US" sz="6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Model-V“ &amp; PM@PD: TBD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Establish true V-Model for PLM, across whole organization, and for all parts, e.g. HW, SW, MD, …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Set up „complete“ horizontal layers of responsibility in the „V“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Define and agree on clear roles and responsibilities across all Org‘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Establish measurable process disciplin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Foster culture of internal customer satisfaction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mprove TTM, Quality and cost posi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Process maturity: &g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QA deviations: &l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ternal customer sat &gt; 66%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Program Manager:  SB/WK -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Process def &amp; CR: QP/QA or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Monitoring and measuring: Schwab/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Quality Gates Checking: Mgmt team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Mgmt summary: monthly by SB &amp; W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Ongoing KPI and „internal customer sat“ metric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Find program mgr:  SB,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Alignment with QM/QP, CM, TPM, SCM, SP, PD: SB,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formation Kick-off: SB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KPI‘s complete, and mgmt objectives finalized: end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Start program: Feb.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Quo Vadis PHE PD ?“: Bocionek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890280"/>
            <a:ext cx="40770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Communication Campaign in P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crease confidence in mgm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crease knowledge &amp; skil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Facilitate cross-dept interac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crease enjoymen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Employee opinion survey after 6 months (and annually after that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itial target: „66% </a:t>
            </a: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ositive</a:t>
            </a: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“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Program Manager:  Bocione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Contributions: mgmt team, all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10160" y="890280"/>
            <a:ext cx="407664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Bi-monthly all hands R&amp;D meeting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Employee opinion survey in summer 20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Mgmt kick-off workshop: mid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1st all hands R&amp;D meeting: 27. Jan.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Breakfast Club 5-Apr-06 (topic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stomer Orientation and Process Discipline: Harmony or Contradiction?)</a:t>
            </a:r>
            <a:r>
              <a:rPr b="1" i="1" lang="en-US" sz="1400" spc="-1" strike="noStrike">
                <a:solidFill>
                  <a:srgbClr val="ff33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683240"/>
            <a:ext cx="8525160" cy="213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 20-Mar-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concept „Quo Vadis R&amp;D“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cepted by mgmt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ccessful 1st all hands meeting on 31. Jan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All hands R&amp;D meeting on 31-Mar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Breakfast Club 5-Apr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include PHA R&amp;D in combined product house (May 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8399520" y="4727160"/>
            <a:ext cx="26964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8664480" y="4970160"/>
            <a:ext cx="15696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High-Performing Culture“: Bocionek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31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Establish commitment-driven behavio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Goal orient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Realistic but agressive plan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lear action setting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Reliable delivery schedul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ccountability culture across team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rvice orientation towards internal customer satisfac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Skill optimization of mgmt &amp; staff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75% of all KPI‘s reached in year 1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Work satisfaction &gt; 66%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rogram Manager:  Bocionek/Klebsch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gmt coaching: Bocionek / Klebsch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erformance Controlling: </a:t>
            </a: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Wingen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31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gmt summary: monthly by SB &amp; W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Ongoing KPI and „internal customer sat“ metric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KPI‘s complete, and mgmt objectives finalized: end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gmt kick-off workshop &amp; first training: mid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1st task for all mgrs: work out PLM excellence projects: end Jan.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erformance monitoring: starts March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Satisfaction questionnaire: Sept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LQA / SMR: 1Q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Balanced Score Cards moved to Apr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954680"/>
            <a:ext cx="8525160" cy="182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 20-Mar-06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KPIs defined and signed in Feb 06; KPI scoreboard set up by K. Win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commitment culture implemented in U2, Fit4Apoxi Workshop, etc. Mgmt team accepts this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LQA at PHE R&amp;D accepted by mgmt team (prototyped within BM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LQA starts in 2nd half of M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Make BSC from KPI scoreboard (Apr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Opinion Poll offered earlier than 3Q06 (tbd in 2Q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8399160" y="490356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8664480" y="5146200"/>
            <a:ext cx="15732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Platform &amp; Portfolio“: Bocionek/Eickholt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07700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Establish BenQ Mobile Portfolio, Roadmap Platform as unifying planning tools for whole organiza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982800" indent="-1965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Cross-organizational workgoup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982800" indent="-1965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QA‘ed documentation with approval and change request process of all stakeholders involve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Derive concise strategies for re-use, make-or buy decisions, partner selection and sales program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Start with CM &amp; PHE in 1H06; then involve PHA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982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Formal documentation and change mgmt in place: Feb 06 </a:t>
            </a: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not before Apr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„</a:t>
            </a: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e-use factor“ increased by 33% in year 1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&amp;D costs reduced by: tb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0160" y="990720"/>
            <a:ext cx="407664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Coach: Eickholt / Lepol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rogram Manager:  Bocionek - Mulholland</a:t>
            </a: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gmt report in OPC counc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Quarterly presentation of updated roadmap and portfolio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Alignment with CM, PHE: Eickholt &amp; Lepold,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1st portfolio ready for approval: Sydon,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Uddated roadmap: Feb. 06 </a:t>
            </a: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became March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e-use strategy doc: Feb 06 </a:t>
            </a: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will be Apr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971960"/>
            <a:ext cx="8525160" cy="182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 20-Jan-06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first „real“ portfolio/roammap and R&amp;D budget alignment discussion on March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eplanning based on prioritized roadmap (by CM) on March 20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project back on tr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CM needs more systematic approach; should be possible in new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finalize roadmap – budget alignment (Mar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gree on regular update process, every second month (Apr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8399520" y="4831920"/>
            <a:ext cx="26964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8664480" y="5074920"/>
            <a:ext cx="15696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975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“Real V-Model: </a:t>
            </a:r>
            <a:r>
              <a:rPr b="1" lang="it-IT" sz="2400" spc="-1" strike="noStrike">
                <a:solidFill>
                  <a:srgbClr val="3a0e66"/>
                </a:solidFill>
                <a:latin typeface="Arial Unicode MS"/>
              </a:rPr>
              <a:t>Introduce process culture and discipline</a:t>
            </a: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“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stablish true V-Model for PLM, across whole organization, and for all parts, e.g. HW, SW, MD, …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Set up „complete“ horizontal layers of responsibility in the „V“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Define and agree on clear roles and responsibilities across all Org‘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Establish measurable process disciplin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Foster culture of internal customer satisfaction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mprove TTM, Quality and cost posi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cess maturity: &g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QA deviations: &l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ternal customer sat &gt; 66%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ject Manager: Assa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onitoring and measuring: Schwab/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gmt summary: monthly by SB &amp; W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Ongoing KPI and „internal customer sat“ metric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Name project lead (Feb.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don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ject Plan (Mar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starte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formation Kick-off (Mar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move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ducation starts (Mar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starte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ternal customer satisfaction metrics set (Mar 06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ont. Improvement Process targets set (Apr. 06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cess adaptations completed 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(Jun 06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MMI baseline available (Sep 06)</a:t>
            </a: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570800" y="655560"/>
            <a:ext cx="785520" cy="334800"/>
            <a:chOff x="7570800" y="655560"/>
            <a:chExt cx="785520" cy="334800"/>
          </a:xfrm>
        </p:grpSpPr>
        <p:sp>
          <p:nvSpPr>
            <p:cNvPr id="67" name=""/>
            <p:cNvSpPr/>
            <p:nvPr/>
          </p:nvSpPr>
          <p:spPr>
            <a:xfrm rot="16200000">
              <a:off x="7796160" y="430200"/>
              <a:ext cx="334800" cy="7855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7879320" y="725760"/>
              <a:ext cx="194760" cy="192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16200000">
            <a:off x="8086680" y="2624040"/>
            <a:ext cx="1620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From Proto-Agile to Full Agile“: U. Schmitz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„Agile with Scrum“ as standard software development pro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708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roduct backlog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708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crum team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708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print-based release plan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708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TDD (test-driven development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totype Agile in Ruby and Gemstone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djust organization as neede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djust QMS as neede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Kick-off for selected projects (01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Broad Introduction of Methodology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Ruby project on Agile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tup transition team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Mentoring by OM starts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reate prioritized transition backlog and transition plan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Gemstone project on Agile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crum teams and sprint planning of pilots established (05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ilot teams trained for TDD and agile principles (06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released (09/06) – proposal in 07/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tart full transition program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Organization prepared for full agile transition (1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anager:  U. Schmitz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ject lead: Rudolph,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ject lead QA/QMS: Fillers/Grei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ilot-Agile within regular project reviews in the OPC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ilots/Full transition: monthly mgmt report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tart: Jan 06   End: Dec 06; continue from there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"/>
          <p:cNvSpPr/>
          <p:nvPr/>
        </p:nvSpPr>
        <p:spPr>
          <a:xfrm>
            <a:off x="4559400" y="2421000"/>
            <a:ext cx="426240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nitial transition backlog cre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Product Owner for transition defined (S. Bocione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gile Overview and Q&amp;A sessions held in MCH 250, KLF220, WRO 1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nsulting plan with Object Mentors defined and star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Ruby project started on Ag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OM consulting order release need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Prioritize and start processing transition backl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tart decomposing architecture of Ruby with OM ons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nvolve Agile in ‚Fit 4 Apoxi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8307360" y="2615760"/>
            <a:ext cx="15732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8246880" y="237312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8511840" y="2615760"/>
            <a:ext cx="15732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 rot="16200000">
            <a:off x="8046720" y="2636640"/>
            <a:ext cx="1620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U2“: Rudolph, Fässl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875880"/>
            <a:ext cx="4077000" cy="33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cure TTM of Polaris, Swift, Swan, Kestrel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Work packages as key metric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ommitment drive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Open status communic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Fast reaction on issu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No compromise on qualit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TEAMWOR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weekly reporting of commitment and fulfillment (01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Utilize reporting charts as project/PL control methods (02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nable team spirit and competition from reported results (03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U2 as practice in all relevant projects (04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Work packackage table: PD (Fässler, Rudolph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Wallcharts: TPM (Asmussen, Topel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Test Trends: PD (Wacker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anager U2:  (Fässler, Rudolph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10160" y="876240"/>
            <a:ext cx="4076640" cy="16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Wallchart review: 60min every Wed (all involved PL SW and SW/ST managers)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HE board: JE + SB/WK + TPM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: Jan 06   End: Mar 06; continue from ther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2460600"/>
            <a:ext cx="4178520" cy="283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meetings regularly h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dditional metrics add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ntinue with practice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8267760" y="2629080"/>
            <a:ext cx="156960" cy="156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8207280" y="238608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8472600" y="2629080"/>
            <a:ext cx="15696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proto-Agile Gemstone/Apoxi“: Fässler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28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totype Agile with SCRUM in the Swan/Apoxi projec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epare organization for Agil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274320" indent="-274320">
              <a:lnSpc>
                <a:spcPct val="8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TTM reached with less than 2 weeks deviation from pla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Broad Introduction of Methodology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Start Gemstone project on Agile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</a:rPr>
              <a:t>Setup transition team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Mentoring by OM starts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reate prioritized transition backlog and transition plan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crum teams and sprint planning of pilots established (05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ilot teams trained for TDD and agile principles (06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released (09/06) – proposal in 07/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tart full transition program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274320" indent="-274320">
              <a:lnSpc>
                <a:spcPct val="8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gr: Dr. Georg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28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very 2nd month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ject launch Feb. 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8046720" y="2636640"/>
            <a:ext cx="1620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2448000"/>
            <a:ext cx="4272120" cy="299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Broad Introduction of Methodology (02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Start Gemstone project on Agile (0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Setup transition team (02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Mentoring by OM starts (0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ff3300"/>
                </a:solidFill>
                <a:latin typeface="Arial"/>
                <a:ea typeface="文鼎中黑"/>
              </a:rPr>
              <a:t>support of CPM not available (Robert But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Create prioritized transition backlog and transition plan (0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8267760" y="2629080"/>
            <a:ext cx="156960" cy="156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8207280" y="238608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8472600" y="2629080"/>
            <a:ext cx="15696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 cleanApoxi“: Fässler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clear platform concept, including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lean defini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lean architectur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lean release strateg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lean toolkit usage concep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</a:rPr>
              <a:t>Definitions in place (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</a:rPr>
              <a:t>Sub workgroup formed (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</a:rPr>
              <a:t>Kick-off working groups (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Re-use of platform 7/07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POXI cost below Native cos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gr: Georg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Reporting and review every 2nd month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8285040" y="234324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8550000" y="2572920"/>
            <a:ext cx="15732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2460600"/>
            <a:ext cx="4178520" cy="247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- significant part of the work done during the FIT 4 APOXI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inalize FIT 4 APOXI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Andrea Kreilinger</cp:lastModifiedBy>
  <dcterms:modified xsi:type="dcterms:W3CDTF">2006-03-21T09:18:18Z</dcterms:modified>
  <cp:revision>95</cp:revision>
  <dc:subject/>
  <dc:title>PowerPoint 簡報</dc:title>
</cp:coreProperties>
</file>