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386A-957C-4540-8D1C-730A6FE9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9511-6766-4C04-95D0-D6B9DD5C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CFE2-FDA4-4154-97B5-BB903F23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6655-E836-484C-ACED-419855B2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122B-491A-41AE-B70E-611B34DB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9EEF-2FE5-4D08-816B-A55A419D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E0B3-59FC-4B3D-B718-5CF00C55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FAA0-E69A-42CD-A530-ADCEFADD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3640" y="15192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F782-6D61-4CBC-9FB6-43BF8E6A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07A5-EBBD-40FE-B996-675AC52C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A5F1-59C9-4D26-8865-9CA22ABE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6688-C955-4093-8074-34A5927A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B496-CF0B-43BD-8F6D-9066670D5488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mob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QM PSO, 20 March 20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1004760"/>
            <a:ext cx="4535280" cy="58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oadmap Definition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Definition and Industrial Design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ake Market/Customer Relationship Management/Sal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W-Development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5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W Development (incl. RF &amp; Antenna)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6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al Design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7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ystem Test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8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Management, incl. CPM, TPM, BO, VM, GP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9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CM (material availability, production technology)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0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ustomer Care, Quality Management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1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curement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404640"/>
            <a:ext cx="66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Alignment &amp; Optimization: Staffing of Expert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789120"/>
            <a:ext cx="2448000" cy="60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Europe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K. Ratsimbazafy, R. Mayr, 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. Mildenberger, </a:t>
            </a: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H. Höckenreiner?,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PH representative?</a:t>
            </a:r>
            <a:r>
              <a:rPr b="1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,</a:t>
            </a: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</a:t>
            </a: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M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M. Mildenberger, 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. Haas, R. Voig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?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M. Weigang?, T. Hagemann?, 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M. Topel?)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H. Höckenreiner?, J. Bauregger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K. Kroesen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G. Evangelista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M. Mildenberger?, A. Betting?, 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. Flierl?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A. Vaeckenstedt) 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Z. Kirin)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E. Kutzner 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789120"/>
            <a:ext cx="219564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Asia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entai Hsu, Barry Da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rthur Wang, Barry Li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rthur Wang, Barry Li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umei Lin, Fred Hsieh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ich Liu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uji Yang, Wenchin Shou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ook 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yan M Che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rman Jiang, Robert Lo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bbie Tseng, Rick Lin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i Zhou, Jerry Y Hsu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llen Yau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Justin Ko,  JR Chang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ric Kao, Thisbe T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2805120"/>
            <a:ext cx="8928000" cy="187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1197000"/>
            <a:ext cx="8928000" cy="64764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Dr. Assan</cp:lastModifiedBy>
  <dcterms:modified xsi:type="dcterms:W3CDTF">2006-03-20T12:38:29Z</dcterms:modified>
  <cp:revision>225</cp:revision>
  <dc:subject/>
  <dc:title>PowerPoint 簡報</dc:title>
</cp:coreProperties>
</file>