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045-3C31-46F1-B464-EB5C7A46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A98-3781-4AEB-A2BF-67A9F862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929-C649-4192-BEC4-8B854886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D4F-B214-4A0E-BE2F-4C09BE36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55D-C42A-40BC-9FC6-FB0CD941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1168-4827-499C-975D-5646A61A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123-031B-4D79-A24A-14A73F59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94A-5C68-4F07-A27D-7B0C15B4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3640" y="1519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D4F-B4EF-47F5-A786-7C1CB4A3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468-B125-45BE-98F6-80504D7F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E46-3F45-4F9F-B704-1A0E7E99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72C9-4A57-4C5E-9599-5F30A8A6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88E6-311E-48D7-BD83-C006D7BDD7E7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mob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QM PSO, 20 March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004760"/>
            <a:ext cx="453528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oadmap Definition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Definition and Industrial Design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ake Market/Customer Relationship Management/Sal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W-Development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5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W Development (incl. RF &amp; Antenna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6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al Design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7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ystem Test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8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ject Management, incl. CPM, TPM, BO, VM, GP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9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CM (material availability, production technology)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0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Care, Quality Manag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11.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rocurement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04640"/>
            <a:ext cx="66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rocess Alignment &amp; Optimization: Staffing of Expert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789120"/>
            <a:ext cx="2448000" cy="60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Europe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K. Ratsimbazafy, R. May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. Mildenberger, 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H. Höckenreiner?,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PH representative?</a:t>
            </a:r>
            <a:r>
              <a:rPr b="1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,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</a:t>
            </a: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M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. Haas, R. Voig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?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M. Weigang?, T. Hagemann?, 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M. Topel?)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H. Höckenreiner?, J. Bauregger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K. Kroesen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Minion"/>
                <a:ea typeface="文鼎中黑"/>
              </a:rPr>
              <a:t>(G. Evangelista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M. Mildenberger?, A. Betting?, 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. Flierl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A. Vaeckenstedt)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Z. Kirin)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(E. Kutzner 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789120"/>
            <a:ext cx="219564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Asia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	</a:t>
            </a:r>
            <a:r>
              <a:rPr b="1" lang="en-US" sz="1600" spc="-1" strike="noStrike" u="sng">
                <a:solidFill>
                  <a:srgbClr val="3a0e66"/>
                </a:solidFill>
                <a:uFillTx/>
                <a:latin typeface="Minion"/>
                <a:ea typeface="文鼎中黑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ntai Hsu, Barry Da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rthur Wang, Barry Li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umei Lin, Fred Hsieh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ich Liu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	</a:t>
            </a:r>
            <a:r>
              <a:rPr b="1" lang="en-US" sz="1200" spc="-1" strike="noStrike">
                <a:solidFill>
                  <a:srgbClr val="ff0000"/>
                </a:solidFill>
                <a:latin typeface="Minion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uji Yang, Wenchin Sho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ook C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yan M Chen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Norman Jiang, Robert Lo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bbie Tseng, Rick Lin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 Zhou, Jerry Y Hsu,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llen Yau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Justin Ko,  JR Chang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Eric Kao, Thisbe 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2805120"/>
            <a:ext cx="8928000" cy="1873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1197000"/>
            <a:ext cx="8928000" cy="64764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Dr. Assan</cp:lastModifiedBy>
  <dcterms:modified xsi:type="dcterms:W3CDTF">2006-03-20T12:38:29Z</dcterms:modified>
  <cp:revision>225</cp:revision>
  <dc:subject/>
  <dc:title>PowerPoint 簡報</dc:title>
</cp:coreProperties>
</file>