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B24-9F05-47E1-92AD-4A24CEAF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A43-1557-4708-A934-806A974F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069-5072-4C6A-9D1D-695BD500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85A-9ECD-42C5-82EE-D83B0F5B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E40-3F57-4410-9079-B2AAAC90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FB4-8C71-4833-9914-81B4F5DD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E0C-B337-4392-B355-513D412B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197-DE06-4820-B53C-9F7652E9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52E-2126-474B-82D1-0106E584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4AD-2CCD-45D1-BC53-2E246279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042-5368-403C-A342-DA610EAB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EDB-573E-48D0-9EF1-95BB9FC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52F3-3A08-41B9-8BE5-64FD9426D9B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March 20, 200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83059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Minion"/>
              </a:rPr>
              <a:t>PLM Excellence Program 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S. Bocionek/ Dr. J. Eickh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PHE BMG 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unich, March 20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152280"/>
            <a:ext cx="815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„ Fit 4 Apoxi“: Fässler </a:t>
            </a: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(step 1: Analysis 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765000"/>
            <a:ext cx="4464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harter for the 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Re-defin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„platform“ in its totality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dressing people, process and product needs. Derive an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optimal supplier co-operation mode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sed on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atform as R&amp;D productivity tool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, and having in mind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ximized re-use factor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of all invested efforts (specs, designs, code/features, base product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Future-safety and R&amp;D productivity will come from key informatics principles like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abstraction, componentization,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nd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backward-compatible desig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rade-offs between „good platform“ and „market pressure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“ will be analyzed for a concrete product, e.g. Diamond, and described in at least two scenar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Potential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white spots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in the functionality of Apoxi to allow for a first product will be identified (incl. an estimate of the time to comple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-  A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cision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 possible at the end of the analysis phase what the </a:t>
            </a:r>
            <a:r>
              <a:rPr b="1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irst product on Apoxi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ill be, and when we can deli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Objectives for the „platform“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architecture (incl. 3rd party compone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lease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requirements &amp; CR pro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project management process (incl. 3rd par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development process (agi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lean training and education conce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Measure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bstraction layer requirements in place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greed upon rationale for APOXI cost lower native cost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hite spots in Apoxi known; IFX comittment to close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poxi product decisions possible for Q1-Q3 2007 (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plan for next 6 – 12 months ready and agreed (4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990720"/>
            <a:ext cx="4427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gram mgr: Georg Fässler / Uli Gei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L: Patric Houben - Chief architect : Norbert Haidu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Team members: nomin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Steering board: SB, Sydon, Mucke, Bjö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&amp; Review (until end of Marc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porting and review every wee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Architecture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66ff33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Group members identified; committed &lt;0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Workshop abstraction layer : 6.03.06 &lt; 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ncluding all development parties :</a:t>
            </a:r>
            <a:r>
              <a:rPr b="0" lang="en-US" sz="8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IFX-Comneon, Aplix, PSE, Tele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ject Managemen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lease strategy &lt; 10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Requirement platform managemen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Process rollout &lt; 31.03.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8265960" y="41450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8530920" y="4374720"/>
            <a:ext cx="157320" cy="15696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1760" y="4138560"/>
            <a:ext cx="3767040" cy="14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66ff33"/>
              </a:buClr>
              <a:buFont typeface="Arial Unicode M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FIT 4 APOXI workshop currently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ee ab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Invent the Futur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6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rengthen IP portfolio of BenQ Mobile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Make invention disclosures part of routine PLM work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</a:rPr>
              <a:t>Stimulate fun to invent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Agree on invention disclosure targets (Feb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nvestigate status and potential measures (Feb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invention initiative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incentive proposal (Mar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Implement organisational changes (Apr.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90 invention disclosures filed (Jul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Arial Unicode MS"/>
              </a:rPr>
              <a:t>180 invention disclosures filed (Dec 06)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 &amp; Dr. Schneider-Hufschmid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, Hartman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8" name=""/>
          <p:cNvSpPr/>
          <p:nvPr/>
        </p:nvSpPr>
        <p:spPr>
          <a:xfrm>
            <a:off x="4610160" y="2962440"/>
            <a:ext cx="4448160" cy="277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Invention disclosure targets agr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tus and potential measure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Organizational change dec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ignment with ISR for invention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Execute organizational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0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Thin Client Phone“: Bauregg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8880" y="837720"/>
            <a:ext cx="43909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Realization of a WLAN VoIP Phone Prototyp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Design like Apple’s iPOD Nano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iority thin packag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kype client must be used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802.11b/g implementatio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: Jan 06   End: Aug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Feature definitions (Jan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Interdisciplinary team starts (Feb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raft Predevelopment Project Plan (Feb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Final Predevelopment Project Plan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Supplier selection HW and SW (Ma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ystem deliverables agreed with supplier (Apr.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Component definition done (e.g. Display, etc.)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Start PCB and Mechanical Design (Apr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totype running (Jul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Documentation (Aug.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Arial Unicode MS"/>
              </a:rPr>
              <a:t>Product decision (Aug 06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83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Coach: Dr.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gram Manager:  Bauregg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</a:rPr>
              <a:t>Project Leader:        V. Ott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>
            <a:off x="4610160" y="2962440"/>
            <a:ext cx="444816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“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hort List” for supplier selectio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raft project plan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rst stack up concept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MC planning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ccount op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tart detailed feature definition with C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ix final project plan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Select system supplier (Mar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17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572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</a:t>
            </a:r>
            <a:r>
              <a:rPr b="1" lang="de-DE" sz="3200" spc="-1" strike="noStrike">
                <a:solidFill>
                  <a:srgbClr val="3a0e66"/>
                </a:solidFill>
                <a:latin typeface="Arial Unicode MS"/>
              </a:rPr>
              <a:t> MD Q-Improvement </a:t>
            </a:r>
            <a:r>
              <a:rPr b="1" lang="de-DE" sz="1800" spc="-1" strike="noStrike">
                <a:solidFill>
                  <a:srgbClr val="3a0e66"/>
                </a:solidFill>
                <a:latin typeface="Arial Unicode MS"/>
              </a:rPr>
              <a:t>( status 17.3.06 )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vent defects and high return rat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Detect and correct potential problems as early as possib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Focus on PLM – SCM collabor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art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ool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upplier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&lt; 2% 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Thonhaus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onthly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tart: Feb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oot cause/ levers :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-      Start implementation : April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753000"/>
            <a:ext cx="852516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3 sub projectteams installed  ( MD performance, Integrator supplier, MD / SQA interfa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disciplinary teams nominated ( MD, SCM and SP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oot cause and levers defined  ( aligned between all partie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lead products : Onyx and Obsid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nterface MD –SQA fixed and agreed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- implementation plan  ( March 0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8399160" y="36129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8459640" y="3855600"/>
            <a:ext cx="157320" cy="157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8664480" y="38556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8238960" y="3863880"/>
            <a:ext cx="1620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Best in Test“: Wack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407700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reate 5 significant metrics for performance measurement of ST , e.g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Test coverage, pass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Code coverag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Defect injection analysi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ug handling cycle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-224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ield return ra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763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inimize number of new bugs detected after S4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test cases for TDD </a:t>
            </a: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for acceptance test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on tim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changed lines of code after C3 milestone for componen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Provide measurement for 1st pass yield (pass rate during first test run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 ST performance based on metrics abov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Rollout of Testdirector</a:t>
            </a: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14640" indent="-314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) First metric setup 1.2.06, </a:t>
            </a:r>
            <a:r>
              <a:rPr b="0" i="1" lang="en-US" sz="1200" spc="-1" strike="noStrike">
                <a:solidFill>
                  <a:srgbClr val="3333cc"/>
                </a:solidFill>
                <a:latin typeface="Arial Unicode MS"/>
              </a:rPr>
              <a:t>done 27.1.06</a:t>
            </a:r>
            <a:br>
              <a:rPr sz="1200"/>
            </a:b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B) Complete metric setup 1.5.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1.5.06 incl. first roll out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Availability of required test cases for TDD in pilot scrum team in time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etric set up by 01.05. incl. first roll out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Improvement targets for ST based on metrics above defined  by 15.05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539280" indent="-26964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Font typeface="Arial Unicode MS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 Unicode MS"/>
              </a:rPr>
              <a:t>Buy decision 15.4.05, pilot run 30.7.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0160" y="838080"/>
            <a:ext cx="407664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Program Manager:  Wacke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Management summary monthly to RD boar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2962440"/>
            <a:ext cx="444816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kickoff with line managers and project leaders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ll teams are named, and tasks are in progress as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ata collection for all metrics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average EXIT/day metric introduced, data availa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principle workflow for TDD agreed with RD S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 - </a:t>
            </a:r>
            <a:r>
              <a:rPr b="0" i="1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– budget for Test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detailed data collection</a:t>
            </a: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 </a:t>
            </a:r>
            <a:r>
              <a:rPr b="1" i="1" lang="en-US" sz="1200" spc="-1" strike="noStrike">
                <a:solidFill>
                  <a:srgbClr val="3333cc"/>
                </a:solidFill>
                <a:latin typeface="Arial"/>
                <a:ea typeface="文鼎中黑"/>
              </a:rPr>
              <a:t>further alignment with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177040" y="3162240"/>
            <a:ext cx="644760" cy="270000"/>
            <a:chOff x="8177040" y="3162240"/>
            <a:chExt cx="644760" cy="270000"/>
          </a:xfrm>
        </p:grpSpPr>
        <p:sp>
          <p:nvSpPr>
            <p:cNvPr id="132" name=""/>
            <p:cNvSpPr/>
            <p:nvPr/>
          </p:nvSpPr>
          <p:spPr>
            <a:xfrm rot="16200000">
              <a:off x="8364240" y="2974680"/>
              <a:ext cx="270000" cy="644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8629560" y="3217320"/>
              <a:ext cx="157320" cy="157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6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Model-V“ &amp; PM@PD: TBD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SB/WK -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cess def &amp; CR: QP/QA or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Quality Gates Checking: Mgmt team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ind program mgr: 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Alignment with QM/QP, CM, TPM, SCM, SP, PD: SB,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formation Kick-off: SB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program: Feb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Quo Vadis PHE PD ?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890280"/>
            <a:ext cx="40770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mmunication Campaign in P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confidence in mgm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knowledge &amp; skil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Facilitate cross-dept interac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crease enjoymen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after 6 months (and annually after tha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Initial target: „66% 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ositive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gram Manager: 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-2026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Contributions: mgmt team, al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52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10160" y="890280"/>
            <a:ext cx="40766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i-monthly all hands R&amp;D meeting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mployee opinion survey in summer 20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gmt kick-off workshop: mid Jan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1st all hands R&amp;D meeting: 27. Jan. 06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Breakfast Club 5-Apr-06 (topic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Orientation and Process Discipline: Harmony or Contradiction?)</a:t>
            </a:r>
            <a:r>
              <a:rPr b="1" i="1" lang="en-US" sz="1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683240"/>
            <a:ext cx="8525160" cy="213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ncept „Quo Vadis R&amp;D“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cepted by mgmt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ccessful 1st all hands meeting on 31. Jan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All hands R&amp;D meeting on 31-Ma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Breakfast Club 5-Apr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include PHA R&amp;D in combined product house (May 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8399520" y="472716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664480" y="497016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High-Performing Culture“: Bocionek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Establish commitment-driven behavior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Goal orient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alistic but agressive plan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r action sett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liable delivery schedul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ccountability culture across team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rvice orientation towards internal customer satisfac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kill optimization of mgmt &amp; staff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75% of all KPI‘s reached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Work satisfaction &gt; 66%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291600" indent="-29160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/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coaching: Bocionek / Klebs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Controlling: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ngen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1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KPI‘s complete, and mgmt objectives finalized: en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kick-off workshop &amp; first training: mid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task for all mgrs: work out PLM excellence projects: end Jan.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erformance monitoring: starts March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Satisfaction questionnaire: Sept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LQA / SMR: 1Q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300"/>
              </a:spcBef>
              <a:buClr>
                <a:srgbClr val="ff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alanced Score Cards moved to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95468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Mar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KPIs defined and signed in Feb 06; KPI scoreboard set up by K. Win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commitment culture implemented in U2, Fit4Apoxi Workshop, etc. Mgmt team accepts this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at PHE R&amp;D accepted by mgmt team (prototyped within BM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LQA starts in 2nd half of M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Make BSC from KPI scoreboard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ff33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 </a:t>
            </a:r>
            <a:r>
              <a:rPr b="1" i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Opinion Poll offered earlier than 3Q06 (tbd in 2Q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8399160" y="490356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8664480" y="5146200"/>
            <a:ext cx="15732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Platform &amp; Portfolio“: Bocionek/Eickholt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07700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Establish BenQ Mobile Portfolio, Roadmap Platform as unifying planning tools for whole organiza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ross-organizational workgoup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-19656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A‘ed documentation with approval and change request process of all stakeholders involv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Derive concise strategies for re-use, make-or buy decisions, partner selection and sales program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Start with CM &amp; PHE in 1H06; then involve PH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982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294840" indent="-294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Formal documentation and change mgmt in place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not befor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„</a:t>
            </a: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factor“ increased by 33% in year 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-24552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&amp;D costs reduced by: tb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639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160" y="990720"/>
            <a:ext cx="4076640" cy="31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Coach: Eickholt / Lepol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gram Manager:  Bocionek - Mulholland</a:t>
            </a: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gmt report in OPC counc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Quarterly presentation of updated roadmap and portfolio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Alignment with CM, PHE: Eickholt &amp; Lepold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1st portfolio ready for approval: Sydon, Jan 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Uddated roadmap: Feb.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became March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-use strategy doc: Feb 06 </a:t>
            </a:r>
            <a:r>
              <a:rPr b="1" i="1" lang="de-DE" sz="1200" spc="-1" strike="noStrike">
                <a:solidFill>
                  <a:srgbClr val="ff3300"/>
                </a:solidFill>
                <a:latin typeface="Arial Unicode MS"/>
              </a:rPr>
              <a:t>will be April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971960"/>
            <a:ext cx="8525160" cy="182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 20-Jan-06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rst „real“ portfolio/roammap and R&amp;D budget alignment discussion on March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replanning based on prioritized roadmap (by CM) on March 20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Arial"/>
                <a:ea typeface="文鼎中黑"/>
              </a:rPr>
              <a:t>project back on tr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M needs more systematic approach; should be possible in new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roadmap – budget alignment (Mar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gree on regular update process, every second month (Apr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8399520" y="4831920"/>
            <a:ext cx="26964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8664480" y="5074920"/>
            <a:ext cx="156960" cy="157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975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“Real V-Model: </a:t>
            </a:r>
            <a:r>
              <a:rPr b="1" lang="it-IT" sz="2400" spc="-1" strike="noStrike">
                <a:solidFill>
                  <a:srgbClr val="3a0e66"/>
                </a:solidFill>
                <a:latin typeface="Arial Unicode MS"/>
              </a:rPr>
              <a:t>Introduce process culture and discipline</a:t>
            </a: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“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stablish true V-Model for PLM, across whole organization, and for all parts, e.g. HW, SW, MD, …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Set up „complete“ horizontal layers of responsibility in the „V“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Define and agree on clear roles and responsibilities across all Org‘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Establish measurable process disciplin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 Unicode MS"/>
              </a:rPr>
              <a:t>Foster culture of internal customer satisfaction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mprove TTM, Quality and cost positio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maturity: &g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QA deviations: &lt; 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 &gt; 66%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Manager: Ass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onitoring and measuring: Schwab/tb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Mgmt summary: monthly by SB &amp; WK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Ongoing KPI and „internal customer sat“ metric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Name project lead (Feb.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don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ject Plan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formation Kick-off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mov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Education starts (Mar 06) </a:t>
            </a:r>
            <a:r>
              <a:rPr b="1" lang="en-US" sz="1400" spc="-1" strike="noStrike">
                <a:solidFill>
                  <a:srgbClr val="3a0e66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3a0e66"/>
                </a:solidFill>
                <a:latin typeface="Arial Unicode MS"/>
              </a:rPr>
              <a:t> started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Internal customer satisfaction metrics set (Mar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ont. Improvement Process targets set (Apr.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Process adaptations completed </a:t>
            </a:r>
            <a:br>
              <a:rPr sz="1400"/>
            </a:b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(Jun 06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Arial Unicode MS"/>
              </a:rPr>
              <a:t>CMMI baseline available (Sep 06)</a:t>
            </a:r>
            <a:r>
              <a:rPr b="0" lang="en-US" sz="1600" spc="-1" strike="noStrike">
                <a:solidFill>
                  <a:srgbClr val="3a0e66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70800" y="655560"/>
            <a:ext cx="785520" cy="334800"/>
            <a:chOff x="7570800" y="655560"/>
            <a:chExt cx="785520" cy="334800"/>
          </a:xfrm>
        </p:grpSpPr>
        <p:sp>
          <p:nvSpPr>
            <p:cNvPr id="67" name=""/>
            <p:cNvSpPr/>
            <p:nvPr/>
          </p:nvSpPr>
          <p:spPr>
            <a:xfrm rot="16200000">
              <a:off x="7796160" y="430200"/>
              <a:ext cx="334800" cy="785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7879320" y="725760"/>
              <a:ext cx="194760" cy="192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rot="16200000">
            <a:off x="8086680" y="2624040"/>
            <a:ext cx="1620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From Proto-Agile to Full Agile“: U. Schmitz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„Agile with Scrum“ as standard software development pro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roduct backlog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crum team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print-based release plan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-21708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TDD (test-driven development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in Ruby and Gemstone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organization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djust QMS as needed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Kick-off for selected projects (01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Ruby project on Agile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Organization prepared for full agile transition (1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oach: Bocione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:  U. Schmitz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: Rudolph,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ead QA/QMS: Fillers/Grei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-Agile within regular project reviews in the OPC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Pilots/Full transition: monthly mgmt report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Arial Unicode MS"/>
              </a:rPr>
              <a:t>Start: Jan 06   End: Dec 06; continue from there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4559400" y="2421000"/>
            <a:ext cx="42624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itial transition backlog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oduct Owner for transition defined (S. Bocionek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gile Overview and Q&amp;A sessions held in MCH 250, KLF220, WRO 1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sulting plan with Object Mentors defined and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Ruby project started on 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OM consulting order release nee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Prioritize and start processing transition back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Start decomposing architecture of Ruby with OM ons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Involve Agile in ‚Fit 4 Apoxi‘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307360" y="2615760"/>
            <a:ext cx="157320" cy="157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8246880" y="2373120"/>
            <a:ext cx="270000" cy="6447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8511840" y="261576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 Unicode MS"/>
              </a:rPr>
              <a:t>Project „U2“: Rudolph, Fässler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875880"/>
            <a:ext cx="407700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cure TTM of Polaris, Swift, Swan, Kestrel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Work packages as key metric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Commitment drive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Open status commun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Fast reaction on issue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No compromise on qualit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TEAM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Measures of Succ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weekly reporting of commitment and fulfillment (01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Utilize reporting charts as project/PL control methods (02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nable team spirit and competition from reported results (03/20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U2 as practice in all relevant projects (04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ork packackage table: PD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s: TPM (Asmussen, Topel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est Trends: PD (Wacker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anager U2:  (Fässler, Rudolph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10160" y="876240"/>
            <a:ext cx="4076640" cy="16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Wallchart review: 60min every Wed (all involved PL SW and SW/ST managers) 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HE board: JE + SB/WK + TPM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 Unicode MS"/>
              </a:rPr>
              <a:t>Start: Jan 06   End: Mar 06; continue from the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ee Measures of success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460600"/>
            <a:ext cx="4178520" cy="283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Add 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meetings regularly h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additional metrics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continue with practice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proto-Agile Gemstone/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totype Agile with SCRUM in the Swan/Apoxi projec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epare organization for Agil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TTM reached with less than 2 weeks deviation from pla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Broad Introduction of Methodology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Start Gemstone project on Agile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etup transition team (0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</a:rPr>
              <a:t>Mentoring by OM starts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crum teams and sprint planning of pilots established (05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ilot teams trained for TDD and agile principles (06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New R&amp;D process for Agile development released (09/06) – proposal in 07/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Start full transition program (09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274320" indent="-274320">
              <a:lnSpc>
                <a:spcPct val="80000"/>
              </a:lnSpc>
              <a:spcBef>
                <a:spcPts val="201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Dr.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59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very 2nd month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ject launch Feb. 06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8046720" y="2636640"/>
            <a:ext cx="1620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2448000"/>
            <a:ext cx="4272120" cy="299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Broad Introduction of Methodology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tart Gemstone project on Agile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Setup transition team (02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Mentoring by OM starts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ff3300"/>
                </a:solidFill>
                <a:latin typeface="Arial"/>
                <a:ea typeface="文鼎中黑"/>
              </a:rPr>
              <a:t>support of CPM not available (Robert But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 Unicode MS"/>
                <a:ea typeface="文鼎中黑"/>
              </a:rPr>
              <a:t>Create prioritized transition backlog and transition plan (03/0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8267760" y="2629080"/>
            <a:ext cx="156960" cy="156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8207280" y="238608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8472600" y="2629080"/>
            <a:ext cx="15696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a0e66"/>
                </a:solidFill>
                <a:latin typeface="Arial Unicode MS"/>
              </a:rPr>
              <a:t>Project „ cleanApoxi“: Fässler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077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Goal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Establish clear platform concept, including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defini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architecture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release strategy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Clean toolkit usage concep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Measures of Succes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Definitions in place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Sub workgroup formed (2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</a:rPr>
              <a:t>Kick-off working groups (3/06)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Re-use of platform 7/07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APOXI cost below Native cos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 Unicode MS"/>
              </a:rPr>
              <a:t>Responsibilities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Arial Unicode MS"/>
              </a:rPr>
              <a:t>Program mgr: Georg Fässler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0160" y="990360"/>
            <a:ext cx="40766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Reporting &amp; Revie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a0e66"/>
                </a:solidFill>
                <a:latin typeface="Arial Unicode MS"/>
              </a:rPr>
              <a:t>Reporting and review every 2nd mont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 Unicode MS"/>
              </a:rPr>
              <a:t>Project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8285040" y="2343240"/>
            <a:ext cx="270000" cy="644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550000" y="2572920"/>
            <a:ext cx="157320" cy="156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460600"/>
            <a:ext cx="417852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Arial"/>
                <a:ea typeface="文鼎中黑"/>
              </a:rPr>
              <a:t>Project Status Summ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achiev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buClr>
                <a:srgbClr val="66ff33"/>
              </a:buClr>
              <a:buFont typeface="Arial Unicode MS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66ff33"/>
                </a:solidFill>
                <a:latin typeface="Arial Unicode MS"/>
                <a:ea typeface="文鼎中黑"/>
              </a:rPr>
              <a:t>- significant part of the work done during th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support/decisio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000" spc="-1" strike="noStrike">
                <a:solidFill>
                  <a:srgbClr val="3a0e66"/>
                </a:solidFill>
                <a:latin typeface="Arial"/>
                <a:ea typeface="文鼎中黑"/>
              </a:rPr>
              <a:t>n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a0e66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Arial"/>
                <a:ea typeface="文鼎中黑"/>
              </a:rPr>
              <a:t>Finalize FIT 4 APOXI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ndrea Kreilinger</cp:lastModifiedBy>
  <dcterms:modified xsi:type="dcterms:W3CDTF">2006-03-21T09:18:18Z</dcterms:modified>
  <cp:revision>95</cp:revision>
  <dc:subject/>
  <dc:title>PowerPoint 簡報</dc:title>
</cp:coreProperties>
</file>