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B65-DD60-4125-81C8-FF236A5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CF4-180E-43CC-BA28-B16CA23E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352-5D53-46E7-B5C1-F32EB560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0D0-56DF-4EBA-A430-15A1E616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487-C8A7-44D3-BB3D-1B01D74C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857-3BF7-40F0-9A44-35DD8FD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D6D-99D7-4253-BAE0-A5D2F0A8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BCF-8C34-48DA-BB71-E59F606F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8EF-4427-4D97-87D8-50457A6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105-E021-4B39-A38D-2F94336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294-377B-4D28-A023-1E16191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A6B-65D0-4EB7-86EB-8137773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080-CFF8-425F-86F6-FA4E3210C61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18AA5B76-3DAF-438D-B976-DE52549C4A0B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11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1.wmf"/><Relationship Id="rId25" Type="http://schemas.openxmlformats.org/officeDocument/2006/relationships/image" Target="../media/image9.wmf"/><Relationship Id="rId26" Type="http://schemas.openxmlformats.org/officeDocument/2006/relationships/image" Target="../media/image11.wmf"/><Relationship Id="rId27" Type="http://schemas.openxmlformats.org/officeDocument/2006/relationships/image" Target="../media/image9.wm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06. March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Further support incl. April 06 agreed with Qual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Onyx: M1-HW declared on Feb 24th / M1-SW planned on March 17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Antenna performance increased by 1.5dBm to 15.5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Ruby M0 declared on March 3rd by Project Team / 6280-SLA signed by BenQ/Q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- Koala project re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Mallow project started, TPM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9280" y="2878200"/>
            <a:ext cx="8277120" cy="1439640"/>
            <a:chOff x="449280" y="2878200"/>
            <a:chExt cx="8277120" cy="1439640"/>
          </a:xfrm>
        </p:grpSpPr>
        <p:sp>
          <p:nvSpPr>
            <p:cNvPr id="53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280" y="2878200"/>
              <a:ext cx="8277120" cy="143964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62080" y="3070080"/>
              <a:ext cx="7315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0360" y="3238560"/>
              <a:ext cx="269640" cy="26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inio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9640" y="2914560"/>
              <a:ext cx="75578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tIns="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XG75: volumes still only 56k over LC. Scrap risk 6’7€. SFR deal cancelled!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EF81: Still increasing overall number of defects (esp. from operator tests). Netto bug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fix rate of 100 per week not reached </a:t>
              </a:r>
              <a:r>
                <a:rPr b="1" lang="en-U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DS delayed to March 29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inio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Still significantly component shortage (e.g. KHVatec) / additional quality problems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Minion"/>
                </a:rPr>
                <a:t>   with mechanics and earpie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49280" y="449748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General Tas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94172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1160" y="513396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440" y="530208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98720" y="497844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Koa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Team staffing Mal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Comparison Kestrel vs. Macross C1 in terms of project setup / costs etc. as best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practice sha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67400" cy="386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561636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Kestrel nCCPi-Statistic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817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096920"/>
            <a:ext cx="8817120" cy="3052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69120" y="2205000"/>
            <a:ext cx="4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78200" y="2247840"/>
            <a:ext cx="1512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Defect Rat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915840"/>
            <a:ext cx="881712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920" y="126720"/>
            <a:ext cx="82771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Current defects vs. commitments               </a:t>
            </a: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06.03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7712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86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113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3-06T15:03:29Z</dcterms:modified>
  <cp:revision>157</cp:revision>
  <dc:subject/>
  <dc:title>PHE</dc:title>
</cp:coreProperties>
</file>