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A6A-99AC-4480-9D75-D9E3B1FB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F41-DD6B-41FB-A664-8F46C0D6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6A5-1DB5-414C-92CB-963EB3B8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385-E7D9-4993-B5E3-A55F018A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BA2-DDF3-4922-8BDD-F68E178E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34A-7551-441B-B86B-B6AEF68E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462-6836-4F8D-95A7-F5BC8EFF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805-9A4E-4E99-91F2-7AD16D24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7F9-F79F-46CA-AD18-7919A0E8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B37-6DDB-48DD-B153-34BE0B90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CC1-D446-460F-BE2B-57A395B8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D98-223E-4015-83F8-9AFE52AD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3A5C-9EE5-45C7-B144-FB3B9A2F489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4CC407B4-6737-4289-BAE9-9AA974E60951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11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10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11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1.wmf"/><Relationship Id="rId25" Type="http://schemas.openxmlformats.org/officeDocument/2006/relationships/image" Target="../media/image9.wmf"/><Relationship Id="rId26" Type="http://schemas.openxmlformats.org/officeDocument/2006/relationships/image" Target="../media/image11.wmf"/><Relationship Id="rId27" Type="http://schemas.openxmlformats.org/officeDocument/2006/relationships/image" Target="../media/image9.wmf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7916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D-Status TPM1</a:t>
            </a:r>
            <a:br>
              <a:rPr sz="3600"/>
            </a:br>
            <a:r>
              <a:rPr b="1" lang="zh-TW" sz="2800" spc="-1" strike="noStrike">
                <a:solidFill>
                  <a:srgbClr val="ffffff"/>
                </a:solidFill>
                <a:latin typeface="Minion"/>
              </a:rPr>
              <a:t>QualComm based products</a:t>
            </a:r>
            <a:br>
              <a:rPr sz="2800"/>
            </a:b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06. March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49280" y="90792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Product Develo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34928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2080" y="1362240"/>
            <a:ext cx="7315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0360" y="143820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79640" y="140328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Further support incl. April 06 agreed with Qual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Onyx: M1-HW declared on Feb 24th / M1-SW planned on March 17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  Antenna performance increased by 1.5dBm to 15.5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Ruby M0 declared on March 3rd by Project Team / 6280-SLA signed by BenQ/Q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- Koala project restarted, TPM as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Mallow project started, TPM as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49280" y="2878200"/>
            <a:ext cx="8277120" cy="1439640"/>
            <a:chOff x="449280" y="2878200"/>
            <a:chExt cx="8277120" cy="1439640"/>
          </a:xfrm>
        </p:grpSpPr>
        <p:sp>
          <p:nvSpPr>
            <p:cNvPr id="53" name=""/>
            <p:cNvSpPr/>
            <p:nvPr/>
          </p:nvSpPr>
          <p:spPr>
            <a:xfrm>
              <a:off x="1162080" y="3070080"/>
              <a:ext cx="73152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280" y="2878200"/>
              <a:ext cx="8277120" cy="143964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62080" y="3070080"/>
              <a:ext cx="73152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0360" y="3238560"/>
              <a:ext cx="269640" cy="269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inio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79640" y="2914560"/>
              <a:ext cx="755784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SXG75: volumes still only 56k over LC. Scrap risk 6’7€. SFR deal cancelled!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EF81: Still increasing overall number of defects (esp. from operator tests). Netto bug</a:t>
              </a: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  fix rate of 100 per week not reached </a:t>
              </a:r>
              <a:r>
                <a:rPr b="1" lang="en-US" sz="1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DS delayed to March 29th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Still significantly component shortage (e.g. KHVatec) / additional quality problems</a:t>
              </a: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  with mechanics and earpie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49280" y="449748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General Tas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513396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94172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81160" y="513396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9440" y="530208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98720" y="497844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Team staffing Koal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Team staffing Mall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Comparison Kestrel vs. Macross C1 in terms of project setup / costs etc. as best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  practice shar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Kestrel nCCPi-Statistic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5567400" cy="386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5616360" cy="27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Kestrel nCCPi-Statistic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201680"/>
            <a:ext cx="881712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Defect Rat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096920"/>
            <a:ext cx="8817120" cy="3052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69120" y="2205000"/>
            <a:ext cx="4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78200" y="2247840"/>
            <a:ext cx="1512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Defect Rat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915840"/>
            <a:ext cx="881712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920" y="126720"/>
            <a:ext cx="82771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Current defects vs. commitments               </a:t>
            </a: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7712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8000" y="622440"/>
            <a:ext cx="8908200" cy="5830920"/>
            <a:chOff x="108000" y="622440"/>
            <a:chExt cx="8908200" cy="5830920"/>
          </a:xfrm>
        </p:grpSpPr>
        <p:sp>
          <p:nvSpPr>
            <p:cNvPr id="86" name=""/>
            <p:cNvSpPr/>
            <p:nvPr/>
          </p:nvSpPr>
          <p:spPr>
            <a:xfrm>
              <a:off x="108000" y="1312920"/>
              <a:ext cx="534960" cy="49957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152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8296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2960" y="1052640"/>
              <a:ext cx="8277120" cy="12996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280" y="1312920"/>
              <a:ext cx="8277120" cy="49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987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05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06920" y="1063800"/>
              <a:ext cx="34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Y20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373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091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2960" y="530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2960" y="386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2960" y="242100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152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1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3344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248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403440" y="1312920"/>
              <a:ext cx="688680" cy="4995360"/>
              <a:chOff x="3403440" y="1312920"/>
              <a:chExt cx="688680" cy="4995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4034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9212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472000" y="1312920"/>
              <a:ext cx="688680" cy="4995360"/>
              <a:chOff x="5472000" y="1312920"/>
              <a:chExt cx="688680" cy="4995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47200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6068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540560" y="1312920"/>
              <a:ext cx="688680" cy="4995360"/>
              <a:chOff x="7540560" y="1312920"/>
              <a:chExt cx="688680" cy="4995360"/>
            </a:xfrm>
          </p:grpSpPr>
          <p:sp>
            <p:nvSpPr>
              <p:cNvPr id="113" name=""/>
              <p:cNvSpPr/>
              <p:nvPr/>
            </p:nvSpPr>
            <p:spPr>
              <a:xfrm>
                <a:off x="754056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2292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>
              <a:hlinkClick r:id="rId1" action="ppaction://hlinksldjump"/>
            </p:cNvPr>
            <p:cNvSpPr/>
            <p:nvPr/>
          </p:nvSpPr>
          <p:spPr>
            <a:xfrm rot="16200000">
              <a:off x="-131040" y="2970720"/>
              <a:ext cx="98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7840" y="3141720"/>
              <a:ext cx="8715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0040" y="26478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>
              <a:hlinkClick r:id="rId2" action="ppaction://hlinksldjump"/>
            </p:cNvPr>
            <p:cNvSpPr/>
            <p:nvPr/>
          </p:nvSpPr>
          <p:spPr>
            <a:xfrm rot="16200000">
              <a:off x="-127080" y="443196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Image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0040" y="41292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040" y="5465880"/>
              <a:ext cx="156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>
              <a:hlinkClick r:id="rId3" action="ppaction://hlinksldjump"/>
            </p:cNvPr>
            <p:cNvSpPr/>
            <p:nvPr/>
          </p:nvSpPr>
          <p:spPr>
            <a:xfrm rot="16200000">
              <a:off x="-12240" y="5704200"/>
              <a:ext cx="80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Afford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>
              <a:hlinkClick r:id="rId4" action="ppaction://hlinksldjump"/>
            </p:cNvPr>
            <p:cNvSpPr/>
            <p:nvPr/>
          </p:nvSpPr>
          <p:spPr>
            <a:xfrm rot="16200000">
              <a:off x="81720" y="1630800"/>
              <a:ext cx="58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a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0040" y="1539720"/>
              <a:ext cx="156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8101080" y="622440"/>
              <a:ext cx="1699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1960" y="71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8532720" y="630360"/>
              <a:ext cx="1666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672400" y="70956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2280" y="1376280"/>
              <a:ext cx="1126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ldstone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02920" y="5153040"/>
              <a:ext cx="91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rl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oonston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72360" y="5229360"/>
              <a:ext cx="77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gonit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oli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120" y="5877000"/>
              <a:ext cx="1102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ir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Low cost owner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67120" y="3068640"/>
              <a:ext cx="1442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umen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Multimedia for the mas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8000" y="3794040"/>
              <a:ext cx="12945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ystal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ysterious sen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86920" y="2276640"/>
              <a:ext cx="74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by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57240" y="3860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mo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31640" y="2997360"/>
              <a:ext cx="1017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inum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56880" y="5661000"/>
              <a:ext cx="643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arten) </a:t>
              </a:r>
              <a:br>
                <a:rPr sz="10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32000" y="3213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82600" y="602928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4360" y="4365720"/>
              <a:ext cx="1693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a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Intensively Femi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4662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58920" y="2637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57240" y="41688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2280" y="40402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Luxury style stat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1547640" y="38736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2340000" y="436572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2916360" y="29988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0"/>
            <a:stretch/>
          </p:blipFill>
          <p:spPr>
            <a:xfrm>
              <a:off x="1549440" y="567360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139280" y="375444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rnet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13080" y="4051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5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40360" y="3933720"/>
              <a:ext cx="10792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The sculp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1"/>
            <a:stretch/>
          </p:blipFill>
          <p:spPr>
            <a:xfrm>
              <a:off x="3851280" y="3798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667240" y="2346480"/>
              <a:ext cx="7808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al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1240" y="270828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2792520" y="249228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075280" y="1630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7165800" y="37260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484360" y="522936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1114560" y="5157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454880" y="4086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10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51640" y="335772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1840" y="5445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1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4920" y="6165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8760" y="559764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6"/>
            <a:stretch/>
          </p:blipFill>
          <p:spPr>
            <a:xfrm>
              <a:off x="1619280" y="24256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7"/>
            <a:stretch/>
          </p:blipFill>
          <p:spPr>
            <a:xfrm>
              <a:off x="3059280" y="58770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499000" y="5381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8"/>
            <a:stretch/>
          </p:blipFill>
          <p:spPr>
            <a:xfrm>
              <a:off x="5219640" y="5373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560920" y="5589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9"/>
            <a:stretch/>
          </p:blipFill>
          <p:spPr>
            <a:xfrm>
              <a:off x="4859280" y="1306440"/>
              <a:ext cx="2271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0"/>
            <a:stretch/>
          </p:blipFill>
          <p:spPr>
            <a:xfrm>
              <a:off x="1635120" y="3006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905480" y="2995560"/>
              <a:ext cx="1076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gania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329256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0560" y="1782720"/>
              <a:ext cx="8251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ver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32720" y="199872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6280" y="4083120"/>
              <a:ext cx="704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24240" y="43736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21"/>
            <a:stretch/>
          </p:blipFill>
          <p:spPr>
            <a:xfrm>
              <a:off x="6516720" y="1773360"/>
              <a:ext cx="2062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2"/>
            <a:stretch/>
          </p:blipFill>
          <p:spPr>
            <a:xfrm>
              <a:off x="3059280" y="4014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594400" y="4002120"/>
              <a:ext cx="511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l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24360" y="42973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23"/>
            <a:stretch/>
          </p:blipFill>
          <p:spPr>
            <a:xfrm>
              <a:off x="6153120" y="401472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4"/>
            <a:stretch/>
          </p:blipFill>
          <p:spPr>
            <a:xfrm>
              <a:off x="5435640" y="3106800"/>
              <a:ext cx="2268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734160" y="342900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tanium - 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5"/>
            <a:stretch/>
          </p:blipFill>
          <p:spPr>
            <a:xfrm>
              <a:off x="6516720" y="34732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41840" y="5084640"/>
              <a:ext cx="550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unz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6"/>
            <a:stretch/>
          </p:blipFill>
          <p:spPr>
            <a:xfrm>
              <a:off x="4354560" y="508464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410920" y="1628640"/>
              <a:ext cx="874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llow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7"/>
            <a:stretch/>
          </p:blipFill>
          <p:spPr>
            <a:xfrm>
              <a:off x="2916360" y="177804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411280" y="2070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18280" y="41464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tyle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24240" y="425592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Fun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29480" y="3654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43280" y="5373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6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1280" y="5661000"/>
              <a:ext cx="1297080" cy="289080"/>
            </a:xfrm>
            <a:prstGeom prst="wedgeRectCallout">
              <a:avLst>
                <a:gd name="adj1" fmla="val 2143"/>
                <a:gd name="adj2" fmla="val -14065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Under discu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Need a reposition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6000" y="2997360"/>
              <a:ext cx="792000" cy="287280"/>
            </a:xfrm>
            <a:prstGeom prst="wedgeRectCallout">
              <a:avLst>
                <a:gd name="adj1" fmla="val -62222"/>
                <a:gd name="adj2" fmla="val 10082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ow 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28000" y="3500280"/>
              <a:ext cx="647640" cy="216000"/>
            </a:xfrm>
            <a:prstGeom prst="wedgeRectCallout">
              <a:avLst>
                <a:gd name="adj1" fmla="val -64949"/>
                <a:gd name="adj2" fmla="val 11764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nyx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6000" y="2708280"/>
              <a:ext cx="792000" cy="289080"/>
            </a:xfrm>
            <a:prstGeom prst="wedgeRectCallout">
              <a:avLst>
                <a:gd name="adj1" fmla="val -41782"/>
                <a:gd name="adj2" fmla="val 7472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L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Multimed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3640" y="4437000"/>
              <a:ext cx="792360" cy="289080"/>
            </a:xfrm>
            <a:prstGeom prst="wedgeRectCallout">
              <a:avLst>
                <a:gd name="adj1" fmla="val -87874"/>
                <a:gd name="adj2" fmla="val -5988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Diamond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92360" y="2060640"/>
              <a:ext cx="792360" cy="433440"/>
            </a:xfrm>
            <a:prstGeom prst="wedgeRectCallout">
              <a:avLst>
                <a:gd name="adj1" fmla="val -41782"/>
                <a:gd name="adj2" fmla="val 6648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G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andsca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08360" y="2565360"/>
              <a:ext cx="1150920" cy="432000"/>
            </a:xfrm>
            <a:prstGeom prst="wedgeRectCallout">
              <a:avLst>
                <a:gd name="adj1" fmla="val -51791"/>
                <a:gd name="adj2" fmla="val 8639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/HSDPA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43280" y="3573360"/>
              <a:ext cx="865080" cy="360360"/>
            </a:xfrm>
            <a:prstGeom prst="wedgeRectCallout">
              <a:avLst>
                <a:gd name="adj1" fmla="val -5412"/>
                <a:gd name="adj2" fmla="val 85680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SWIFT 3G ultra-sl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0360" y="1989000"/>
              <a:ext cx="792000" cy="358920"/>
            </a:xfrm>
            <a:prstGeom prst="wedgeRectCallout">
              <a:avLst>
                <a:gd name="adj1" fmla="val -82865"/>
                <a:gd name="adj2" fmla="val -358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Waterproo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51280" y="1413000"/>
              <a:ext cx="793800" cy="215640"/>
            </a:xfrm>
            <a:prstGeom prst="wedgeRectCallout">
              <a:avLst>
                <a:gd name="adj1" fmla="val 90800"/>
                <a:gd name="adj2" fmla="val -4191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camcor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8000" y="4869000"/>
              <a:ext cx="863640" cy="360360"/>
            </a:xfrm>
            <a:prstGeom prst="wedgeRectCallout">
              <a:avLst>
                <a:gd name="adj1" fmla="val -40439"/>
                <a:gd name="adj2" fmla="val 9229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Quail with Came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51280" y="6237360"/>
              <a:ext cx="649440" cy="216000"/>
            </a:xfrm>
            <a:prstGeom prst="wedgeRectCallout">
              <a:avLst>
                <a:gd name="adj1" fmla="val -80319"/>
                <a:gd name="adj2" fmla="val -7279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Jasp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360" y="2924280"/>
              <a:ext cx="865080" cy="433440"/>
            </a:xfrm>
            <a:prstGeom prst="wedgeRectCallout">
              <a:avLst>
                <a:gd name="adj1" fmla="val 63944"/>
                <a:gd name="adj2" fmla="val 31319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OBUST GPS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7280" y="4508640"/>
              <a:ext cx="649440" cy="360360"/>
            </a:xfrm>
            <a:prstGeom prst="wedgeRectCallout">
              <a:avLst>
                <a:gd name="adj1" fmla="val -75671"/>
                <a:gd name="adj2" fmla="val -4515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Poppy 3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56360" y="5516640"/>
              <a:ext cx="647640" cy="217440"/>
            </a:xfrm>
            <a:prstGeom prst="wedgeRectCallout">
              <a:avLst>
                <a:gd name="adj1" fmla="val -93384"/>
                <a:gd name="adj2" fmla="val -193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Amb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000" y="4724280"/>
              <a:ext cx="935280" cy="360360"/>
            </a:xfrm>
            <a:prstGeom prst="wedgeRectCallout">
              <a:avLst>
                <a:gd name="adj1" fmla="val -16722"/>
                <a:gd name="adj2" fmla="val 10550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Flamingo with Camer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– Updated acc. CTO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272360" cy="538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Mario Topel</cp:lastModifiedBy>
  <dcterms:modified xsi:type="dcterms:W3CDTF">2006-03-06T15:03:29Z</dcterms:modified>
  <cp:revision>157</cp:revision>
  <dc:subject/>
  <dc:title>PHE</dc:title>
</cp:coreProperties>
</file>