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E4C-EA9B-41DE-9CD3-4DBFE56A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284-A0DF-4774-8EEE-1DCD099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2D-B466-406C-8F40-98B0437C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581-E4B4-4649-84CC-2D82211D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70A-A316-43EF-BF16-91CB3909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B1A-D674-44D5-BAE9-4F2CB1F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38C-DDE4-41D1-90D2-C3E529B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964-57BF-406F-92C1-0B8ABBC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78F-A4B5-40DA-9B66-328B1AF4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6F6-AD84-4389-82B4-404A032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DCE-2084-48F4-8502-C757D5E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604-AA60-40E9-AB3E-3B7F79D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2A5-57CC-4114-8B42-7471B300E318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83159EF5-DD78-48AC-90D9-1866055288B6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5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5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3.wmf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7916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PD-Status TPM1</a:t>
            </a:r>
            <a:br>
              <a:rPr sz="3600"/>
            </a:br>
            <a:r>
              <a:rPr b="1" lang="zh-TW" sz="2800" spc="-1" strike="noStrike">
                <a:solidFill>
                  <a:srgbClr val="ffffff"/>
                </a:solidFill>
                <a:latin typeface="Minion"/>
              </a:rPr>
              <a:t>QualComm based products</a:t>
            </a:r>
            <a:br>
              <a:rPr sz="2800"/>
            </a:b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20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49280" y="907920"/>
            <a:ext cx="2519280" cy="36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Minion"/>
              </a:rPr>
              <a:t>Product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1349280"/>
            <a:ext cx="8277120" cy="1440000"/>
          </a:xfrm>
          <a:prstGeom prst="roundRect">
            <a:avLst>
              <a:gd name="adj" fmla="val 16667"/>
            </a:avLst>
          </a:prstGeom>
          <a:solidFill>
            <a:srgbClr val="cc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1362240"/>
            <a:ext cx="7315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360" y="1438200"/>
            <a:ext cx="269640" cy="2700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1403280"/>
            <a:ext cx="75578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EF81: Kestrel: onsite BenQ Lab in San Diego already staffed /w 25 engine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Onyx: S0/M1 project on track without devi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Ruby on track towards M0 in February, still many technical challenges (HDD,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  Menu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Mallow project in M0 / final definition ph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" y="2878200"/>
            <a:ext cx="8277120" cy="1439640"/>
          </a:xfrm>
          <a:prstGeom prst="roundRect">
            <a:avLst>
              <a:gd name="adj" fmla="val 16667"/>
            </a:avLst>
          </a:prstGeom>
          <a:solidFill>
            <a:srgbClr val="ffcc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080" y="3070080"/>
            <a:ext cx="7315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0360" y="3238560"/>
            <a:ext cx="269640" cy="269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914560"/>
            <a:ext cx="755784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SXG75: volumes decreased down to 56k over LC. Scrap risk 6’7€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  SFR: 25k commitment (AGPS /w SUPL) again at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ustomization failed again in cw7. Workableness not given in particular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ini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</a:rPr>
              <a:t>EF81: Continued dramatic understaffing in IM/BM-area. </a:t>
            </a: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Workableness not given at all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- EF81: Netto Bug Fixing rate again below Project Target: ~65% (Target 20 fixes per 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HE TPM1 Highlights/Lowlight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20.02.2006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45676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ückführung des verloren gegangenen SW Know How. Alle verbliebenen Mitarbeiter Wolf 5/4 müssen für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estrel SW-Team zugewiesen werden. Wo möglich Neuverträge mit den ehemaligen Consultants abschließen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Temporäre Rückführung von erfahrenen 3G SW-Entwicklern, die sich z.B. derzeit in die Apoxy-Plattform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arbeiten (z.B. Norbert Emmerich, Tobias van der Linden). Sofortiger Stop des Abzuges der wenig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bliebenen 3G SW-Entwickler mit Qualcomm Erfahrung (z.B. Michael Roth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Einarbeitung von kompetenen Vertretern/Nachfolgern, insbesondere dann, wenn der baldige Wegga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s Kestrel MA bereits bekannt ist (z.B. Kestrel IM: Arjen van der Weid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personelle Verstärkung von bereits seit langem bekannten "Flaschenhälsen" wie "Build Management„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"Integration Management" mit einer vor Ort Präsenz am Ort des Geschehens: Wroclaw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setzung eines durchsetzungsfähigen PL Operator, der die Abstimmung zwischen den Ländern, den groß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Netzwerk Providern, dem Costumisation Team und dem Operator ST vornimmt und die termingerechte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rwartungsgerechte Bereitstellung der SW-Varianten überwacht. Dies ist bei Kestrel mit mehr als 35 Variante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icher ein "full time" job und erledigt sich offensichtlich nicht von allein (Vorschlag: Michael Höfl)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Einführung von dokumentierten und abgesicherten Prozessen zur zukünftigen Varianten Bereitstellung und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eren Test vor der flächigen Auslieferung, sowie eine Strukturierung der Informationsprozesse. Abstimmun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und Information über Variantentermine/-verzüge sind unzureichend bzw. Fehleinschätzunge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Reduktion von Overhead und Fehlerpotentialen: Auflösung von drei zu synchronisierenden SW-Datenbanken: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KLF, SD und Wrocla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rreichung des seit Anfang Januar durch Projektleitung vorgegebenen Zieles 20 netto Bugfixes pro Tag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= 100 Fixes pro Woche muß seitens SW-Leitung zugesagt werden. In native SW hatten wir bis zu 700 Fixes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pro Woche und auch beim Wolf5 waren über 300 pro Woche möglich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Sofortige schriftliche Fixierung von nachvollziehbare Verbesserungsmaßnahmen im Bereich SW, da sonst ein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Verzug beim Kestrel kommuniziert werden muß. Termin: Dienstag 16:00Uhr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Die Einhaltung der Launchtermine Kestrel (17.03. Retail) - Operator gemäß Planung ist für die SW-Org.</a:t>
            </a:r>
            <a:br>
              <a:rPr sz="1300"/>
            </a:b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genauso ein bindendes KPI wie für TP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3a0e66"/>
                </a:solidFill>
                <a:latin typeface="Minion"/>
                <a:ea typeface="文鼎中黑"/>
              </a:rPr>
              <a:t>100% Freigabe von Mark-Oliver Passauer für das Program 3G (Kestre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8000" y="622440"/>
            <a:ext cx="8908200" cy="5830920"/>
            <a:chOff x="108000" y="622440"/>
            <a:chExt cx="8908200" cy="5830920"/>
          </a:xfrm>
        </p:grpSpPr>
        <p:sp>
          <p:nvSpPr>
            <p:cNvPr id="63" name=""/>
            <p:cNvSpPr/>
            <p:nvPr/>
          </p:nvSpPr>
          <p:spPr>
            <a:xfrm>
              <a:off x="108000" y="1312920"/>
              <a:ext cx="534960" cy="49957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1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152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2960" y="1182600"/>
              <a:ext cx="207000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82960" y="1182600"/>
              <a:ext cx="2068560" cy="13032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2960" y="1052640"/>
              <a:ext cx="8277120" cy="129960"/>
            </a:xfrm>
            <a:prstGeom prst="rect">
              <a:avLst/>
            </a:prstGeom>
            <a:solidFill>
              <a:srgbClr val="b09fc2"/>
            </a:soli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80" y="1312920"/>
              <a:ext cx="8277120" cy="49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987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56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06920" y="1063800"/>
              <a:ext cx="346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Y200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73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09120" y="1193760"/>
              <a:ext cx="15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buClr>
                  <a:srgbClr val="3a0e66"/>
                </a:buClr>
                <a:buFont typeface="Minion"/>
                <a:buChar char="•"/>
                <a:tabLst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7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Q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960" y="530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2960" y="386064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60" y="2421000"/>
              <a:ext cx="827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8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152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296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344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22480" y="1312920"/>
              <a:ext cx="0" cy="499572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403440" y="1312920"/>
              <a:ext cx="688680" cy="4995360"/>
              <a:chOff x="3403440" y="1312920"/>
              <a:chExt cx="688680" cy="4995360"/>
            </a:xfrm>
          </p:grpSpPr>
          <p:sp>
            <p:nvSpPr>
              <p:cNvPr id="84" name=""/>
              <p:cNvSpPr/>
              <p:nvPr/>
            </p:nvSpPr>
            <p:spPr>
              <a:xfrm>
                <a:off x="34034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12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472000" y="1312920"/>
              <a:ext cx="688680" cy="4995360"/>
              <a:chOff x="5472000" y="1312920"/>
              <a:chExt cx="688680" cy="4995360"/>
            </a:xfrm>
          </p:grpSpPr>
          <p:sp>
            <p:nvSpPr>
              <p:cNvPr id="87" name=""/>
              <p:cNvSpPr/>
              <p:nvPr/>
            </p:nvSpPr>
            <p:spPr>
              <a:xfrm>
                <a:off x="547200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6068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7540560" y="1312920"/>
              <a:ext cx="688680" cy="4995360"/>
              <a:chOff x="7540560" y="1312920"/>
              <a:chExt cx="688680" cy="4995360"/>
            </a:xfrm>
          </p:grpSpPr>
          <p:sp>
            <p:nvSpPr>
              <p:cNvPr id="90" name=""/>
              <p:cNvSpPr/>
              <p:nvPr/>
            </p:nvSpPr>
            <p:spPr>
              <a:xfrm>
                <a:off x="754056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229240" y="1312920"/>
                <a:ext cx="0" cy="499536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>
              <a:hlinkClick r:id="rId1" action="ppaction://hlinksldjump"/>
            </p:cNvPr>
            <p:cNvSpPr/>
            <p:nvPr/>
          </p:nvSpPr>
          <p:spPr>
            <a:xfrm rot="16200000">
              <a:off x="-131040" y="2970720"/>
              <a:ext cx="98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erform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840" y="3141720"/>
              <a:ext cx="87152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40" y="26478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 rot="16200000">
              <a:off x="-127080" y="4431960"/>
              <a:ext cx="1032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Image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040" y="4129200"/>
              <a:ext cx="156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040" y="5465880"/>
              <a:ext cx="156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3" action="ppaction://hlinksldjump"/>
            </p:cNvPr>
            <p:cNvSpPr/>
            <p:nvPr/>
          </p:nvSpPr>
          <p:spPr>
            <a:xfrm rot="16200000">
              <a:off x="-12240" y="5704200"/>
              <a:ext cx="806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Afford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4" action="ppaction://hlinksldjump"/>
            </p:cNvPr>
            <p:cNvSpPr/>
            <p:nvPr/>
          </p:nvSpPr>
          <p:spPr>
            <a:xfrm rot="16200000">
              <a:off x="81720" y="1630800"/>
              <a:ext cx="582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Expl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a0e66"/>
                  </a:solidFill>
                  <a:latin typeface="Arial Unicode MS"/>
                </a:rPr>
                <a:t>Pa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0040" y="1539720"/>
              <a:ext cx="156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a0e66"/>
                  </a:solidFill>
                  <a:latin typeface="Arial Unicode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8101080" y="622440"/>
              <a:ext cx="169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211960" y="71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8532720" y="630360"/>
              <a:ext cx="16668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72400" y="70956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2280" y="1376280"/>
              <a:ext cx="1126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ldstone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2920" y="5153040"/>
              <a:ext cx="91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rl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oonston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2360" y="5229360"/>
              <a:ext cx="77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gonite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Loli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3120" y="5877000"/>
              <a:ext cx="1102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ir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Low cost ownershi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67120" y="3068640"/>
              <a:ext cx="1442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umen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de-DE" sz="900" spc="-1" strike="noStrike">
                  <a:solidFill>
                    <a:srgbClr val="000000"/>
                  </a:solidFill>
                  <a:latin typeface="Arial"/>
                </a:rPr>
                <a:t>Multimedia for the mas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88000" y="3794040"/>
              <a:ext cx="12945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ystal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ysterious sen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86920" y="2276640"/>
              <a:ext cx="74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by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3860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mo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1640" y="2997360"/>
              <a:ext cx="1017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tinum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56880" y="5661000"/>
              <a:ext cx="643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Marten) </a:t>
              </a:r>
              <a:br>
                <a:rPr sz="10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2000" y="3213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2600" y="602928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" y="4365720"/>
              <a:ext cx="16938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a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Intensively Femin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9640" y="4662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8920" y="2637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7240" y="41688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2280" y="40402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Luxury style stat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1547640" y="38736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8"/>
            <a:stretch/>
          </p:blipFill>
          <p:spPr>
            <a:xfrm>
              <a:off x="2340000" y="436572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9"/>
            <a:stretch/>
          </p:blipFill>
          <p:spPr>
            <a:xfrm>
              <a:off x="2916360" y="29988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0"/>
            <a:stretch/>
          </p:blipFill>
          <p:spPr>
            <a:xfrm>
              <a:off x="1549440" y="567360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139280" y="375444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net - 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3080" y="4051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5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40360" y="3933720"/>
              <a:ext cx="107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The sculp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1"/>
            <a:stretch/>
          </p:blipFill>
          <p:spPr>
            <a:xfrm>
              <a:off x="3851280" y="3798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7240" y="2346480"/>
              <a:ext cx="780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al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81240" y="270828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2"/>
            <a:stretch/>
          </p:blipFill>
          <p:spPr>
            <a:xfrm>
              <a:off x="2792520" y="249228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75280" y="16304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3"/>
            <a:stretch/>
          </p:blipFill>
          <p:spPr>
            <a:xfrm>
              <a:off x="7165800" y="372600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4"/>
            <a:stretch/>
          </p:blipFill>
          <p:spPr>
            <a:xfrm>
              <a:off x="2484360" y="5229360"/>
              <a:ext cx="22716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5"/>
            <a:stretch/>
          </p:blipFill>
          <p:spPr>
            <a:xfrm>
              <a:off x="1114560" y="5157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454880" y="4086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10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335772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1840" y="5445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1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4920" y="6165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760" y="5597640"/>
              <a:ext cx="3632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3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6"/>
            <a:stretch/>
          </p:blipFill>
          <p:spPr>
            <a:xfrm>
              <a:off x="1619280" y="24256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3059280" y="587700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499000" y="5381640"/>
              <a:ext cx="695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n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8"/>
            <a:stretch/>
          </p:blipFill>
          <p:spPr>
            <a:xfrm>
              <a:off x="5219640" y="5373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589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7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9"/>
            <a:stretch/>
          </p:blipFill>
          <p:spPr>
            <a:xfrm>
              <a:off x="4859280" y="1306440"/>
              <a:ext cx="22716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0"/>
            <a:stretch/>
          </p:blipFill>
          <p:spPr>
            <a:xfrm>
              <a:off x="1635120" y="300672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905480" y="2995560"/>
              <a:ext cx="1076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gania-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000" y="3292560"/>
              <a:ext cx="365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2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30560" y="1782720"/>
              <a:ext cx="8251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lverst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2720" y="1998720"/>
              <a:ext cx="3650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6280" y="4083120"/>
              <a:ext cx="704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a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4240" y="437364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1"/>
            <a:stretch/>
          </p:blipFill>
          <p:spPr>
            <a:xfrm>
              <a:off x="6516720" y="1773360"/>
              <a:ext cx="2062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2"/>
            <a:stretch/>
          </p:blipFill>
          <p:spPr>
            <a:xfrm>
              <a:off x="3059280" y="4014720"/>
              <a:ext cx="264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94400" y="4002120"/>
              <a:ext cx="511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l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24360" y="42973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8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3"/>
            <a:stretch/>
          </p:blipFill>
          <p:spPr>
            <a:xfrm>
              <a:off x="6153120" y="4014720"/>
              <a:ext cx="2653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4"/>
            <a:stretch/>
          </p:blipFill>
          <p:spPr>
            <a:xfrm>
              <a:off x="5435640" y="3106800"/>
              <a:ext cx="22680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734160" y="342900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tanium - 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5"/>
            <a:stretch/>
          </p:blipFill>
          <p:spPr>
            <a:xfrm>
              <a:off x="6516720" y="3473280"/>
              <a:ext cx="200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641840" y="5084640"/>
              <a:ext cx="550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z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6"/>
            <a:stretch/>
          </p:blipFill>
          <p:spPr>
            <a:xfrm>
              <a:off x="4354560" y="5084640"/>
              <a:ext cx="22680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410920" y="1628640"/>
              <a:ext cx="874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llow-P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916360" y="1778040"/>
              <a:ext cx="19980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1280" y="207000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4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8280" y="414648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Style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24240" y="4255920"/>
              <a:ext cx="1414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66880"/>
                  <a:tab algn="l" pos="1733400"/>
                  <a:tab algn="l" pos="2600280"/>
                  <a:tab algn="l" pos="3467160"/>
                  <a:tab algn="l" pos="4334040"/>
                  <a:tab algn="l" pos="5200560"/>
                  <a:tab algn="l" pos="6067440"/>
                  <a:tab algn="l" pos="6934320"/>
                  <a:tab algn="l" pos="7800840"/>
                  <a:tab algn="l" pos="8667720"/>
                  <a:tab algn="l" pos="9534600"/>
                  <a:tab algn="l" pos="1040148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Fun expre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9480" y="365436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9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3280" y="5373720"/>
              <a:ext cx="3636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06/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5661000"/>
              <a:ext cx="1297080" cy="289080"/>
            </a:xfrm>
            <a:prstGeom prst="wedgeRectCallout">
              <a:avLst>
                <a:gd name="adj1" fmla="val 2143"/>
                <a:gd name="adj2" fmla="val -140657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Under discu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Need a reposition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6000" y="2997360"/>
              <a:ext cx="792000" cy="287280"/>
            </a:xfrm>
            <a:prstGeom prst="wedgeRectCallout">
              <a:avLst>
                <a:gd name="adj1" fmla="val -62222"/>
                <a:gd name="adj2" fmla="val 10082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ow 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8000" y="3500280"/>
              <a:ext cx="647640" cy="216000"/>
            </a:xfrm>
            <a:prstGeom prst="wedgeRectCallout">
              <a:avLst>
                <a:gd name="adj1" fmla="val -64949"/>
                <a:gd name="adj2" fmla="val 11764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nyx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6000" y="2708280"/>
              <a:ext cx="792000" cy="289080"/>
            </a:xfrm>
            <a:prstGeom prst="wedgeRectCallout">
              <a:avLst>
                <a:gd name="adj1" fmla="val -41782"/>
                <a:gd name="adj2" fmla="val 7472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O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Multimed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43640" y="4437000"/>
              <a:ext cx="792360" cy="289080"/>
            </a:xfrm>
            <a:prstGeom prst="wedgeRectCallout">
              <a:avLst>
                <a:gd name="adj1" fmla="val -87874"/>
                <a:gd name="adj2" fmla="val -5988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Diamond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2360" y="2060640"/>
              <a:ext cx="792360" cy="433440"/>
            </a:xfrm>
            <a:prstGeom prst="wedgeRectCallout">
              <a:avLst>
                <a:gd name="adj1" fmla="val -41782"/>
                <a:gd name="adj2" fmla="val 6648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G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Landsc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360" y="2565360"/>
              <a:ext cx="1150920" cy="432000"/>
            </a:xfrm>
            <a:prstGeom prst="wedgeRectCallout">
              <a:avLst>
                <a:gd name="adj1" fmla="val -51791"/>
                <a:gd name="adj2" fmla="val 86398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3G/EDGE/HSDPA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3280" y="3573360"/>
              <a:ext cx="865080" cy="360360"/>
            </a:xfrm>
            <a:prstGeom prst="wedgeRectCallout">
              <a:avLst>
                <a:gd name="adj1" fmla="val -5412"/>
                <a:gd name="adj2" fmla="val 85680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SWIFT 3G ultra-sli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80360" y="1989000"/>
              <a:ext cx="792000" cy="358920"/>
            </a:xfrm>
            <a:prstGeom prst="wedgeRectCallout">
              <a:avLst>
                <a:gd name="adj1" fmla="val -82865"/>
                <a:gd name="adj2" fmla="val -358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Waterproof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1280" y="1413000"/>
              <a:ext cx="793800" cy="215640"/>
            </a:xfrm>
            <a:prstGeom prst="wedgeRectCallout">
              <a:avLst>
                <a:gd name="adj1" fmla="val 90800"/>
                <a:gd name="adj2" fmla="val -4191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camcor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869000"/>
              <a:ext cx="863640" cy="360360"/>
            </a:xfrm>
            <a:prstGeom prst="wedgeRectCallout">
              <a:avLst>
                <a:gd name="adj1" fmla="val -40439"/>
                <a:gd name="adj2" fmla="val 92291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Quail with Came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1280" y="6237360"/>
              <a:ext cx="649440" cy="216000"/>
            </a:xfrm>
            <a:prstGeom prst="wedgeRectCallout">
              <a:avLst>
                <a:gd name="adj1" fmla="val -80319"/>
                <a:gd name="adj2" fmla="val -72796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Jasp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4360" y="2924280"/>
              <a:ext cx="865080" cy="433440"/>
            </a:xfrm>
            <a:prstGeom prst="wedgeRectCallout">
              <a:avLst>
                <a:gd name="adj1" fmla="val 63944"/>
                <a:gd name="adj2" fmla="val 31319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ROBUST GPS &amp; V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7280" y="4508640"/>
              <a:ext cx="649440" cy="360360"/>
            </a:xfrm>
            <a:prstGeom prst="wedgeRectCallout">
              <a:avLst>
                <a:gd name="adj1" fmla="val -75671"/>
                <a:gd name="adj2" fmla="val -4515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Poppy 3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56360" y="5516640"/>
              <a:ext cx="647640" cy="217440"/>
            </a:xfrm>
            <a:prstGeom prst="wedgeRectCallout">
              <a:avLst>
                <a:gd name="adj1" fmla="val -93384"/>
                <a:gd name="adj2" fmla="val -19342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Amber I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4724280"/>
              <a:ext cx="935280" cy="360360"/>
            </a:xfrm>
            <a:prstGeom prst="wedgeRectCallout">
              <a:avLst>
                <a:gd name="adj1" fmla="val -16722"/>
                <a:gd name="adj2" fmla="val 105504"/>
              </a:avLst>
            </a:prstGeom>
            <a:solidFill>
              <a:srgbClr val="8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Minion"/>
                  <a:ea typeface="文鼎中黑"/>
                </a:rPr>
                <a:t>Flamingo with Camer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w Roadmap as of 10.02.2006 – Updated acc. CTO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3G dominates new portfolio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Christof Schwab</cp:lastModifiedBy>
  <dcterms:modified xsi:type="dcterms:W3CDTF">2006-02-20T09:52:03Z</dcterms:modified>
  <cp:revision>151</cp:revision>
  <dc:subject/>
  <dc:title>PHE</dc:title>
</cp:coreProperties>
</file>