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6A9-8360-44B0-9626-310FD9F0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00A-CDD7-4090-9F0F-E6B05095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215-D543-4C1B-AF93-938BDBBB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467-CB27-4811-A1D5-D8DAAD6A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266-C070-484B-9CD4-B85D7E5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E93-1075-4376-9DF9-793C612F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19C-7FF2-42BD-8D3E-FE861A6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85C-7E0A-447D-97BE-1977D45D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E0B-DB7D-4607-AF3D-A4700F3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770-D577-4CA3-9D62-69CF482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B45-12DC-45C8-BA04-E8EE0C0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79D-521D-43B2-8E38-E0D4A8A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02A0-3088-4BEB-986B-F4F37AEFE5A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576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PV-Plan responsibility, incl. PLT suppo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product classes 1-4 incl. TTM target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343160"/>
            <a:ext cx="5924520" cy="13665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280" y="127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286080"/>
            <a:ext cx="60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contro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240" indent="-15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925720"/>
            <a:ext cx="5924520" cy="1727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0120" y="285264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836640"/>
            <a:ext cx="2881080" cy="439416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42592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80" y="5084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AC1-659A-4FE2-A12D-77A69452DC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of Schwab</cp:lastModifiedBy>
  <dcterms:modified xsi:type="dcterms:W3CDTF">2006-01-27T16:39:25Z</dcterms:modified>
  <cp:revision>129</cp:revision>
  <dc:subject/>
  <dc:title>PowerPoint 簡報</dc:title>
</cp:coreProperties>
</file>