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D04-07D3-4399-B3A4-72359F68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36E-C254-4E1E-B665-5A10756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BBA-1F44-4000-AB98-0688E2A4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A69-D6D6-4923-8375-C752DA2F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2D6-F77E-48D4-A680-D506BBCE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825-B589-4C96-82E2-FD886B8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D77-62EC-4D0B-88C9-3C013651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49-5D3D-491A-A063-57FD6DBC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4DB-7F0E-466F-91F7-988888EB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B52-BE47-4C48-94EA-FFCEA13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1B7-6A1F-477D-BA81-FCC418A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2B8-9448-4320-930D-029A9FC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9F2-1CDD-4332-9F7F-3066E9BEB35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576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PV-Plan responsibility, incl. PLT suppo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product classes 1-4 incl. TTM target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343160"/>
            <a:ext cx="5924520" cy="13665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280" y="127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286080"/>
            <a:ext cx="60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contro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925720"/>
            <a:ext cx="5924520" cy="1727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120" y="2852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836640"/>
            <a:ext cx="2881080" cy="439416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42592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80" y="5084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A14-A9DA-47D8-A049-8EA1909E3B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of Schwab</cp:lastModifiedBy>
  <dcterms:modified xsi:type="dcterms:W3CDTF">2006-01-27T16:39:25Z</dcterms:modified>
  <cp:revision>129</cp:revision>
  <dc:subject/>
  <dc:title>PowerPoint 簡報</dc:title>
</cp:coreProperties>
</file>