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FCE-DD12-442E-A4EA-867B96C7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754E-72DC-4055-BEA8-93036DCA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BD28-FDE4-4BAC-A2B9-79403E4A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7A52-C4E2-47F9-BA91-2445F7F4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B90-1D16-4041-B820-450D2A4F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8985-F5FB-4364-A89F-53B5F73E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B9A6-A76D-42B5-A6BC-91DE6903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17DF-8185-4E66-B4A2-F4F2CCEC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AAB8-E91B-450D-8466-2CFC98B5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05B-5340-4E1E-B8C5-E162E8EE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99DC-7A8A-4725-8494-26395EEC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BB59-B6AA-419E-8CD1-73CD0E60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7252-2126-4B6C-8A4C-888106C087D5}" type="datetime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6E93-2DB5-4955-BC5E-BDF7AE9A713D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5/10/20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KOALA  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Product Status: DS Assessment at planned S0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5153040"/>
            <a:ext cx="567504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Presentation and content by Mario To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BMG PHE TP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09.01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33894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Detlef Wie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örg Hantsch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456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Executive Summary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Current assessment at planned S0 does not allow project commitment for planned DS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0000" y="990720"/>
            <a:ext cx="87264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KOALA project cannot be committed by TPM based on planned feature set and schedu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Resource situation in Q1/07 very critical and requires clear prioritiz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Platform transfer to PHA is highly endangered due to resource situation which might directly impact Merlin and Cesa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taffing of initial ONYX SW-resources leads to delays of S0/M1 mileston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tabilization of Kestrel launch date requires additional resourc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upport of 6275 chipset by Qualcomm ends in Q2/2006 which highly endangers GCF-complianc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Immediate decision for further procedure regarding KOALA and BenQs 3G-roadmap needed based on different option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456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Options To Keep KOALA as product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Basically three options have been worked out to continue KOALA-developmen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8920" y="1528560"/>
            <a:ext cx="845676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0120" indent="-510120"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Keep Koala with exactly same design as plann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6275 porting incl. EDGE / HSDPA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spcBef>
                <a:spcPts val="45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Application suite is Kestrel bas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No landscape mod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No Rel 2 Features and additional Operator Featur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no valid GCF version, Qualcomm support ends with GCF 3.20 in Q1/20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platform transfer PHE highly endangered (impact on Merlin and Cesar expected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Onyx team staffing not ensur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"/>
          <p:cNvSpPr/>
          <p:nvPr/>
        </p:nvSpPr>
        <p:spPr>
          <a:xfrm>
            <a:off x="449280" y="988920"/>
            <a:ext cx="180036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Option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5757840"/>
            <a:ext cx="215928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DS:</a:t>
            </a: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 </a:t>
            </a:r>
            <a:r>
              <a:rPr b="1" lang="en-US" sz="2400" spc="-1" strike="noStrike">
                <a:solidFill>
                  <a:srgbClr val="e20000"/>
                </a:solidFill>
                <a:latin typeface="Minion"/>
                <a:ea typeface="文鼎中黑"/>
              </a:rPr>
              <a:t>2006-09</a:t>
            </a: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-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456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Options To Keep KOALA as product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Basically three options have been worked out to continue KOALA-developmen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8920" y="1528560"/>
            <a:ext cx="845676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Keep Koala with exactly same design as plann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6275 porting incl. EDGE / HSDPA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Landscape mode in significant application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Rel 2 features and additional operator features possibl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latform transfer Taipei significantly ensur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Onyx team staffing ensur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Delay KOALA by 3 mont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No state of the art chip set in Q1 /07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Bad cost position in Q1/07 compared to competition and on chipset level (vs. 6280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No re-use for future products due to old chipse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10120" indent="-510120">
              <a:lnSpc>
                <a:spcPct val="9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No valid GCF version, Qualcomm support ends with GCF 3.20 in Q2/2006, Operator listing endanger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"/>
          <p:cNvSpPr/>
          <p:nvPr/>
        </p:nvSpPr>
        <p:spPr>
          <a:xfrm>
            <a:off x="449280" y="988920"/>
            <a:ext cx="180036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Option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5757840"/>
            <a:ext cx="215928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DS:</a:t>
            </a: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 </a:t>
            </a:r>
            <a:r>
              <a:rPr b="1" lang="en-US" sz="2400" spc="-1" strike="noStrike">
                <a:solidFill>
                  <a:srgbClr val="e20000"/>
                </a:solidFill>
                <a:latin typeface="Minion"/>
                <a:ea typeface="文鼎中黑"/>
              </a:rPr>
              <a:t>2007-01</a:t>
            </a: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456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Options To Keep KOALA as product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Basically three options have been worked out to continue KOALA-developmen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8920" y="1528560"/>
            <a:ext cx="845676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Keep Koala concept (Swivel, landscape story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Evaluate stack up optimization in terms of length/thickness &amp; desig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Base KOALA on new chipset 6280 (similar to 6275), same as in Ruby/Amethys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20% higher CPU performanc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New RF-CMOS solution (same solution as in Ruby/Mallow/Gecko/Amethyst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ost saving on component level &gt;3€, PCB space saving &gt;= 100mm²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Full HSDPA support with 3.6 MBi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Full landscape support and Rel 2 + additional operator Featur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valid GCF certification due to continued Qualcomm suppor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Easier migration to 6255/60 for Mallow/Gecko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latform transfer PHE ensur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Onyx team staffing ensured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Reduced support of parallel platforms 6250/6280/6255 instead of 6250/6275/6280/6255, one RF solution les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477720" indent="-477720">
              <a:lnSpc>
                <a:spcPct val="80000"/>
              </a:lnSpc>
              <a:spcBef>
                <a:spcPts val="451"/>
              </a:spcBef>
              <a:buClr>
                <a:srgbClr val="e2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00"/>
                </a:solidFill>
                <a:latin typeface="Minion"/>
              </a:rPr>
              <a:t>Delay KOALA by 5 mont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"/>
          <p:cNvSpPr/>
          <p:nvPr/>
        </p:nvSpPr>
        <p:spPr>
          <a:xfrm>
            <a:off x="449280" y="988920"/>
            <a:ext cx="180036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Option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937120"/>
            <a:ext cx="215928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DS:</a:t>
            </a: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 </a:t>
            </a:r>
            <a:r>
              <a:rPr b="1" lang="en-US" sz="2400" spc="-1" strike="noStrike">
                <a:solidFill>
                  <a:srgbClr val="e20000"/>
                </a:solidFill>
                <a:latin typeface="Minion"/>
                <a:ea typeface="文鼎中黑"/>
              </a:rPr>
              <a:t>2007-02</a:t>
            </a: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-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76760" y="988920"/>
            <a:ext cx="323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Minion"/>
                <a:ea typeface="文鼎中黑"/>
              </a:rPr>
              <a:t>Recommended by T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456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imeline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22280" y="847800"/>
            <a:ext cx="8165880" cy="420480"/>
            <a:chOff x="422280" y="847800"/>
            <a:chExt cx="8165880" cy="420480"/>
          </a:xfrm>
        </p:grpSpPr>
        <p:sp>
          <p:nvSpPr>
            <p:cNvPr id="63" name=""/>
            <p:cNvSpPr/>
            <p:nvPr/>
          </p:nvSpPr>
          <p:spPr>
            <a:xfrm>
              <a:off x="2467080" y="1066680"/>
              <a:ext cx="202392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559560" y="1066680"/>
              <a:ext cx="202392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2280" y="847800"/>
              <a:ext cx="8165880" cy="210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2176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16720" y="868320"/>
              <a:ext cx="135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0488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13320" y="1066680"/>
              <a:ext cx="202536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2280" y="1066680"/>
              <a:ext cx="202572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1044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7448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28760" y="5810400"/>
            <a:ext cx="8175600" cy="426960"/>
            <a:chOff x="428760" y="5810400"/>
            <a:chExt cx="8175600" cy="426960"/>
          </a:xfrm>
        </p:grpSpPr>
        <p:grpSp>
          <p:nvGrpSpPr>
            <p:cNvPr id="74" name=""/>
            <p:cNvGrpSpPr/>
            <p:nvPr/>
          </p:nvGrpSpPr>
          <p:grpSpPr>
            <a:xfrm>
              <a:off x="428760" y="6026400"/>
              <a:ext cx="8175600" cy="210960"/>
              <a:chOff x="428760" y="6026400"/>
              <a:chExt cx="8175600" cy="210960"/>
            </a:xfrm>
          </p:grpSpPr>
          <p:sp>
            <p:nvSpPr>
              <p:cNvPr id="75" name=""/>
              <p:cNvSpPr/>
              <p:nvPr/>
            </p:nvSpPr>
            <p:spPr>
              <a:xfrm>
                <a:off x="428760" y="6026400"/>
                <a:ext cx="8175600" cy="21096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52000" y="6046920"/>
                <a:ext cx="135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28760" y="5810400"/>
              <a:ext cx="8170200" cy="201600"/>
              <a:chOff x="428760" y="5810400"/>
              <a:chExt cx="8170200" cy="201600"/>
            </a:xfrm>
          </p:grpSpPr>
          <p:sp>
            <p:nvSpPr>
              <p:cNvPr id="78" name=""/>
              <p:cNvSpPr/>
              <p:nvPr/>
            </p:nvSpPr>
            <p:spPr>
              <a:xfrm>
                <a:off x="428760" y="5810400"/>
                <a:ext cx="202716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474640" y="5810400"/>
                <a:ext cx="202716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72160" y="5810400"/>
                <a:ext cx="202680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524120" y="5810400"/>
                <a:ext cx="202716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1836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92968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8708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01892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1042920" y="1268280"/>
            <a:ext cx="2016360" cy="453708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76720" y="1268280"/>
            <a:ext cx="2016360" cy="453708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59280" y="1268280"/>
            <a:ext cx="201600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1268280"/>
            <a:ext cx="151128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268280"/>
            <a:ext cx="57456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3856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4364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8364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3573360"/>
            <a:ext cx="871380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Unicode MS"/>
                <a:ea typeface="文鼎中黑"/>
              </a:rPr>
              <a:t>62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00720" y="4653000"/>
            <a:ext cx="439236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Unicode MS"/>
                <a:ea typeface="文鼎中黑"/>
              </a:rPr>
              <a:t>625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2421000"/>
            <a:ext cx="288000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Unicode MS"/>
                <a:ea typeface="文鼎中黑"/>
              </a:rPr>
              <a:t>62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335772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3357720"/>
            <a:ext cx="215640" cy="215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335772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3357720"/>
            <a:ext cx="215640" cy="215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21300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ES 62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14560" y="321480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CS 62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21300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ES RFC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321480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CS RFC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35640" y="4437000"/>
            <a:ext cx="215640" cy="21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56000" y="429264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ES 625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496360" y="443700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17080" y="429264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CS 625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393552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234936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108000" y="278460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3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34936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278460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3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728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93552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13080" y="393552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45080" y="34988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57800" y="393372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3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58136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501660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59640" y="4578480"/>
            <a:ext cx="0" cy="43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72360" y="501336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604360" y="458136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17080" y="501660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2276640"/>
            <a:ext cx="287280" cy="288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27640" y="206064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Koa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7280" y="3357720"/>
            <a:ext cx="215640" cy="215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321300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(ES 6280  65n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4988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77080" y="393372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04360" y="34988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17080" y="393372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068560" y="1438200"/>
            <a:ext cx="631440" cy="504720"/>
            <a:chOff x="2068560" y="1438200"/>
            <a:chExt cx="631440" cy="504720"/>
          </a:xfrm>
        </p:grpSpPr>
        <p:sp>
          <p:nvSpPr>
            <p:cNvPr id="138" name=""/>
            <p:cNvSpPr/>
            <p:nvPr/>
          </p:nvSpPr>
          <p:spPr>
            <a:xfrm>
              <a:off x="2226600" y="1654200"/>
              <a:ext cx="315000" cy="28872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68560" y="1438200"/>
              <a:ext cx="631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a0e66"/>
                  </a:solidFill>
                  <a:latin typeface="Arial Unicode MS"/>
                  <a:ea typeface="Arial Unicode MS"/>
                </a:rPr>
                <a:t>Kestr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846760" y="1438200"/>
            <a:ext cx="631440" cy="504720"/>
            <a:chOff x="5846760" y="1438200"/>
            <a:chExt cx="631440" cy="504720"/>
          </a:xfrm>
        </p:grpSpPr>
        <p:sp>
          <p:nvSpPr>
            <p:cNvPr id="141" name=""/>
            <p:cNvSpPr/>
            <p:nvPr/>
          </p:nvSpPr>
          <p:spPr>
            <a:xfrm>
              <a:off x="6004800" y="1654200"/>
              <a:ext cx="315000" cy="28872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46760" y="1438200"/>
              <a:ext cx="631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a0e66"/>
                  </a:solidFill>
                  <a:latin typeface="Arial Unicode MS"/>
                  <a:ea typeface="Arial Unicode MS"/>
                </a:rPr>
                <a:t>Ces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084720" y="1341360"/>
            <a:ext cx="631800" cy="504720"/>
            <a:chOff x="6084720" y="1341360"/>
            <a:chExt cx="631800" cy="504720"/>
          </a:xfrm>
        </p:grpSpPr>
        <p:sp>
          <p:nvSpPr>
            <p:cNvPr id="144" name=""/>
            <p:cNvSpPr/>
            <p:nvPr/>
          </p:nvSpPr>
          <p:spPr>
            <a:xfrm>
              <a:off x="6242760" y="1557360"/>
              <a:ext cx="315360" cy="28872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84720" y="13413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a0e66"/>
                  </a:solidFill>
                  <a:latin typeface="Arial Unicode MS"/>
                  <a:ea typeface="Arial Unicode MS"/>
                </a:rPr>
                <a:t>Merl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2916360" y="2133720"/>
            <a:ext cx="720720" cy="792000"/>
          </a:xfrm>
          <a:prstGeom prst="lightningBol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35280" y="1989000"/>
            <a:ext cx="1657440" cy="505080"/>
          </a:xfrm>
          <a:prstGeom prst="wedgeRoundRectCallout">
            <a:avLst>
              <a:gd name="adj1" fmla="val -69060"/>
              <a:gd name="adj2" fmla="val 92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Discontinuation of 6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819840" y="1413000"/>
            <a:ext cx="631440" cy="504720"/>
            <a:chOff x="6819840" y="1413000"/>
            <a:chExt cx="631440" cy="504720"/>
          </a:xfrm>
        </p:grpSpPr>
        <p:sp>
          <p:nvSpPr>
            <p:cNvPr id="149" name=""/>
            <p:cNvSpPr/>
            <p:nvPr/>
          </p:nvSpPr>
          <p:spPr>
            <a:xfrm>
              <a:off x="6977880" y="1629000"/>
              <a:ext cx="315000" cy="28872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19840" y="1413000"/>
              <a:ext cx="631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a0e66"/>
                  </a:solidFill>
                  <a:latin typeface="Arial Unicode MS"/>
                  <a:ea typeface="Arial Unicode MS"/>
                </a:rPr>
                <a:t>Ony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456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imeline cont´d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2280" y="847800"/>
            <a:ext cx="8165880" cy="420480"/>
            <a:chOff x="422280" y="847800"/>
            <a:chExt cx="8165880" cy="420480"/>
          </a:xfrm>
        </p:grpSpPr>
        <p:sp>
          <p:nvSpPr>
            <p:cNvPr id="153" name=""/>
            <p:cNvSpPr/>
            <p:nvPr/>
          </p:nvSpPr>
          <p:spPr>
            <a:xfrm>
              <a:off x="2467080" y="1066680"/>
              <a:ext cx="202392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59560" y="1066680"/>
              <a:ext cx="202392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2280" y="847800"/>
              <a:ext cx="8165880" cy="210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2176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16720" y="868320"/>
              <a:ext cx="135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Y 200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0488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13320" y="1066680"/>
              <a:ext cx="202536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2280" y="1066680"/>
              <a:ext cx="2025720" cy="20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1044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74480" y="1068120"/>
              <a:ext cx="96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28760" y="5810400"/>
            <a:ext cx="8175600" cy="426960"/>
            <a:chOff x="428760" y="5810400"/>
            <a:chExt cx="8175600" cy="426960"/>
          </a:xfrm>
        </p:grpSpPr>
        <p:grpSp>
          <p:nvGrpSpPr>
            <p:cNvPr id="164" name=""/>
            <p:cNvGrpSpPr/>
            <p:nvPr/>
          </p:nvGrpSpPr>
          <p:grpSpPr>
            <a:xfrm>
              <a:off x="428760" y="6026400"/>
              <a:ext cx="8175600" cy="210960"/>
              <a:chOff x="428760" y="6026400"/>
              <a:chExt cx="8175600" cy="210960"/>
            </a:xfrm>
          </p:grpSpPr>
          <p:sp>
            <p:nvSpPr>
              <p:cNvPr id="165" name=""/>
              <p:cNvSpPr/>
              <p:nvPr/>
            </p:nvSpPr>
            <p:spPr>
              <a:xfrm>
                <a:off x="428760" y="6026400"/>
                <a:ext cx="8175600" cy="21096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852000" y="6046920"/>
                <a:ext cx="135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428760" y="5810400"/>
              <a:ext cx="8170200" cy="201600"/>
              <a:chOff x="428760" y="5810400"/>
              <a:chExt cx="8170200" cy="201600"/>
            </a:xfrm>
          </p:grpSpPr>
          <p:sp>
            <p:nvSpPr>
              <p:cNvPr id="168" name=""/>
              <p:cNvSpPr/>
              <p:nvPr/>
            </p:nvSpPr>
            <p:spPr>
              <a:xfrm>
                <a:off x="428760" y="5810400"/>
                <a:ext cx="202716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474640" y="5810400"/>
                <a:ext cx="202716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572160" y="5810400"/>
                <a:ext cx="202680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24120" y="5810400"/>
                <a:ext cx="2027160" cy="201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91836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92968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98708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018920" y="5812200"/>
                <a:ext cx="966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1042920" y="1268280"/>
            <a:ext cx="2016360" cy="453708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1268280"/>
            <a:ext cx="2016360" cy="453708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59280" y="1268280"/>
            <a:ext cx="201600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93080" y="1268280"/>
            <a:ext cx="151128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268280"/>
            <a:ext cx="57456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3856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5600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4364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83640" y="12682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CF3.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3573360"/>
            <a:ext cx="432144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Unicode MS"/>
                <a:ea typeface="文鼎中黑"/>
              </a:rPr>
              <a:t>62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4653000"/>
            <a:ext cx="691380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 Unicode MS"/>
                <a:ea typeface="文鼎中黑"/>
              </a:rPr>
              <a:t>625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458136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501336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56000" y="1916280"/>
            <a:ext cx="287280" cy="288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1640" y="170028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Amethy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1916280"/>
            <a:ext cx="287280" cy="288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98920" y="170028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Mal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1916280"/>
            <a:ext cx="287280" cy="288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32000" y="170028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u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64000" y="1916280"/>
            <a:ext cx="287280" cy="288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19640" y="170028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Geck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84360" y="458136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95640" y="501336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Tb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6560" y="34988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393372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Rel. 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68360" y="393372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Tb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58920" y="178920"/>
            <a:ext cx="82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Main Problems identified during S0-assessment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Resource ramp up for QCT-program and maturity from W5-development not sufficien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58560" y="1528920"/>
            <a:ext cx="851220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70 % of most experienced ICT / CPE architects and IMs left BenQ at the End of 2005 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3 month delay of W5 Rel 1.4 (base for Kestrel) causes additional resources on Kestrel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Extended Kestrel support due to first main operator approval for Qualcomm products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Qualcomm working model change, BenQ is since W5 DS responsible for bug fixing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WRO Koala team not enough experienced yet, technical coaching by line management and experienced developers needed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Munich resource ramp up delayed due to Minos/Hydra DS shift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Very high implementation effort for Landscape mode as a result of the S0 feasibility studies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  <a:p>
            <a:pPr marL="311040" indent="-311040">
              <a:lnSpc>
                <a:spcPct val="80000"/>
              </a:lnSpc>
              <a:spcBef>
                <a:spcPts val="425"/>
              </a:spcBef>
              <a:buClr>
                <a:srgbClr val="3a0e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</a:rPr>
              <a:t>Qualcomm AMSS 6275 Rel. 4.0 was canceled on 12.12.05, no valid GCF version support</a:t>
            </a:r>
            <a:endParaRPr b="0" lang="en-US" sz="17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6" name=""/>
          <p:cNvSpPr/>
          <p:nvPr/>
        </p:nvSpPr>
        <p:spPr>
          <a:xfrm>
            <a:off x="449280" y="1079640"/>
            <a:ext cx="180036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280" y="3957480"/>
            <a:ext cx="180036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Minion"/>
                <a:ea typeface="文鼎中黑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438200" y="4408560"/>
            <a:ext cx="73771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079640" y="4678200"/>
            <a:ext cx="719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Minion"/>
                <a:ea typeface="文鼎中黑"/>
              </a:rPr>
              <a:t>STAY YOUNG – KEEP EXPL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Mario Topel</cp:lastModifiedBy>
  <dcterms:modified xsi:type="dcterms:W3CDTF">2006-01-09T08:08:08Z</dcterms:modified>
  <cp:revision>90</cp:revision>
  <dc:subject/>
  <dc:title>PowerPoint 簡報</dc:title>
</cp:coreProperties>
</file>