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DA30-1FFE-43DF-8DBD-F47F6501CAA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874-74FD-4466-ADD6-AE7B6866765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GL 65/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31. Jan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1200" y="3816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latform SGL 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57520" y="5346720"/>
            <a:ext cx="4876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58440" y="1422360"/>
            <a:ext cx="228600" cy="652320"/>
            <a:chOff x="1558440" y="1422360"/>
            <a:chExt cx="228600" cy="652320"/>
          </a:xfrm>
        </p:grpSpPr>
        <p:sp>
          <p:nvSpPr>
            <p:cNvPr id="97" name=""/>
            <p:cNvSpPr/>
            <p:nvPr/>
          </p:nvSpPr>
          <p:spPr>
            <a:xfrm rot="5400000">
              <a:off x="1346400" y="16340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1607760" y="147456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1607760" y="1687320"/>
              <a:ext cx="128520" cy="125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1607760" y="190008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28600" y="1442880"/>
            <a:ext cx="1235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5080" y="2782800"/>
            <a:ext cx="1242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rd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7440" y="3930480"/>
            <a:ext cx="1411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-GOLD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82880" y="1139760"/>
            <a:ext cx="6638400" cy="1416960"/>
            <a:chOff x="1982880" y="1139760"/>
            <a:chExt cx="6638400" cy="1416960"/>
          </a:xfrm>
        </p:grpSpPr>
        <p:sp>
          <p:nvSpPr>
            <p:cNvPr id="105" name=""/>
            <p:cNvSpPr/>
            <p:nvPr/>
          </p:nvSpPr>
          <p:spPr>
            <a:xfrm>
              <a:off x="1982880" y="1139760"/>
              <a:ext cx="6638400" cy="141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32200" y="1139760"/>
              <a:ext cx="6569280" cy="14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esource conflicts with X75 SG2 Platform (mainly bug fixing and CR handlin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elay in Audio features for the X75 generation has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no impact on the overall timeline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but SW schedule needs to be modifi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ff"/>
                </a:buClr>
                <a:buFont typeface="Wingdings" charset="2"/>
                <a:buChar char=""/>
                <a:tabLst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CR situation is critical (too many). Implementation of all “must” CRs in Phoenix and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Sirius, including I-mode/Doja, is only possible in a 2</a:t>
              </a:r>
              <a:r>
                <a:rPr b="1" lang="en-GB" sz="1200" spc="-1" strike="noStrike" baseline="30000">
                  <a:solidFill>
                    <a:srgbClr val="3333ff"/>
                  </a:solidFill>
                  <a:latin typeface="Arial"/>
                  <a:ea typeface="SimSun"/>
                </a:rPr>
                <a:t>nd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 SW-release, three weeks lat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ff"/>
                </a:buClr>
                <a:buFont typeface="Wingdings" charset="2"/>
                <a:buChar char=""/>
                <a:tabLst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Phase II SW team installed lead by A. Bet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ff"/>
                </a:buClr>
                <a:buFont typeface="Wingdings" charset="2"/>
                <a:buChar char=""/>
                <a:tabLst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Z-IDB4 will be set up on 18.04.05 and will be used for Phoenix, Sirius, Adonis &amp; 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25360" y="5199120"/>
            <a:ext cx="1108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976400" y="2655720"/>
            <a:ext cx="6648120" cy="817200"/>
            <a:chOff x="1976400" y="2655720"/>
            <a:chExt cx="6648120" cy="817200"/>
          </a:xfrm>
        </p:grpSpPr>
        <p:sp>
          <p:nvSpPr>
            <p:cNvPr id="109" name=""/>
            <p:cNvSpPr/>
            <p:nvPr/>
          </p:nvSpPr>
          <p:spPr>
            <a:xfrm>
              <a:off x="1976400" y="2655720"/>
              <a:ext cx="6648120" cy="81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25720" y="2655720"/>
              <a:ext cx="6579000" cy="8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R to ”Voiceband over SGL” raised. This CR can be agreed for the platform but can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ot be implemented in all products. Test PCB based on Phoenix available.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R regarding use of Mozart+/Twigo+ raised. This CR can be agreed for the platform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but can not be implemented in all products.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9000" y="3567240"/>
            <a:ext cx="6657840" cy="1163160"/>
            <a:chOff x="1989000" y="3567240"/>
            <a:chExt cx="6657840" cy="1163160"/>
          </a:xfrm>
        </p:grpSpPr>
        <p:sp>
          <p:nvSpPr>
            <p:cNvPr id="112" name=""/>
            <p:cNvSpPr/>
            <p:nvPr/>
          </p:nvSpPr>
          <p:spPr>
            <a:xfrm>
              <a:off x="1989000" y="3567240"/>
              <a:ext cx="6657840" cy="116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38320" y="3567240"/>
              <a:ext cx="65887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Due to a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huge stock of SGLite G12 mask material, switching back to G12 in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hoenix, Sirius, Adonis and Aries was requested. A respective CR for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hoenix and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irius has been agreed.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Adonis shall be the lead product for the G15 mask but its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  <a:ea typeface="SimSun"/>
                </a:rPr>
                <a:t>SW has to able to support both mas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"/>
                <a:tabLst>
                  <a:tab algn="l" pos="22860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 CR to reduce the communicated operation time of the new R65 products is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n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7560" y="4821120"/>
            <a:ext cx="6648120" cy="1394640"/>
            <a:chOff x="1987560" y="4821120"/>
            <a:chExt cx="6648120" cy="1394640"/>
          </a:xfrm>
        </p:grpSpPr>
        <p:sp>
          <p:nvSpPr>
            <p:cNvPr id="115" name=""/>
            <p:cNvSpPr/>
            <p:nvPr/>
          </p:nvSpPr>
          <p:spPr>
            <a:xfrm>
              <a:off x="1987560" y="4821120"/>
              <a:ext cx="6648120" cy="139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36880" y="4821120"/>
              <a:ext cx="6579000" cy="13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olution for ASP including the PaT solution is agreed for the R65 products.  For the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X75 Generation the PaT solution still needs to be agreed – no other solution is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urrently seen for the X75 generatio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"/>
                <a:tabLst>
                  <a:tab algn="l" pos="17784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everal signal tones are now louder (e.g. predialling tone) which are marked as idle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ones and therefore have an upper limit of 130dB – this is not critical. However,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daptations will be made by creating a table showing new limits for all tones in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ifferent states (idle, call). Target is until 21.01.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552320" y="3795840"/>
            <a:ext cx="228600" cy="652320"/>
            <a:chOff x="1552320" y="3795840"/>
            <a:chExt cx="228600" cy="652320"/>
          </a:xfrm>
        </p:grpSpPr>
        <p:sp>
          <p:nvSpPr>
            <p:cNvPr id="118" name=""/>
            <p:cNvSpPr/>
            <p:nvPr/>
          </p:nvSpPr>
          <p:spPr>
            <a:xfrm rot="5400000">
              <a:off x="1340280" y="400752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1601640" y="382896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1601640" y="404172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1601640" y="4245120"/>
              <a:ext cx="128520" cy="125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52320" y="5056200"/>
            <a:ext cx="228600" cy="652320"/>
            <a:chOff x="1552320" y="5056200"/>
            <a:chExt cx="228600" cy="652320"/>
          </a:xfrm>
        </p:grpSpPr>
        <p:sp>
          <p:nvSpPr>
            <p:cNvPr id="123" name=""/>
            <p:cNvSpPr/>
            <p:nvPr/>
          </p:nvSpPr>
          <p:spPr>
            <a:xfrm rot="5400000">
              <a:off x="1340280" y="526788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1601640" y="508932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1601640" y="530208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1601640" y="5505480"/>
              <a:ext cx="128520" cy="125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557000" y="2747880"/>
            <a:ext cx="228600" cy="652320"/>
            <a:chOff x="1557000" y="2747880"/>
            <a:chExt cx="228600" cy="652320"/>
          </a:xfrm>
        </p:grpSpPr>
        <p:sp>
          <p:nvSpPr>
            <p:cNvPr id="128" name=""/>
            <p:cNvSpPr/>
            <p:nvPr/>
          </p:nvSpPr>
          <p:spPr>
            <a:xfrm rot="5400000">
              <a:off x="1344960" y="295956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1606320" y="278100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1606320" y="299376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1606320" y="3197160"/>
              <a:ext cx="128520" cy="125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1800" y="1904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roduct Project Highlights – 6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771560"/>
            <a:ext cx="118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65 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086280"/>
            <a:ext cx="118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65 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040" y="4164120"/>
            <a:ext cx="981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65 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11000" y="1674720"/>
            <a:ext cx="228600" cy="652680"/>
            <a:chOff x="1611000" y="1674720"/>
            <a:chExt cx="228600" cy="652680"/>
          </a:xfrm>
        </p:grpSpPr>
        <p:sp>
          <p:nvSpPr>
            <p:cNvPr id="137" name=""/>
            <p:cNvSpPr/>
            <p:nvPr/>
          </p:nvSpPr>
          <p:spPr>
            <a:xfrm rot="5400000">
              <a:off x="1398960" y="1886760"/>
              <a:ext cx="65268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1660320" y="1940040"/>
              <a:ext cx="12888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660320" y="2152440"/>
              <a:ext cx="12852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1660320" y="17366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004840" y="1128600"/>
            <a:ext cx="6686280" cy="1682280"/>
            <a:chOff x="2004840" y="1128600"/>
            <a:chExt cx="6686280" cy="1682280"/>
          </a:xfrm>
        </p:grpSpPr>
        <p:sp>
          <p:nvSpPr>
            <p:cNvPr id="142" name=""/>
            <p:cNvSpPr/>
            <p:nvPr/>
          </p:nvSpPr>
          <p:spPr>
            <a:xfrm>
              <a:off x="2004840" y="1128600"/>
              <a:ext cx="6686280" cy="168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4520" y="1128600"/>
              <a:ext cx="6616800" cy="16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001960" y="5013360"/>
            <a:ext cx="6684480" cy="1290240"/>
            <a:chOff x="2001960" y="5013360"/>
            <a:chExt cx="6684480" cy="1290240"/>
          </a:xfrm>
        </p:grpSpPr>
        <p:sp>
          <p:nvSpPr>
            <p:cNvPr id="145" name=""/>
            <p:cNvSpPr/>
            <p:nvPr/>
          </p:nvSpPr>
          <p:spPr>
            <a:xfrm>
              <a:off x="2001960" y="5013360"/>
              <a:ext cx="6684480" cy="1290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1640" y="5013360"/>
              <a:ext cx="6615000" cy="12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87280" y="5470560"/>
            <a:ext cx="9810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K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00160" y="1143000"/>
            <a:ext cx="667728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M3 declared for CX65 and M65 on 14.01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SW R13 (SVN43) available on 28.01.2005, for CX65, CX70, and M6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ST &amp; SW resources for finalizing CX70 secured. Extra ST available for I-Mode testing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 to change of  PCB material to halogen-free for M65 is still under evaluation; lead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o BOM increase of 0.085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First M65 Rescue prototype shop samples available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Bad SAR &amp; antenna performance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due to wrong mounted camera flex cable shielding - production will be inform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SW R13 (SVN44) for Rescue available on 31.01.05. Test of FFS and Mapfile in CW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08080" y="2886120"/>
            <a:ext cx="6680160" cy="90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CT66: There might be a business potential with Comcel in Colu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66/C71 going for S4 by end of January, only for LAM mark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C70 DS planned for 1st March; C70 S4 planned for 2nd M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0440"/>
                <a:tab algn="l" pos="380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Hera outdoor + Hera VGA rejected by the board because of bad business cas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04840" y="3879720"/>
            <a:ext cx="6685200" cy="106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1360" indent="-1713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1360"/>
                <a:tab algn="l" pos="39996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SP65: S25 declared - going for S3 25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1360"/>
                <a:tab algn="l" pos="39996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SP65:  Samples of new rear cover and IMD foil received – quality is good. Rear cover is  released by SPM. IMD foil release expected on 02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1360"/>
                <a:tab algn="l" pos="39996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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SP65: Running change to lead free technology under discussion – request from lead free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35080" y="5070600"/>
            <a:ext cx="66628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SimSun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HW S4 declared on 21.01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W S4 was planned on 21.01.05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but has been significantly delayed due to missing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overall SW-quality (timeline under clarification). It will be declared together with the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other phase II projects for both the standard and the Blackberry variant. </a:t>
            </a:r>
            <a:r>
              <a:rPr b="1" lang="en-GB" sz="1200" spc="-1" strike="noStrike">
                <a:solidFill>
                  <a:srgbClr val="3366ff"/>
                </a:solidFill>
                <a:latin typeface="Arial"/>
                <a:ea typeface="SimSun"/>
              </a:rPr>
              <a:t>Impact on Z-</a:t>
            </a:r>
            <a:r>
              <a:rPr b="1" lang="en-GB" sz="1200" spc="-1" strike="noStrike">
                <a:solidFill>
                  <a:srgbClr val="3366ff"/>
                </a:solidFill>
                <a:latin typeface="Arial"/>
                <a:ea typeface="SimSun"/>
              </a:rPr>
              <a:t>	</a:t>
            </a:r>
            <a:r>
              <a:rPr b="1" lang="en-GB" sz="1200" spc="-1" strike="noStrike">
                <a:solidFill>
                  <a:srgbClr val="3366ff"/>
                </a:solidFill>
                <a:latin typeface="Arial"/>
                <a:ea typeface="SimSun"/>
              </a:rPr>
              <a:t>IDB-4 to be che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  <a:ea typeface="SimSun"/>
              </a:rPr>
              <a:t>New  Blackberry version 4.0 still not decided. Waiting for MP-Board dec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17480" y="5283360"/>
            <a:ext cx="228600" cy="652320"/>
            <a:chOff x="1617480" y="5283360"/>
            <a:chExt cx="228600" cy="652320"/>
          </a:xfrm>
        </p:grpSpPr>
        <p:sp>
          <p:nvSpPr>
            <p:cNvPr id="153" name=""/>
            <p:cNvSpPr/>
            <p:nvPr/>
          </p:nvSpPr>
          <p:spPr>
            <a:xfrm rot="5400000">
              <a:off x="1405440" y="54950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1667160" y="5548320"/>
              <a:ext cx="128520" cy="125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400000">
              <a:off x="1667160" y="576108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400000">
              <a:off x="1667160" y="534492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615680" y="3009960"/>
            <a:ext cx="228600" cy="652320"/>
            <a:chOff x="1615680" y="3009960"/>
            <a:chExt cx="228600" cy="652320"/>
          </a:xfrm>
        </p:grpSpPr>
        <p:sp>
          <p:nvSpPr>
            <p:cNvPr id="158" name=""/>
            <p:cNvSpPr/>
            <p:nvPr/>
          </p:nvSpPr>
          <p:spPr>
            <a:xfrm rot="5400000">
              <a:off x="1403640" y="32216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1665000" y="327456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1665360" y="3487320"/>
              <a:ext cx="12816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1665360" y="3071520"/>
              <a:ext cx="12816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615680" y="4060800"/>
            <a:ext cx="228600" cy="652320"/>
            <a:chOff x="1615680" y="4060800"/>
            <a:chExt cx="228600" cy="652320"/>
          </a:xfrm>
        </p:grpSpPr>
        <p:sp>
          <p:nvSpPr>
            <p:cNvPr id="163" name=""/>
            <p:cNvSpPr/>
            <p:nvPr/>
          </p:nvSpPr>
          <p:spPr>
            <a:xfrm rot="5400000">
              <a:off x="1403640" y="427248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1665000" y="432540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1665360" y="4538160"/>
              <a:ext cx="128160" cy="125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1665360" y="4122360"/>
              <a:ext cx="12816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61800" y="1904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roduct Project Highlights – Late Follo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3520" y="146988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52640" y="4229280"/>
            <a:ext cx="6590880" cy="817200"/>
            <a:chOff x="1952640" y="4229280"/>
            <a:chExt cx="6590880" cy="817200"/>
          </a:xfrm>
        </p:grpSpPr>
        <p:sp>
          <p:nvSpPr>
            <p:cNvPr id="170" name=""/>
            <p:cNvSpPr/>
            <p:nvPr/>
          </p:nvSpPr>
          <p:spPr>
            <a:xfrm>
              <a:off x="1952640" y="4229280"/>
              <a:ext cx="6590880" cy="81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1600" y="4229280"/>
              <a:ext cx="6522480" cy="8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36520" y="4495680"/>
            <a:ext cx="1190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7320" y="2589120"/>
            <a:ext cx="6586200" cy="1577520"/>
            <a:chOff x="1957320" y="2589120"/>
            <a:chExt cx="6586200" cy="1577520"/>
          </a:xfrm>
        </p:grpSpPr>
        <p:sp>
          <p:nvSpPr>
            <p:cNvPr id="174" name=""/>
            <p:cNvSpPr/>
            <p:nvPr/>
          </p:nvSpPr>
          <p:spPr>
            <a:xfrm>
              <a:off x="1957320" y="2589120"/>
              <a:ext cx="6586200" cy="1577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280" y="2589120"/>
              <a:ext cx="6517800" cy="15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2332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SimSun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lay of Adonis B1 prototype shop due to delayed arrival of test fixtures in SSMC.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First boards delivered on time using offline testing.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B1-run finalized 3 days after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schedule; no impact on B1+ tape out and project schedul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2332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Principal Design Decision for Adonis done. Due to wrong hinge concept, agreed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design will be reworked .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M0 is planned on 04.03.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buClr>
                  <a:srgbClr val="000000"/>
                </a:buClr>
                <a:buFont typeface="Wingdings" charset="2"/>
                <a:buChar char=""/>
                <a:tabLst>
                  <a:tab algn="l" pos="23328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Baya kick-off (Adonis II, TFT, MPix)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done. Realization will be done on SGL platform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with same PCB as Adonis. Due to wrong design assumptions, the Principal Design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Decision was delayed by two weeks to 09.02.05 and the M0 to 18.03.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31840" y="3017880"/>
            <a:ext cx="98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22080" y="1434960"/>
            <a:ext cx="228600" cy="652320"/>
            <a:chOff x="1522080" y="1434960"/>
            <a:chExt cx="228600" cy="652320"/>
          </a:xfrm>
        </p:grpSpPr>
        <p:sp>
          <p:nvSpPr>
            <p:cNvPr id="178" name=""/>
            <p:cNvSpPr/>
            <p:nvPr/>
          </p:nvSpPr>
          <p:spPr>
            <a:xfrm rot="5400000">
              <a:off x="1310040" y="16466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1571400" y="1699920"/>
              <a:ext cx="128520" cy="125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1571400" y="191268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1571400" y="149652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957320" y="1157400"/>
            <a:ext cx="6590880" cy="1367640"/>
            <a:chOff x="1957320" y="1157400"/>
            <a:chExt cx="6590880" cy="1367640"/>
          </a:xfrm>
        </p:grpSpPr>
        <p:sp>
          <p:nvSpPr>
            <p:cNvPr id="183" name=""/>
            <p:cNvSpPr/>
            <p:nvPr/>
          </p:nvSpPr>
          <p:spPr>
            <a:xfrm>
              <a:off x="1957320" y="1157400"/>
              <a:ext cx="6590880" cy="136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06280" y="1157400"/>
              <a:ext cx="652248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233280"/>
                  <a:tab algn="l" pos="343080"/>
                  <a:tab algn="l" pos="457200"/>
                  <a:tab algn="l" pos="571680"/>
                  <a:tab algn="l" pos="685800"/>
                  <a:tab algn="l" pos="800280"/>
                  <a:tab algn="l" pos="914400"/>
                  <a:tab algn="l" pos="1028880"/>
                  <a:tab algn="l" pos="1143000"/>
                  <a:tab algn="l" pos="1257480"/>
                  <a:tab algn="l" pos="1371600"/>
                  <a:tab algn="l" pos="1486080"/>
                  <a:tab algn="l" pos="1600200"/>
                  <a:tab algn="l" pos="1714680"/>
                  <a:tab algn="l" pos="1828800"/>
                  <a:tab algn="l" pos="1943280"/>
                  <a:tab algn="l" pos="2057400"/>
                  <a:tab algn="l" pos="2171880"/>
                  <a:tab algn="l" pos="2286000"/>
                  <a:tab algn="l" pos="2400480"/>
                  <a:tab algn="l" pos="2514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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2 declaration planned for 26.01.05.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S2 maturity reached on time but due to an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inconsistency in the SW-plan, CCQ suspended the S2 declaration until 04.02.05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buClr>
                  <a:srgbClr val="3333ff"/>
                </a:buClr>
                <a:buFont typeface="Wingdings" charset="2"/>
                <a:buChar char=""/>
                <a:tabLst>
                  <a:tab algn="l" pos="233280"/>
                  <a:tab algn="l" pos="343080"/>
                  <a:tab algn="l" pos="457200"/>
                  <a:tab algn="l" pos="571680"/>
                  <a:tab algn="l" pos="685800"/>
                  <a:tab algn="l" pos="800280"/>
                  <a:tab algn="l" pos="914400"/>
                  <a:tab algn="l" pos="1028880"/>
                  <a:tab algn="l" pos="1143000"/>
                  <a:tab algn="l" pos="1257480"/>
                  <a:tab algn="l" pos="1371600"/>
                  <a:tab algn="l" pos="1486080"/>
                  <a:tab algn="l" pos="1600200"/>
                  <a:tab algn="l" pos="1714680"/>
                  <a:tab algn="l" pos="1828800"/>
                  <a:tab algn="l" pos="1943280"/>
                  <a:tab algn="l" pos="2057400"/>
                  <a:tab algn="l" pos="2171880"/>
                  <a:tab algn="l" pos="2286000"/>
                  <a:tab algn="l" pos="2400480"/>
                  <a:tab algn="l" pos="2514600"/>
                </a:tabLst>
              </a:pP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New SW-schedule available shows delayed S25 and S3 SW milestones with no 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3333ff"/>
                  </a:solidFill>
                  <a:latin typeface="Arial"/>
                </a:rPr>
                <a:t>effect on the DS mileston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233280"/>
                  <a:tab algn="l" pos="343080"/>
                  <a:tab algn="l" pos="457200"/>
                  <a:tab algn="l" pos="571680"/>
                  <a:tab algn="l" pos="685800"/>
                  <a:tab algn="l" pos="800280"/>
                  <a:tab algn="l" pos="914400"/>
                  <a:tab algn="l" pos="1028880"/>
                  <a:tab algn="l" pos="1143000"/>
                  <a:tab algn="l" pos="1257480"/>
                  <a:tab algn="l" pos="1371600"/>
                  <a:tab algn="l" pos="1486080"/>
                  <a:tab algn="l" pos="1600200"/>
                  <a:tab algn="l" pos="1714680"/>
                  <a:tab algn="l" pos="1828800"/>
                  <a:tab algn="l" pos="1943280"/>
                  <a:tab algn="l" pos="2057400"/>
                  <a:tab algn="l" pos="2171880"/>
                  <a:tab algn="l" pos="2286000"/>
                  <a:tab algn="l" pos="2400480"/>
                  <a:tab algn="l" pos="25146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Some “must”-CRs can probably not be available for DS (PoC GUI, I-mode/Doj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buClr>
                  <a:srgbClr val="3333ff"/>
                </a:buClr>
                <a:buFont typeface="Wingdings" charset="2"/>
                <a:buChar char=""/>
                <a:tabLst>
                  <a:tab algn="l" pos="233280"/>
                  <a:tab algn="l" pos="343080"/>
                  <a:tab algn="l" pos="457200"/>
                  <a:tab algn="l" pos="571680"/>
                  <a:tab algn="l" pos="685800"/>
                  <a:tab algn="l" pos="800280"/>
                  <a:tab algn="l" pos="914400"/>
                  <a:tab algn="l" pos="1028880"/>
                  <a:tab algn="l" pos="1143000"/>
                  <a:tab algn="l" pos="1257480"/>
                  <a:tab algn="l" pos="1371600"/>
                  <a:tab algn="l" pos="1486080"/>
                  <a:tab algn="l" pos="1600200"/>
                  <a:tab algn="l" pos="1714680"/>
                  <a:tab algn="l" pos="1828800"/>
                  <a:tab algn="l" pos="1943280"/>
                  <a:tab algn="l" pos="2057400"/>
                  <a:tab algn="l" pos="2171880"/>
                  <a:tab algn="l" pos="2286000"/>
                  <a:tab algn="l" pos="2400480"/>
                  <a:tab algn="l" pos="2514600"/>
                </a:tabLst>
              </a:pP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Delay of flash memory delivery may lead to insufficient B1+ quantities at the agreed </a:t>
              </a: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3333ff"/>
                  </a:solidFill>
                  <a:latin typeface="Arial"/>
                </a:rPr>
                <a:t>dates – still under clarification with the memory suppli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971720" y="4253040"/>
            <a:ext cx="66088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Font typeface="Wingdings" charset="2"/>
              <a:buChar char="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M0 declared on 21.01.2005; S0 declaration, B1-TO and 80% mechanical data achieved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on 28.01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Less than 7 months between S0 and DS is challenging and very ri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SW-planning is z-IDB4 for Aries DS-SW - Risks: Stability, Phoenix/Sirius/Adonis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522080" y="3008160"/>
            <a:ext cx="228600" cy="652320"/>
            <a:chOff x="1522080" y="3008160"/>
            <a:chExt cx="228600" cy="652320"/>
          </a:xfrm>
        </p:grpSpPr>
        <p:sp>
          <p:nvSpPr>
            <p:cNvPr id="187" name=""/>
            <p:cNvSpPr/>
            <p:nvPr/>
          </p:nvSpPr>
          <p:spPr>
            <a:xfrm rot="5400000">
              <a:off x="1310040" y="32198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1571400" y="3273120"/>
              <a:ext cx="128520" cy="125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1571400" y="348588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1571400" y="306972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22080" y="4321080"/>
            <a:ext cx="228600" cy="652320"/>
            <a:chOff x="1522080" y="4321080"/>
            <a:chExt cx="228600" cy="652320"/>
          </a:xfrm>
        </p:grpSpPr>
        <p:sp>
          <p:nvSpPr>
            <p:cNvPr id="192" name=""/>
            <p:cNvSpPr/>
            <p:nvPr/>
          </p:nvSpPr>
          <p:spPr>
            <a:xfrm rot="5400000">
              <a:off x="1310040" y="453276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1571400" y="4586040"/>
              <a:ext cx="128520" cy="125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1571400" y="479880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1571400" y="438264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57320" y="5110200"/>
            <a:ext cx="6590880" cy="1017360"/>
            <a:chOff x="1957320" y="5110200"/>
            <a:chExt cx="6590880" cy="1017360"/>
          </a:xfrm>
        </p:grpSpPr>
        <p:sp>
          <p:nvSpPr>
            <p:cNvPr id="197" name=""/>
            <p:cNvSpPr/>
            <p:nvPr/>
          </p:nvSpPr>
          <p:spPr>
            <a:xfrm>
              <a:off x="1957320" y="5110200"/>
              <a:ext cx="6590880" cy="1017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06280" y="5110200"/>
              <a:ext cx="652248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41200" y="5452920"/>
            <a:ext cx="11908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6400" y="5143680"/>
            <a:ext cx="655164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SGL platform has been decided. Kick-off done on 21.01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PD-team not fully staffed – main problem is missing nomination of RF and EA PP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>
              <a:lnSpc>
                <a:spcPct val="100000"/>
              </a:lnSpc>
              <a:spcBef>
                <a:spcPts val="74"/>
              </a:spcBef>
              <a:buClr>
                <a:srgbClr val="3333ff"/>
              </a:buClr>
              <a:buFont typeface="Wingdings" charset="2"/>
              <a:buChar char="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Principal Design Decision planned on 17.02.2005 and M0 planned on 01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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One stack-up sent to designers based on dimensions of 104x46x17.5mm. Additional 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3333ff"/>
                </a:solidFill>
                <a:latin typeface="Arial"/>
              </a:rPr>
              <a:t>stack up concepts still under investi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517400" y="5268960"/>
            <a:ext cx="228600" cy="652320"/>
            <a:chOff x="1517400" y="5268960"/>
            <a:chExt cx="228600" cy="652320"/>
          </a:xfrm>
        </p:grpSpPr>
        <p:sp>
          <p:nvSpPr>
            <p:cNvPr id="202" name=""/>
            <p:cNvSpPr/>
            <p:nvPr/>
          </p:nvSpPr>
          <p:spPr>
            <a:xfrm rot="5400000">
              <a:off x="1305360" y="548064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1566720" y="5533920"/>
              <a:ext cx="128520" cy="1252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1566720" y="574668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1566720" y="5330520"/>
              <a:ext cx="128520" cy="12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2-07T05:19:43Z</dcterms:modified>
  <cp:revision>462</cp:revision>
  <dc:subject/>
  <dc:title>PowerPoint Presentation</dc:title>
</cp:coreProperties>
</file>