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6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14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19040" y="632448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99960" y="6114960"/>
            <a:ext cx="2543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M65 Rescue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68560" y="1214280"/>
            <a:ext cx="7325640" cy="4707720"/>
            <a:chOff x="1168560" y="1214280"/>
            <a:chExt cx="7325640" cy="4707720"/>
          </a:xfrm>
        </p:grpSpPr>
        <p:sp>
          <p:nvSpPr>
            <p:cNvPr id="91" name=""/>
            <p:cNvSpPr/>
            <p:nvPr/>
          </p:nvSpPr>
          <p:spPr>
            <a:xfrm>
              <a:off x="1168560" y="1214280"/>
              <a:ext cx="7325640" cy="470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2920" y="1214280"/>
              <a:ext cx="7249320" cy="47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339920" y="1389240"/>
            <a:ext cx="726912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15.11.04 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5.11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28.02.05 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8.02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04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4.03.05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 for CeB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Project finalized, no further activities planned except for normal sustain engine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CB and MMI board in “status 20”,  - released for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“Rescue” software SVN44 released. No further version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Red plastics, keypad and metal clamp unlimited released for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 phones planned for CeBit in CW09 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on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500 phones planned for CW10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on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No more phones planned in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7280" y="3894120"/>
            <a:ext cx="195120" cy="20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600" y="36320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7320" y="647712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Ole Byrdal COM MD PD PGG AAL /  11. March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chmitz Juergen</cp:lastModifiedBy>
  <cp:lastPrinted>2004-02-29T14:41:19Z</cp:lastPrinted>
  <dcterms:modified xsi:type="dcterms:W3CDTF">2005-03-11T10:12:12Z</dcterms:modified>
  <cp:revision>716</cp:revision>
  <dc:subject/>
  <dc:title>PowerPoint Presentation</dc:title>
</cp:coreProperties>
</file>