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65 S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11. Ma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19040" y="632448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99960" y="6114960"/>
            <a:ext cx="2543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P6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168560" y="1214280"/>
            <a:ext cx="7325640" cy="4707720"/>
            <a:chOff x="1168560" y="1214280"/>
            <a:chExt cx="7325640" cy="4707720"/>
          </a:xfrm>
        </p:grpSpPr>
        <p:sp>
          <p:nvSpPr>
            <p:cNvPr id="91" name=""/>
            <p:cNvSpPr/>
            <p:nvPr/>
          </p:nvSpPr>
          <p:spPr>
            <a:xfrm>
              <a:off x="1168560" y="1214280"/>
              <a:ext cx="7325640" cy="470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22920" y="1214280"/>
              <a:ext cx="7249320" cy="47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292400" y="1322280"/>
            <a:ext cx="705960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1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12.0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10.12.04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.03.0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25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.01.05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.01.05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4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2.04.0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3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.02.05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28.02.05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3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5.0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C type approval time line is tight. DS risk is less than 1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ope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VN47 available for DS. New release required to fulfil TMO requirements and to declare S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ope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lot series successfully comple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ion start 17.03.05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7280" y="3894120"/>
            <a:ext cx="195120" cy="20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2600" y="36320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7320" y="6477120"/>
            <a:ext cx="363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Claus Dalmose COM MD PD PGG AAL /  11. March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Claus Dalmose</dc:creator>
  <dc:description/>
  <dc:language>en-US</dc:language>
  <cp:lastModifiedBy>Claus Dalmose</cp:lastModifiedBy>
  <cp:lastPrinted>2004-02-29T14:41:19Z</cp:lastPrinted>
  <dcterms:modified xsi:type="dcterms:W3CDTF">2005-03-11T13:27:58Z</dcterms:modified>
  <cp:revision>721</cp:revision>
  <dc:subject>Project status reporting for PSR</dc:subject>
  <dc:title>SP65 Status</dc:title>
</cp:coreProperties>
</file>