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75 SG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arch</a:t>
            </a: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Phoenix/Siri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649520"/>
            <a:ext cx="11844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enix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r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08000" y="1120680"/>
            <a:ext cx="7719840" cy="4929840"/>
            <a:chOff x="1008000" y="1120680"/>
            <a:chExt cx="7719840" cy="4929840"/>
          </a:xfrm>
        </p:grpSpPr>
        <p:sp>
          <p:nvSpPr>
            <p:cNvPr id="91" name=""/>
            <p:cNvSpPr/>
            <p:nvPr/>
          </p:nvSpPr>
          <p:spPr>
            <a:xfrm>
              <a:off x="1008000" y="1120680"/>
              <a:ext cx="7719840" cy="492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65240" y="1120680"/>
              <a:ext cx="7639560" cy="49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014480" y="1170000"/>
            <a:ext cx="6977160" cy="54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V-Milestones Phoenix/Siriu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06.04 / 10.06.0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09.04 / 03.09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.10.04 / 05.11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.11.04 / 12.11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.01.05 / 0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.04.05 / 14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 Sta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5.05 / 20.05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 SW Freeze   13.05.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.05.05 / 25.05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.05.05 / 02.06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06.05 / 28.06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.-Control-Bug in Intel Memory (Flash/SRAM) may lead to decreased standby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Countermeasures under eval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ey Function of the Project Team stuffed with not so experienced Colleagu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-Maturity at Operator Approval / 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Help from experienced Experts &amp; Commitment form Mario Topel to reach 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 of Phoenix-Mechanics due to belated Samples in Shanghai may delay 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Countermeasures under Eval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alignment of Phoenix-Joystick =&gt; Countermeasures under Eval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Free Soldering Process seems not to be stable yet (Mozart and I/O-Connecto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ccessories of 75 Generation will not be supported by Phoenix and Siri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totyp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done, B1+ ongoing, no change form B1+ to B2 Layout plan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4800" y="2425680"/>
            <a:ext cx="28764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3840" y="2697120"/>
            <a:ext cx="144360" cy="144360"/>
          </a:xfrm>
          <a:prstGeom prst="ellipse">
            <a:avLst/>
          </a:prstGeom>
          <a:solidFill>
            <a:srgbClr val="66ff33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3840" y="2886120"/>
            <a:ext cx="144360" cy="14436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394080" y="1444680"/>
            <a:ext cx="111240" cy="115920"/>
            <a:chOff x="3394080" y="1444680"/>
            <a:chExt cx="111240" cy="115920"/>
          </a:xfrm>
        </p:grpSpPr>
        <p:sp>
          <p:nvSpPr>
            <p:cNvPr id="98" name=""/>
            <p:cNvSpPr/>
            <p:nvPr/>
          </p:nvSpPr>
          <p:spPr>
            <a:xfrm>
              <a:off x="3394080" y="151956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441600" y="144468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384720" y="1649520"/>
            <a:ext cx="110520" cy="115920"/>
            <a:chOff x="3384720" y="1649520"/>
            <a:chExt cx="110520" cy="115920"/>
          </a:xfrm>
        </p:grpSpPr>
        <p:sp>
          <p:nvSpPr>
            <p:cNvPr id="101" name=""/>
            <p:cNvSpPr/>
            <p:nvPr/>
          </p:nvSpPr>
          <p:spPr>
            <a:xfrm>
              <a:off x="3384720" y="172440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431880" y="1649520"/>
              <a:ext cx="6336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390840" y="1838160"/>
            <a:ext cx="111240" cy="115920"/>
            <a:chOff x="3390840" y="1838160"/>
            <a:chExt cx="111240" cy="115920"/>
          </a:xfrm>
        </p:grpSpPr>
        <p:sp>
          <p:nvSpPr>
            <p:cNvPr id="104" name=""/>
            <p:cNvSpPr/>
            <p:nvPr/>
          </p:nvSpPr>
          <p:spPr>
            <a:xfrm>
              <a:off x="3390840" y="191304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3438360" y="183816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389400" y="2043000"/>
            <a:ext cx="110520" cy="115920"/>
            <a:chOff x="3389400" y="2043000"/>
            <a:chExt cx="110520" cy="115920"/>
          </a:xfrm>
        </p:grpSpPr>
        <p:sp>
          <p:nvSpPr>
            <p:cNvPr id="107" name=""/>
            <p:cNvSpPr/>
            <p:nvPr/>
          </p:nvSpPr>
          <p:spPr>
            <a:xfrm>
              <a:off x="3389400" y="211788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3436560" y="2043000"/>
              <a:ext cx="6336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387600" y="2247840"/>
            <a:ext cx="111240" cy="115920"/>
            <a:chOff x="3387600" y="2247840"/>
            <a:chExt cx="111240" cy="115920"/>
          </a:xfrm>
        </p:grpSpPr>
        <p:sp>
          <p:nvSpPr>
            <p:cNvPr id="110" name=""/>
            <p:cNvSpPr/>
            <p:nvPr/>
          </p:nvSpPr>
          <p:spPr>
            <a:xfrm>
              <a:off x="3387600" y="232272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435120" y="224784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92040" y="250524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2840" y="1395360"/>
            <a:ext cx="3906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13160" y="1212840"/>
            <a:ext cx="4214880" cy="238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ighl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 still feasi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 and SW well prepared for CeB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 stability one week after S25 SW Freeze already remarkable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C+ working well (HW and SW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f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Development Cost in clar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53520" y="2428920"/>
            <a:ext cx="228600" cy="652320"/>
            <a:chOff x="353520" y="2428920"/>
            <a:chExt cx="228600" cy="652320"/>
          </a:xfrm>
        </p:grpSpPr>
        <p:sp>
          <p:nvSpPr>
            <p:cNvPr id="116" name=""/>
            <p:cNvSpPr/>
            <p:nvPr/>
          </p:nvSpPr>
          <p:spPr>
            <a:xfrm rot="5400000">
              <a:off x="141480" y="264060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402840" y="2481120"/>
              <a:ext cx="128520" cy="12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402840" y="2693880"/>
              <a:ext cx="128520" cy="125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402840" y="2906640"/>
              <a:ext cx="128520" cy="12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Gregor Flüge</cp:lastModifiedBy>
  <cp:lastPrinted>2004-02-29T14:41:19Z</cp:lastPrinted>
  <dcterms:modified xsi:type="dcterms:W3CDTF">2005-03-06T22:25:02Z</dcterms:modified>
  <cp:revision>717</cp:revision>
  <dc:subject/>
  <dc:title>PowerPoint Presentation</dc:title>
</cp:coreProperties>
</file>