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92EE-967A-4224-8476-A04AF60396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0C8B-CF05-4988-8D97-B4D1814D1F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8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7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 rot="406800">
            <a:off x="2347920" y="1353600"/>
            <a:ext cx="5371920" cy="723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440">
                  <a:solidFill>
                    <a:srgbClr val="ddddd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oadmap planning</a:t>
            </a:r>
            <a:endParaRPr b="0" i="1" lang="en-US" sz="2000" spc="1" strike="noStrike">
              <a:ln w="1440">
                <a:solidFill>
                  <a:srgbClr val="ddddd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17680"/>
            <a:ext cx="118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9880" y="1117440"/>
            <a:ext cx="6657840" cy="12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872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324440" y="1580400"/>
            <a:ext cx="652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585800" y="142056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585800" y="16333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1585800" y="18460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580400" y="1630080"/>
            <a:ext cx="12888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998880"/>
            <a:ext cx="199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022480" y="2389320"/>
            <a:ext cx="6638400" cy="4304520"/>
            <a:chOff x="2022480" y="2389320"/>
            <a:chExt cx="6638400" cy="4304520"/>
          </a:xfrm>
        </p:grpSpPr>
        <p:sp>
          <p:nvSpPr>
            <p:cNvPr id="106" name=""/>
            <p:cNvSpPr/>
            <p:nvPr/>
          </p:nvSpPr>
          <p:spPr>
            <a:xfrm>
              <a:off x="2022480" y="2389320"/>
              <a:ext cx="6638400" cy="430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71800" y="2389320"/>
              <a:ext cx="6569280" cy="43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ilestones, timeline, primavera plann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target M0 31.03.2005 looks today not feasible from SW platform point of view (refer to major threat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later milestones are not yet verifie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primavera planning in platform projects HW/ST1 starte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evelopment aspe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Feature discussion for rel2 finish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SW top level requirements froz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HW feature list froz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M@4 tape out done covering latest 85 product requirem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collection of HW to SW requirements star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jor thre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SW top level requirements are not assigned to component projec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transfer requirements to SW feature list, AI CTO TS CW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start C0/CS0 investigation in DL/CA CW1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SW resources are currently not suffici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under clarification: several (co) PL SW, primavera support, AI SWP  CW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under clarification: architects, support from component projects, AI SWC CW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SW planning not yet starte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start of primavera planning depending on support, AI refer to abov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SIP planning to be started on HW to SW requirements, CW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SW feature set does (partly) not fit to product stories, key OP feature miss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no CR buffer/budget available to add or change SW feature, </a:t>
              </a:r>
              <a:r>
                <a:rPr b="0" lang="en-GB" sz="1100" spc="-1" strike="noStrike">
                  <a:solidFill>
                    <a:srgbClr val="ff0000"/>
                  </a:solidFill>
                  <a:latin typeface="Arial"/>
                </a:rPr>
                <a:t>AI TBD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pre development SW solution w/o Gimmick chip is not closed y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multimedia feature open for Swift, Ibis.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s fallback ATI Gimmick chip to be considered in stack up concepts (-&gt; BCs endangered!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095560" y="1247760"/>
            <a:ext cx="6057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0 (rel2) target  03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S (rel2) target  02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96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Pol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70320"/>
            <a:ext cx="1184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14680" y="1395360"/>
            <a:ext cx="7021080" cy="4399920"/>
            <a:chOff x="1714680" y="1395360"/>
            <a:chExt cx="7021080" cy="4399920"/>
          </a:xfrm>
        </p:grpSpPr>
        <p:sp>
          <p:nvSpPr>
            <p:cNvPr id="113" name=""/>
            <p:cNvSpPr/>
            <p:nvPr/>
          </p:nvSpPr>
          <p:spPr>
            <a:xfrm>
              <a:off x="1714680" y="1395360"/>
              <a:ext cx="7021080" cy="4399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6880" y="1395360"/>
              <a:ext cx="6948000" cy="43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43120" y="1468440"/>
            <a:ext cx="696420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03/05 (     HW reached M0 status 28.02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 04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05/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PV Planning done (except S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HW/MD status re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 TO scheduled 31.0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- Platform SW M0 03/05 seems not to be feasible -&gt; DS 02/06 on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7440" y="3139920"/>
            <a:ext cx="28764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480" y="32115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76480" y="3411360"/>
            <a:ext cx="144360" cy="14472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76480" y="360036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29080" y="1663200"/>
            <a:ext cx="177120" cy="215640"/>
            <a:chOff x="2629080" y="1663200"/>
            <a:chExt cx="177120" cy="215640"/>
          </a:xfrm>
        </p:grpSpPr>
        <p:sp>
          <p:nvSpPr>
            <p:cNvPr id="121" name=""/>
            <p:cNvSpPr/>
            <p:nvPr/>
          </p:nvSpPr>
          <p:spPr>
            <a:xfrm>
              <a:off x="2629080" y="1803240"/>
              <a:ext cx="63000" cy="6336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704680" y="1663200"/>
              <a:ext cx="101520" cy="2156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Swift/ Ib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37176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f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3760" y="33908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3760" y="3591000"/>
            <a:ext cx="14472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3760" y="3780000"/>
            <a:ext cx="14472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14680" y="1395360"/>
            <a:ext cx="7021080" cy="4656960"/>
            <a:chOff x="1714680" y="1395360"/>
            <a:chExt cx="7021080" cy="4656960"/>
          </a:xfrm>
        </p:grpSpPr>
        <p:sp>
          <p:nvSpPr>
            <p:cNvPr id="130" name=""/>
            <p:cNvSpPr/>
            <p:nvPr/>
          </p:nvSpPr>
          <p:spPr>
            <a:xfrm>
              <a:off x="1714680" y="1395360"/>
              <a:ext cx="7021080" cy="465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66880" y="1395360"/>
              <a:ext cx="6948000" cy="46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743120" y="1468440"/>
            <a:ext cx="696420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and Ibis rough hardware project timeline worked out &gt;&gt; DS targets reach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Swift Primavera Workshop 07.03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 decision on Swift and Ibis stack-up yet because of ongoing battery selec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ft DS delay &gt; 2weeks if no decision until tomorrow and if other solution than 1 o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housing 90/46/17, Sanyo customized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&gt; too expensive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mer working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ousing 94/46/17, Panasonic standar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&gt; too b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housing 90/46/16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yo standar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&gt; mechanical compromises, Ibis stack-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housing ?92/48/17?, Panasonic alternative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&gt; evaluation ongoing, first outpu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I Chipset decision p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and/or Ibis with or without ATI2282 &gt;&gt; decision needed until 18.03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of CTO investigation on 09.03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I population option will increase length of Swift and Ibis by ~0.7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wift BOM target &gt;&gt; cannot be met righ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70€ over life cycle needed to reach 7,5% E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BOM calculation of 04.03.2005 indicate 95€ at launch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latform SW timeline missing &gt;&gt; overall project planning not possi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 milestone planning and SW prototype shop support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9160" y="19044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Baya/Macaw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61960" y="1498680"/>
            <a:ext cx="7021440" cy="4399920"/>
            <a:chOff x="1461960" y="1498680"/>
            <a:chExt cx="7021440" cy="4399920"/>
          </a:xfrm>
        </p:grpSpPr>
        <p:sp>
          <p:nvSpPr>
            <p:cNvPr id="135" name=""/>
            <p:cNvSpPr/>
            <p:nvPr/>
          </p:nvSpPr>
          <p:spPr>
            <a:xfrm>
              <a:off x="1461960" y="1498680"/>
              <a:ext cx="7021440" cy="4399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14160" y="1498680"/>
              <a:ext cx="6948360" cy="43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333360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ya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50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23760" y="33908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3760" y="3591000"/>
            <a:ext cx="14472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3760" y="378000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88960" y="1569960"/>
            <a:ext cx="69645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in process – target is 10.03.05 for the first draft of the mechanical (main) sched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eeable that the M0 date (31.03.05) is endang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concept in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B placement in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 team is annou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 not selected – big impact to mechanical conce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definition not fin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two speaker concept not decided – impact to de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set close to Swift but selling price target for Baya 20,-€ below Swif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esigner in the t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aw unclear – where will it be done, is a team announc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 M.Weigang</cp:lastModifiedBy>
  <cp:lastPrinted>2004-02-29T14:41:19Z</cp:lastPrinted>
  <dcterms:modified xsi:type="dcterms:W3CDTF">2005-03-07T09:02:00Z</dcterms:modified>
  <cp:revision>7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3882876</vt:r8>
  </property>
  <property fmtid="{D5CDD505-2E9C-101B-9397-08002B2CF9AE}" pid="3" name="_AuthorEmail">
    <vt:lpwstr>michael.weigang@siemens.com</vt:lpwstr>
  </property>
  <property fmtid="{D5CDD505-2E9C-101B-9397-08002B2CF9AE}" pid="4" name="_AuthorEmailDisplayName">
    <vt:lpwstr>Weigang Michael Com MD PD PGG</vt:lpwstr>
  </property>
  <property fmtid="{D5CDD505-2E9C-101B-9397-08002B2CF9AE}" pid="5" name="_EmailSubject">
    <vt:lpwstr>Hallo Michael, ich habe die Powerpoint Presentationen von der SG2 T-PSR vom 7.3. vertrödelt. Hast du die noch und kannst du sie mir nochmals schicken. Danke Jürgen</vt:lpwstr>
  </property>
</Properties>
</file>