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11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9160" y="19044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aya/Macaw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61960" y="1498680"/>
            <a:ext cx="7021440" cy="4399920"/>
            <a:chOff x="1461960" y="1498680"/>
            <a:chExt cx="7021440" cy="4399920"/>
          </a:xfrm>
        </p:grpSpPr>
        <p:sp>
          <p:nvSpPr>
            <p:cNvPr id="89" name=""/>
            <p:cNvSpPr/>
            <p:nvPr/>
          </p:nvSpPr>
          <p:spPr>
            <a:xfrm>
              <a:off x="1461960" y="1498680"/>
              <a:ext cx="7021440" cy="4399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14160" y="1498680"/>
              <a:ext cx="6948360" cy="43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0" y="333360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y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50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3760" y="33908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3760" y="359100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3760" y="378000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8960" y="1569960"/>
            <a:ext cx="6964560" cy="45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in process – reworked mechanical (main) schedule from the 10.03.05 is realising the DS = 28.02.0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TA information are available but need to be optimized in order to keep the DS that should be possible but need to be confirmed until 16.03.0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confirmation for the display will take more time. Date tb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0 date need to be shifted from the 30.03.05 to the 15.04.05 due to the missing design. Therefore no parts list as base for a calculation, no TTD for a supplier pre selection, no UI test, no antenna progress as needed, technologies no know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Review at the 11.03.05 in Munich and Designer in house at the 14.03.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concept in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B placement in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 team is annou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ttery is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definition is almost finalized and will be send to the suppliers latest beginning of week 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set close to Swift but selling price target for Baya 20,-€ below Swif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aw unclear – where will it be done, is a team announc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chmitz Juergen</cp:lastModifiedBy>
  <cp:lastPrinted>2004-02-29T14:41:19Z</cp:lastPrinted>
  <dcterms:modified xsi:type="dcterms:W3CDTF">2005-03-11T11:34:46Z</dcterms:modified>
  <cp:revision>719</cp:revision>
  <dc:subject/>
  <dc:title>PowerPoint Presentation</dc:title>
</cp:coreProperties>
</file>