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C67-EFD3-43D1-A0B0-6AB27DE762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E26-45AF-4218-A474-52C4F98936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7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406800">
            <a:off x="2347920" y="1353600"/>
            <a:ext cx="537192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440">
                  <a:solidFill>
                    <a:srgbClr val="ddddd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admap planning</a:t>
            </a:r>
            <a:endParaRPr b="0" i="1" lang="en-US" sz="2000" spc="1" strike="noStrike">
              <a:ln w="1440">
                <a:solidFill>
                  <a:srgbClr val="ddddd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76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22480" y="2389320"/>
            <a:ext cx="6638400" cy="4304520"/>
            <a:chOff x="2022480" y="2389320"/>
            <a:chExt cx="6638400" cy="4304520"/>
          </a:xfrm>
        </p:grpSpPr>
        <p:sp>
          <p:nvSpPr>
            <p:cNvPr id="106" name=""/>
            <p:cNvSpPr/>
            <p:nvPr/>
          </p:nvSpPr>
          <p:spPr>
            <a:xfrm>
              <a:off x="2022480" y="2389320"/>
              <a:ext cx="6638400" cy="430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1800" y="2389320"/>
              <a:ext cx="6569280" cy="43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target M0 31.03.2005 looks today not feasible from SW platform point of view (refer to major threat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later milestones are not yet verifi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primavera planning in platform projects HW/ST1 start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Feature discussion for rel2 finish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W top level requirements froz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HW feature list froz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M@4 tape out done covering latest 85 product requi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collection of HW to SW requirements star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top level requirements are not assigned to component projec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ransfer requirements to SW feature list, AI CTO TS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tart C0/CS0 investigation in DL/CA CW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resources are currently not suffici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under clarification: several (co) PL SW, primavera support, AI SWP 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under clarification: architects, support from component projects, AI SWC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W planning not yet start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tart of primavera planning depending on support, AI refer to abov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IP planning to be started on HW to SW requirements, CW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feature set does (partly) not fit to product stories, key OP feature mis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no CR buffer/budget available to add or change SW feature,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AI TBD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re development SW solution w/o Gimmick chip is not closed y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multimedia feature open for Swift, Ibis.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s fallback ATI Gimmick chip to be considered in stack up concepts (-&gt; BCs endangered!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95560" y="1247760"/>
            <a:ext cx="605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 03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14680" y="1395360"/>
            <a:ext cx="7021080" cy="4399920"/>
            <a:chOff x="1714680" y="1395360"/>
            <a:chExt cx="7021080" cy="4399920"/>
          </a:xfrm>
        </p:grpSpPr>
        <p:sp>
          <p:nvSpPr>
            <p:cNvPr id="113" name=""/>
            <p:cNvSpPr/>
            <p:nvPr/>
          </p:nvSpPr>
          <p:spPr>
            <a:xfrm>
              <a:off x="1714680" y="1395360"/>
              <a:ext cx="7021080" cy="439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6880" y="1395360"/>
              <a:ext cx="694800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43120" y="1468440"/>
            <a:ext cx="69642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03/05 (     HW reached M0 status 28.02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05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PV Planning done (except S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HW/MD status re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TO scheduled 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- Platform SW M0 03/05 seems not to be feasible -&gt; DS 02/06 o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29080" y="1663200"/>
            <a:ext cx="177120" cy="215640"/>
            <a:chOff x="2629080" y="1663200"/>
            <a:chExt cx="177120" cy="215640"/>
          </a:xfrm>
        </p:grpSpPr>
        <p:sp>
          <p:nvSpPr>
            <p:cNvPr id="121" name=""/>
            <p:cNvSpPr/>
            <p:nvPr/>
          </p:nvSpPr>
          <p:spPr>
            <a:xfrm>
              <a:off x="2629080" y="1803240"/>
              <a:ext cx="63000" cy="633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704680" y="1663200"/>
              <a:ext cx="101520" cy="2156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/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7176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14680" y="1395360"/>
            <a:ext cx="7021080" cy="4656960"/>
            <a:chOff x="1714680" y="1395360"/>
            <a:chExt cx="7021080" cy="4656960"/>
          </a:xfrm>
        </p:grpSpPr>
        <p:sp>
          <p:nvSpPr>
            <p:cNvPr id="130" name=""/>
            <p:cNvSpPr/>
            <p:nvPr/>
          </p:nvSpPr>
          <p:spPr>
            <a:xfrm>
              <a:off x="1714680" y="1395360"/>
              <a:ext cx="7021080" cy="465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66880" y="1395360"/>
              <a:ext cx="69480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43120" y="1468440"/>
            <a:ext cx="69642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 Ibis rough hardware project timeline worked out &gt;&gt; DS targets reach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Swift Primavera Workshop 07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decision on Swift and Ibis stack-up yet because of ongoing battery selec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ft DS delay &gt; 2weeks if no decision until tomorrow and if other solution than 1 o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housing 90/46/17, Sanyo customized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too expensive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mer working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ousing 94/46/17, Panasonic standar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too b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ing 90/46/16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yo standar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mechanical compromises, Ibis stack-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ousing ?92/48/17?, Panasonic alternativ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evaluation ongoing, first outpu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I Chipset decision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/or Ibis with or without ATI2282 &gt;&gt; decision needed until 18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of CTO investigation on 09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population option will increase length of Swift and Ibis by ~0.7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wift BOM target &gt;&gt; cannot be met righ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70€ over life cycle needed to reach 7,5% 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BOM calculation of 04.03.2005 indicate 95€ at launc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latform SW timeline missing &gt;&gt; overall project planning not poss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milestone planning and SW prototype shop support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9160" y="190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aya/Macaw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61960" y="1498680"/>
            <a:ext cx="7021440" cy="4399920"/>
            <a:chOff x="1461960" y="1498680"/>
            <a:chExt cx="7021440" cy="4399920"/>
          </a:xfrm>
        </p:grpSpPr>
        <p:sp>
          <p:nvSpPr>
            <p:cNvPr id="135" name=""/>
            <p:cNvSpPr/>
            <p:nvPr/>
          </p:nvSpPr>
          <p:spPr>
            <a:xfrm>
              <a:off x="1461960" y="1498680"/>
              <a:ext cx="7021440" cy="439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14160" y="1498680"/>
              <a:ext cx="694836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333360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y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88960" y="1569960"/>
            <a:ext cx="69645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in process – target is 10.03.05 for the first draft of the mechanical (main)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eeable that the M0 date (31.03.05) is endang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concep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B placemen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 team is annou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not selected – big impact to mechanical con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definition not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two speaker concept not decided – impact to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set close to Swift but selling price target for Baya 20,-€ below Swif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esigner in the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aw unclear – where will it be done, is a team announc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M.Weigang</cp:lastModifiedBy>
  <cp:lastPrinted>2004-02-29T14:41:19Z</cp:lastPrinted>
  <dcterms:modified xsi:type="dcterms:W3CDTF">2005-03-07T09:02:00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3882876</vt:r8>
  </property>
  <property fmtid="{D5CDD505-2E9C-101B-9397-08002B2CF9AE}" pid="3" name="_AuthorEmail">
    <vt:lpwstr>michael.weigang@siemens.com</vt:lpwstr>
  </property>
  <property fmtid="{D5CDD505-2E9C-101B-9397-08002B2CF9AE}" pid="4" name="_AuthorEmailDisplayName">
    <vt:lpwstr>Weigang Michael Com MD PD PGG</vt:lpwstr>
  </property>
  <property fmtid="{D5CDD505-2E9C-101B-9397-08002B2CF9AE}" pid="5" name="_EmailSubject">
    <vt:lpwstr>Hallo Michael, ich habe die Powerpoint Presentationen von der SG2 T-PSR vom 7.3. vertrödelt. Hast du die noch und kannst du sie mir nochmals schicken. Danke Jürgen</vt:lpwstr>
  </property>
</Properties>
</file>