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AC0D-5077-4BE7-A0EB-C6FA09AAD72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C0FC-6377-4F45-8AD9-3E4F67370D7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2580-6343-42DA-A8C4-8E3BF8511EA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X75 S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7.03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389240"/>
            <a:ext cx="133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60640" y="1079640"/>
            <a:ext cx="1649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0         30.06.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0 SW   20.08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0 HW   27.08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1         30.11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15        03.12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17960" y="1074600"/>
            <a:ext cx="1771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             02.03.200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5               24.06.20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 AS (TA) 27.06.20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                01.07.200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 HW           01.07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 (1st)         05.08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61120" y="1084320"/>
            <a:ext cx="164772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KA             5.08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                26.08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(1st)       15.09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 S4 HW  30.09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4                 01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3                02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22480" y="1041480"/>
            <a:ext cx="6229440" cy="114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1200" y="18432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7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324440" y="149436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1585800" y="133488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585800" y="15476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1585800" y="17604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1580760" y="154440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008600"/>
            <a:ext cx="1987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09880" y="2236680"/>
            <a:ext cx="6238440" cy="4466880"/>
            <a:chOff x="2009880" y="2236680"/>
            <a:chExt cx="6238440" cy="4466880"/>
          </a:xfrm>
        </p:grpSpPr>
        <p:sp>
          <p:nvSpPr>
            <p:cNvPr id="108" name=""/>
            <p:cNvSpPr/>
            <p:nvPr/>
          </p:nvSpPr>
          <p:spPr>
            <a:xfrm>
              <a:off x="2009880" y="2236680"/>
              <a:ext cx="6238440" cy="446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6320" y="2236680"/>
              <a:ext cx="6173640" cy="44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lestones, timeline, primavera planning (base M1 schedule)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2 maturity reached with miner restric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S25 highly endangered, DS under investigation, SW re-planning ongo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inalized planning will be available 10/03/2005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 PV planning under investigation, resource overload in some are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echnical aspects, next ste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 support of B1+ prod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TI Sample delivery to be secured for B1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W support available but not tested on new ATI samp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ecure SW deliveries for prod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jor thre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R buffer (CA + DL activities) exceeded for some compon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greement with PD management to set CRs related to those components on ho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 no CR buffer left regarding ST1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R budget (consultant) is currently not secured for e.g. CR438 Infusio ca. 200K Eu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udget is considered in the last PD plan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SWC PO status unknown, AI TB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sultant PO ordering (SWC) was again fully stopped in CW7/8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nd time since mid of Jan., delay in S25 expec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install PO monitoring in SWC, SWP, AI TB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OC 75 (MMB 1.5) is currently not secured due to resource conflicts at Comneon (changed prios and new tasks at Comneo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proposal from SWP to hire PSE resources, status PO unknown, impact to project schedule open, AI TB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 additional budget savings at SWC required (2 Mio Eur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impact to Sg2 rel1 TBC, AI TB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>
                <a:lnSpc>
                  <a:spcPct val="100000"/>
                </a:lnSpc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>
                <a:lnSpc>
                  <a:spcPct val="100000"/>
                </a:lnSpc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>
                <a:lnSpc>
                  <a:spcPct val="100000"/>
                </a:lnSpc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8080" y="16524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Min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70320"/>
            <a:ext cx="1184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1320" y="3139920"/>
            <a:ext cx="28728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321156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3600360"/>
            <a:ext cx="14472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19120" y="1468440"/>
            <a:ext cx="6964560" cy="433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estones, timeline, primavera planning (base M1 schedul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S2 declared o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S25/DS under investigation, refer to platform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Primavera planning on track, investigation regarding resource overload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Evaluation of new ATI chip ongoing (at ATI 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W to SW requirements agreed for SIP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B1+ prototype shop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planned: start B1+ first shot 07.03.05,  B1+ Main run 14.03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preparing of test line ongoing (base pre-SIP6-S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W schedule re-planning (CA) ongoing =&gt; high risk for shifting the S25 and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livery date of new ATI (A21) samples delayed (best case just in time for B1+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SW support of new ATI A21 not te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Late ATI SW-delivery is root cause for shifting SIP6 SW-delivery by 2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High risk for planned timeline B1+ run due to missing test and stabilization ph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ototype shop (originally planned 2 week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elay for B1+ SW delivery due to tooling problems (delivery CDB to IDB interrup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start B1+ delayed by at least 3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95320" y="3403440"/>
            <a:ext cx="155520" cy="165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2120" y="1652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2400" spc="-1" strike="noStrike">
                <a:solidFill>
                  <a:srgbClr val="6d2435"/>
                </a:solidFill>
                <a:latin typeface="Arial"/>
              </a:rPr>
              <a:t>SG2 products – Hydr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61960" y="1155600"/>
            <a:ext cx="7021440" cy="4926600"/>
            <a:chOff x="1461960" y="1155600"/>
            <a:chExt cx="7021440" cy="4926600"/>
          </a:xfrm>
        </p:grpSpPr>
        <p:sp>
          <p:nvSpPr>
            <p:cNvPr id="120" name=""/>
            <p:cNvSpPr/>
            <p:nvPr/>
          </p:nvSpPr>
          <p:spPr>
            <a:xfrm>
              <a:off x="1461960" y="1155600"/>
              <a:ext cx="7021440" cy="492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4160" y="1155600"/>
              <a:ext cx="6948360" cy="49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0" y="3511440"/>
            <a:ext cx="1184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yd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90760" y="1076400"/>
            <a:ext cx="696420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estones, timeline, primavera planning (base M1 schedul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S2 declar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25/DS under investigation, refer to platform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Primavera planning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B1+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B1+ population start 9.3.05. B1+ Main run 15.3.05. Timeline on 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Assembly Lumberg start 7.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Securing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ource 768Mbit memory from AMD (3 d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HW to SW requirements agreed for SIP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- PI Engineering – Re-new contracts possi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Lumberg has got financial difficu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 schedule re-planning (CA) ongoing  =&gt; potential risk for S25 and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ate delivery of ATI chip A21 samples critical (best case just in time for B1+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SW support of new ATI A21 not tes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Late ATI SW-delivery is root cause for shifting SIP6 SW-delivery by 2 week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High risk for planned timeline B1+ run due to missing test and stabilisation phase 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prototype shop (originally planned 2 week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50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3760" y="33908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3760" y="3591000"/>
            <a:ext cx="14472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3760" y="3780000"/>
            <a:ext cx="14472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60600" y="1065240"/>
            <a:ext cx="34243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D-team statu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Karsten Roar 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ørensen, PL-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X75 SG2 platform - Highligh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2166840"/>
            <a:ext cx="1660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52520" y="1379520"/>
            <a:ext cx="6367320" cy="2424600"/>
            <a:chOff x="2252520" y="1379520"/>
            <a:chExt cx="6367320" cy="2424600"/>
          </a:xfrm>
        </p:grpSpPr>
        <p:sp>
          <p:nvSpPr>
            <p:cNvPr id="134" name=""/>
            <p:cNvSpPr/>
            <p:nvPr/>
          </p:nvSpPr>
          <p:spPr>
            <a:xfrm>
              <a:off x="2252520" y="1379520"/>
              <a:ext cx="6367320" cy="242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99680" y="1379520"/>
              <a:ext cx="6301080" cy="24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5400000">
            <a:off x="1595880" y="235656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1857240" y="21970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1857240" y="2409840"/>
            <a:ext cx="128520" cy="12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857240" y="2622600"/>
            <a:ext cx="12888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861920" y="24145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22360" y="1469880"/>
            <a:ext cx="70581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+ S2 of SW and SP declared 02.03.2005 on schedule; 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90% of QA mandatory requirements ful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+ Only 5 C15 declarations open, which are still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dget Impacts: more detailed update of plan expected from CA until 09.03.05 lat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 Preparing B1+ production SW (SIP6) ongoing; still on ris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 Workload cannot be covered by PL-SW-Variant and one Co-PL 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(4 additional colleagues were planned until approval start). Timeline highly endangered!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25520" y="4013280"/>
            <a:ext cx="6394320" cy="2021400"/>
            <a:chOff x="2225520" y="4013280"/>
            <a:chExt cx="6394320" cy="2021400"/>
          </a:xfrm>
        </p:grpSpPr>
        <p:sp>
          <p:nvSpPr>
            <p:cNvPr id="143" name=""/>
            <p:cNvSpPr/>
            <p:nvPr/>
          </p:nvSpPr>
          <p:spPr>
            <a:xfrm>
              <a:off x="2225520" y="4013280"/>
              <a:ext cx="6394320" cy="202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73040" y="4013280"/>
              <a:ext cx="6327720" cy="20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[ST1] S2 signed &amp; delivered for platform, Hydra, Min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-[ST1] from now, there is no CR buffer avail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-[ST1] Delay CQ&lt;-&gt;Continuous Integration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under cla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[ST1] consequences of the late component C3 milestones under cla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due to new delivery agreement with CA is the risk reduce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 [ST1] not all requirement/specification are available to finalize test spec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g. BT multipoint 50 % missing, i-mo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 [ST1] edge tests in real network not clarified, SD can’t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 [ST2] R&amp;TTE mandated EDGE RF test cases without validation on test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 [ST2] Resulting a workshop regarding OPWV Messaging/Browser between SW-CA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 confidence to reach GCF certification as plann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rot="5400000">
            <a:off x="1586160" y="44964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1847520" y="433692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1847520" y="454968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1847520" y="47624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4160" y="4346640"/>
            <a:ext cx="1431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66760" y="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X75 SG2 platform - High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49640" y="329256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846440" y="363924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2108160" y="34797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108160" y="3692520"/>
            <a:ext cx="128520" cy="12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108160" y="39052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0680" y="3440160"/>
            <a:ext cx="1060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GP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68720" y="4692600"/>
            <a:ext cx="4876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867320" y="51933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2128680" y="50338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28680" y="52466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128680" y="545940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6560" y="5203800"/>
            <a:ext cx="11527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-GOL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1872000" y="188028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2133360" y="1720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2133360" y="19335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2133360" y="21463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640" y="1716120"/>
            <a:ext cx="174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rd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138040" y="193032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463840" y="1147680"/>
            <a:ext cx="6238440" cy="1750320"/>
            <a:chOff x="2463840" y="1147680"/>
            <a:chExt cx="6238440" cy="1750320"/>
          </a:xfrm>
        </p:grpSpPr>
        <p:sp>
          <p:nvSpPr>
            <p:cNvPr id="171" name=""/>
            <p:cNvSpPr/>
            <p:nvPr/>
          </p:nvSpPr>
          <p:spPr>
            <a:xfrm>
              <a:off x="2463840" y="1147680"/>
              <a:ext cx="6238440" cy="175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0280" y="1147680"/>
              <a:ext cx="6173640" cy="175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ff"/>
                  </a:solidFill>
                  <a:latin typeface="Arial"/>
                </a:rPr>
                <a:t>+ S2 can be signed with restrictions (some requirements to SW TB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Malpha.4 tape out done. </a:t>
              </a:r>
              <a:r>
                <a:rPr b="0" lang="en-GB" sz="1100" spc="-1" strike="noStrike">
                  <a:solidFill>
                    <a:srgbClr val="0000ff"/>
                  </a:solidFill>
                  <a:latin typeface="Arial"/>
                </a:rPr>
                <a:t>Board assembling started. Finalization planned until cw10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o Step up converter concept discussion (NSC vs. Fairchild solution) ongoing. Platform recommendation is the Fairchild solution. </a:t>
              </a:r>
              <a:r>
                <a:rPr b="0" lang="en-GB" sz="1100" spc="-1" strike="noStrike">
                  <a:solidFill>
                    <a:srgbClr val="0000ff"/>
                  </a:solidFill>
                  <a:latin typeface="Arial"/>
                </a:rPr>
                <a:t>Product measurements are ongoing and should be finalized until end of cw10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Requirements to SW’ list review ongoing. </a:t>
              </a:r>
              <a:r>
                <a:rPr b="0" lang="en-GB" sz="1100" spc="-1" strike="noStrike">
                  <a:solidFill>
                    <a:srgbClr val="0000ff"/>
                  </a:solidFill>
                  <a:latin typeface="Arial"/>
                </a:rPr>
                <a:t>Finalization scheduled for 2005-03-03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- First ATI W2182 (A21) samples delayed. No impact to product B1+ runs. Only Malpha.4 assembling effected. Risk: No option for pre-testing of new SW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486160" y="4924440"/>
            <a:ext cx="6216120" cy="1459800"/>
            <a:chOff x="2486160" y="4924440"/>
            <a:chExt cx="6216120" cy="1459800"/>
          </a:xfrm>
        </p:grpSpPr>
        <p:sp>
          <p:nvSpPr>
            <p:cNvPr id="174" name=""/>
            <p:cNvSpPr/>
            <p:nvPr/>
          </p:nvSpPr>
          <p:spPr>
            <a:xfrm>
              <a:off x="2486160" y="4924440"/>
              <a:ext cx="6216120" cy="1459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32240" y="4924440"/>
              <a:ext cx="6151320" cy="14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S2 gran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 characterization activities ongo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 enhanced ball material (solder4) is too late for X75 products. Earliest for Sep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- Problems with AFC for Edge popped up – work started at IFX/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484360" y="3016080"/>
            <a:ext cx="6210000" cy="1710720"/>
            <a:chOff x="2484360" y="3016080"/>
            <a:chExt cx="6210000" cy="1710720"/>
          </a:xfrm>
        </p:grpSpPr>
        <p:sp>
          <p:nvSpPr>
            <p:cNvPr id="177" name=""/>
            <p:cNvSpPr/>
            <p:nvPr/>
          </p:nvSpPr>
          <p:spPr>
            <a:xfrm>
              <a:off x="2484360" y="3016080"/>
              <a:ext cx="6210000" cy="171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30440" y="3016080"/>
              <a:ext cx="6145560" cy="17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PA 9026 cut 5.5 samples received: first measurements show good results, additional cut 5.7 (improved complex termination) will be delivered in time for B1+ main r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ests on FTA tester: still blocked by test case problem</a:t>
              </a: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 (fix expected for Monda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+ Debugging process Comneon interface / Comneon / COM firmware / IFX firmware: IFX interface under discu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 Severe Edge AFC problem detected, solution leads to significant efforts @ Infineon and Comneon, </a:t>
              </a: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financial discussion ongo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Approval for S2 given with minor restr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- Problems to get SW for IOT Nokia next we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karsten</cp:lastModifiedBy>
  <cp:lastPrinted>2004-02-29T14:41:19Z</cp:lastPrinted>
  <dcterms:modified xsi:type="dcterms:W3CDTF">2005-03-08T21:02:41Z</dcterms:modified>
  <cp:revision>7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10437937</vt:r8>
  </property>
  <property fmtid="{D5CDD505-2E9C-101B-9397-08002B2CF9AE}" pid="3" name="_AuthorEmail">
    <vt:lpwstr>michael.weigang@siemens.com</vt:lpwstr>
  </property>
  <property fmtid="{D5CDD505-2E9C-101B-9397-08002B2CF9AE}" pid="4" name="_AuthorEmailDisplayName">
    <vt:lpwstr>Weigang Michael Com MD PD PGG</vt:lpwstr>
  </property>
  <property fmtid="{D5CDD505-2E9C-101B-9397-08002B2CF9AE}" pid="5" name="_EmailSubject">
    <vt:lpwstr>Hallo Michael, ich habe die Powerpoint Presentationen von der SG2 T-PSR vom 7.3. vertrödelt. Hast du die noch und kannst du sie mir nochmals schicken. Danke Jürgen</vt:lpwstr>
  </property>
</Properties>
</file>