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8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PlaceHolder 3"/>
            <p:cNvSpPr>
              <a:spLocks noGrp="1"/>
            </p:cNvSpPr>
            <p:nvPr>
              <p:ph type="ftr" idx="1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484360" y="652464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05278E6D-6AE3-4588-96D2-E7A3547EAE08}" type="datetime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29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AB88F136-6976-467C-AF7B-167EF801895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746680"/>
            <a:ext cx="45720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cember 2nd, 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 MD 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Strictly Confidential 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924280"/>
            <a:ext cx="88203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ource and Roadmap Al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Wolfgang Klebs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2000" y="152280"/>
            <a:ext cx="88138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SW faces a serious challenge for UMT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7280" y="1085760"/>
            <a:ext cx="440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ST SW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12920" y="938160"/>
            <a:ext cx="8383320" cy="51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C faces a serious challenge for UMT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8360" y="1085760"/>
            <a:ext cx="425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SWC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47680" y="1216080"/>
            <a:ext cx="8574120" cy="526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74760" y="2847600"/>
            <a:ext cx="6338880" cy="639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6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Resource plan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flipH="1">
            <a:off x="2543040" y="3494160"/>
            <a:ext cx="109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pportun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30320" y="3494160"/>
            <a:ext cx="58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Thre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8407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resource transparence is giv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68440" y="2157480"/>
            <a:ext cx="56865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enario and Budget planning incl. HC in the PMC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MC delivers the load and budget overview (pl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jects from M0/C0/P0 onwards in P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V delivers the exact project overview &amp; critical path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8240" y="5429160"/>
            <a:ext cx="7896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ble  approach used by other Siemens un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460520" y="261612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460520" y="372096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C covers the Budget and Scenario planning, Primavera the Project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4080" y="3780000"/>
            <a:ext cx="6098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nning /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draf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95360" y="3780000"/>
            <a:ext cx="61128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freez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06640" y="3780000"/>
            <a:ext cx="122076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27400" y="3780000"/>
            <a:ext cx="8827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amples test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0120" y="3780000"/>
            <a:ext cx="18302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inal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0360" y="3780000"/>
            <a:ext cx="21733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cceptance from platfomr / product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o predevelopment proje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4080" y="3538440"/>
            <a:ext cx="7937640" cy="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2280" bIns="-62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25520" y="350352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318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3824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464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527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5912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54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71840" y="3511440"/>
            <a:ext cx="698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863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9272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990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54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132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196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2596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326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390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468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532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9560" y="35193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6592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69400" y="351648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6848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66880" y="310824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25440" y="310824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62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71800" y="311472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73680" y="310824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6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152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8520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2596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24360" y="310824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10640" y="3114720"/>
            <a:ext cx="542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8992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12240" y="3780000"/>
            <a:ext cx="6109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256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080" y="33703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2240" y="4035600"/>
            <a:ext cx="55944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* Based on a draft version of the HW predevelopment 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52560" y="5896080"/>
            <a:ext cx="64756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ote: Component Projects can be started whenever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140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2872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44600" y="4881600"/>
            <a:ext cx="103356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Implemen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8160" y="4881600"/>
            <a:ext cx="74772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est 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Ready for Integ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25880" y="4881600"/>
            <a:ext cx="1550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25960" y="4610160"/>
            <a:ext cx="5868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05360" y="4614840"/>
            <a:ext cx="5868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3824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35240" y="4267080"/>
            <a:ext cx="60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637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560" y="4203720"/>
            <a:ext cx="488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52720" y="4203720"/>
            <a:ext cx="373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305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46720" y="4262400"/>
            <a:ext cx="460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76760" y="450540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3920" y="4219560"/>
            <a:ext cx="372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1400" y="44719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03240" y="4203720"/>
            <a:ext cx="603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1400" y="4626000"/>
            <a:ext cx="4365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549520" y="5049720"/>
            <a:ext cx="4682880" cy="920520"/>
            <a:chOff x="2549520" y="5049720"/>
            <a:chExt cx="4682880" cy="920520"/>
          </a:xfrm>
        </p:grpSpPr>
        <p:sp>
          <p:nvSpPr>
            <p:cNvPr id="173" name=""/>
            <p:cNvSpPr/>
            <p:nvPr/>
          </p:nvSpPr>
          <p:spPr>
            <a:xfrm>
              <a:off x="2636280" y="5727600"/>
              <a:ext cx="5158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Stud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53600" y="5727600"/>
              <a:ext cx="51624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70200" y="5727600"/>
              <a:ext cx="103356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Implementation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04120" y="5727600"/>
              <a:ext cx="7480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Test -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Ready for Integr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52200" y="5727600"/>
              <a:ext cx="154980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93840" y="545220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129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515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31320" y="546012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385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08880" y="5057280"/>
              <a:ext cx="6026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S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237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74800" y="5049720"/>
              <a:ext cx="4892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8320" y="5049720"/>
              <a:ext cx="3740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565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023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73040" y="5108040"/>
              <a:ext cx="459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03440" y="535068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49520" y="5066640"/>
              <a:ext cx="373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36280" y="531720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9800" y="5049720"/>
              <a:ext cx="6026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36280" y="5470560"/>
              <a:ext cx="436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123920" y="2149560"/>
            <a:ext cx="203400" cy="1388880"/>
          </a:xfrm>
          <a:custGeom>
            <a:avLst/>
            <a:gdLst/>
            <a:ahLst/>
            <a:rect l="l" t="t" r="r" b="b"/>
            <a:pathLst>
              <a:path w="136" h="1043">
                <a:moveTo>
                  <a:pt x="136" y="0"/>
                </a:moveTo>
                <a:cubicBezTo>
                  <a:pt x="68" y="162"/>
                  <a:pt x="0" y="325"/>
                  <a:pt x="0" y="499"/>
                </a:cubicBezTo>
                <a:cubicBezTo>
                  <a:pt x="0" y="673"/>
                  <a:pt x="68" y="858"/>
                  <a:pt x="136" y="104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77760" y="2149560"/>
            <a:ext cx="349560" cy="2476440"/>
          </a:xfrm>
          <a:custGeom>
            <a:avLst/>
            <a:gdLst/>
            <a:ahLst/>
            <a:rect l="l" t="t" r="r" b="b"/>
            <a:pathLst>
              <a:path w="234" h="1860">
                <a:moveTo>
                  <a:pt x="234" y="0"/>
                </a:moveTo>
                <a:cubicBezTo>
                  <a:pt x="124" y="72"/>
                  <a:pt x="14" y="144"/>
                  <a:pt x="7" y="454"/>
                </a:cubicBezTo>
                <a:cubicBezTo>
                  <a:pt x="0" y="764"/>
                  <a:pt x="94" y="1312"/>
                  <a:pt x="189" y="186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0120" y="2149560"/>
            <a:ext cx="225360" cy="1388880"/>
          </a:xfrm>
          <a:custGeom>
            <a:avLst/>
            <a:gdLst/>
            <a:ahLst/>
            <a:rect l="l" t="t" r="r" b="b"/>
            <a:pathLst>
              <a:path w="151" h="1043">
                <a:moveTo>
                  <a:pt x="0" y="1043"/>
                </a:moveTo>
                <a:cubicBezTo>
                  <a:pt x="60" y="812"/>
                  <a:pt x="121" y="582"/>
                  <a:pt x="136" y="408"/>
                </a:cubicBezTo>
                <a:cubicBezTo>
                  <a:pt x="151" y="234"/>
                  <a:pt x="120" y="117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0120" y="2149560"/>
            <a:ext cx="428400" cy="2476440"/>
          </a:xfrm>
          <a:custGeom>
            <a:avLst/>
            <a:gdLst/>
            <a:ahLst/>
            <a:rect l="l" t="t" r="r" b="b"/>
            <a:pathLst>
              <a:path w="287" h="1860">
                <a:moveTo>
                  <a:pt x="0" y="1860"/>
                </a:moveTo>
                <a:cubicBezTo>
                  <a:pt x="128" y="1448"/>
                  <a:pt x="257" y="1036"/>
                  <a:pt x="272" y="726"/>
                </a:cubicBezTo>
                <a:cubicBezTo>
                  <a:pt x="287" y="416"/>
                  <a:pt x="188" y="208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67320" y="2149560"/>
            <a:ext cx="915840" cy="3322440"/>
          </a:xfrm>
          <a:custGeom>
            <a:avLst/>
            <a:gdLst/>
            <a:ahLst/>
            <a:rect l="l" t="t" r="r" b="b"/>
            <a:pathLst>
              <a:path w="612" h="2495">
                <a:moveTo>
                  <a:pt x="0" y="2495"/>
                </a:moveTo>
                <a:cubicBezTo>
                  <a:pt x="238" y="1863"/>
                  <a:pt x="476" y="1232"/>
                  <a:pt x="544" y="816"/>
                </a:cubicBezTo>
                <a:cubicBezTo>
                  <a:pt x="612" y="400"/>
                  <a:pt x="510" y="200"/>
                  <a:pt x="4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5880" y="2882880"/>
            <a:ext cx="60948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sic 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easibil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95360" y="2639880"/>
            <a:ext cx="6112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on paper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03400" y="2882880"/>
            <a:ext cx="24462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ystem board ru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49600" y="2639880"/>
            <a:ext cx="60984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CB tested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59440" y="2874960"/>
            <a:ext cx="129060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ready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or product dev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50040" y="2631960"/>
            <a:ext cx="14238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compliant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fully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73840" y="2874960"/>
            <a:ext cx="94932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00" y="2639880"/>
            <a:ext cx="272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BS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7720" y="2155680"/>
            <a:ext cx="79754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8760" bIns="-68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4240" y="21146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20600" y="211932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27320" y="21146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3368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4004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478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542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605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6692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73280" y="2122560"/>
            <a:ext cx="702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814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878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941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005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068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150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214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2776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341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404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486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550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61360" y="213048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677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7084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9440" y="171936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0960" y="19861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69920" y="199548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66880" y="171936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58840" y="171936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6368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06720" y="1585800"/>
            <a:ext cx="71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b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43240" y="1765440"/>
            <a:ext cx="576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2260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7760" y="19796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60840" y="171612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51520" y="1523880"/>
            <a:ext cx="6541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1)P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6436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224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2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122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4600" y="2270160"/>
            <a:ext cx="679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8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58760" y="2370240"/>
            <a:ext cx="676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6536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32440" y="22384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08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2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12000" y="236052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436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 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485200" y="172728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6080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3688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1172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54160" y="2452680"/>
            <a:ext cx="543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1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6724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2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4172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3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008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5956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88000" y="1577880"/>
            <a:ext cx="882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ew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306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1400" y="23302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0800000">
            <a:off x="5452920" y="148068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67480" y="1260360"/>
            <a:ext cx="18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0800000">
            <a:off x="1123920" y="155844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5880" y="1338120"/>
            <a:ext cx="192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0800000">
            <a:off x="1145880" y="3061800"/>
            <a:ext cx="39348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2400" y="2843280"/>
            <a:ext cx="25502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e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0800000">
            <a:off x="3398760" y="50277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9960" y="4443480"/>
            <a:ext cx="1473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6600" y="1035000"/>
            <a:ext cx="24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chematic Platfor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7600" y="6165720"/>
            <a:ext cx="835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or NG SW project specification for planning not su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0800000">
            <a:off x="1747800" y="4150800"/>
            <a:ext cx="393840" cy="13356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147600" y="57135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9560" y="5637240"/>
            <a:ext cx="762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74760" y="2847600"/>
            <a:ext cx="6338880" cy="639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6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Load Cha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C faces a very critical situation – securing SG2 and future topics with budget &amp; HC cut impossi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120" y="1085760"/>
            <a:ext cx="459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* for SG2 Release (optimized) and future topic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51840" y="6540480"/>
            <a:ext cx="186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HC and consultants w/o Mana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43160" y="4257720"/>
            <a:ext cx="51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06 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66840" y="293688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20 Cons./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‘ Cons.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12920" y="1353960"/>
            <a:ext cx="8399160" cy="5156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679840" y="1359000"/>
            <a:ext cx="2832120" cy="917640"/>
          </a:xfrm>
          <a:prstGeom prst="rect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ture Topic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G operator features del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2 Rel. 2&amp;3 optim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utlook for the actual FY shows an massive overall overload –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8000" y="1085760"/>
            <a:ext cx="423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PMC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24000" y="1252440"/>
            <a:ext cx="8472240" cy="520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C Antenna is one of the most critical are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000" y="1085760"/>
            <a:ext cx="423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EMC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12920" y="1300320"/>
            <a:ext cx="8396280" cy="515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HW faces a serious challenge for UMT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7640" y="1085760"/>
            <a:ext cx="440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ST HW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12920" y="1238400"/>
            <a:ext cx="8269200" cy="50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Schwab Christof</cp:lastModifiedBy>
  <dcterms:modified xsi:type="dcterms:W3CDTF">2004-12-02T15:17:09Z</dcterms:modified>
  <cp:revision>958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35870021</vt:r8>
  </property>
  <property fmtid="{D5CDD505-2E9C-101B-9397-08002B2CF9AE}" pid="3" name="_AuthorEmail">
    <vt:lpwstr>katrin.braun@siemens.com</vt:lpwstr>
  </property>
  <property fmtid="{D5CDD505-2E9C-101B-9397-08002B2CF9AE}" pid="4" name="_AuthorEmailDisplayName">
    <vt:lpwstr>Braun Katrin ICM MP PBM PG85</vt:lpwstr>
  </property>
  <property fmtid="{D5CDD505-2E9C-101B-9397-08002B2CF9AE}" pid="5" name="_EmailSubject">
    <vt:lpwstr>Status_85_gen_final.ppt</vt:lpwstr>
  </property>
  <property fmtid="{D5CDD505-2E9C-101B-9397-08002B2CF9AE}" pid="6" name="_ReviewingToolsShownOnce">
    <vt:lpwstr/>
  </property>
</Properties>
</file>