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E08C-7372-47B5-BD15-E88F26A66B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8A11-2F80-4652-97B3-99CC82EB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F484-7E36-49DB-B3A8-584DB52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AE87-E7C1-4A10-9355-A7ECCF7C5F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9F72-EFC7-4550-A7A0-AB49A16C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6CBC-FA1A-4C22-AF4D-31FC8790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5995-A358-45EB-96D3-791220AB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3CC9-227B-4470-89ED-6019E022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EAA8-1063-4447-ABBF-09FC9AA6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3755-5C88-42FD-857C-DD1BA6DE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A4136-EC65-4AC7-8621-3F01A5CC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34ED-4ABD-4085-91DF-79B32729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162A-C398-42B8-83AB-5FD40C813ACB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hilipp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M3/S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8.07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29264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C. Weid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Ch.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3CCB-13E6-48DC-ACFF-AEF9314B2F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27640" y="333360"/>
            <a:ext cx="4467240" cy="2630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HK: 98,28€ (current) vs. 88,40€ (M1 target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     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=&gt; deviation + 11%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D: 4'1 Mio.€ (current) vs. 4'7 Mio €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=&gt; deviation -1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: 19.05.06 (current) vs. 29.05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4: 14.07.06 (current) vs. 30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3141720"/>
            <a:ext cx="4467240" cy="204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229360"/>
            <a:ext cx="4467240" cy="8442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(average lifecycl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87,9€ (current) vs. 77,7€ (M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3/S4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103" t="18899" r="59142" b="33661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1C36-A974-48C3-8297-4E2EDBDDE1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1265400"/>
            <a:ext cx="4537080" cy="2308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M3/S4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4076640"/>
            <a:ext cx="4467240" cy="1766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signatures are 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6103" t="18899" r="59142" b="33661"/>
          <a:stretch/>
        </p:blipFill>
        <p:spPr>
          <a:xfrm>
            <a:off x="179280" y="1268280"/>
            <a:ext cx="410544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BFB6-D530-425B-A81F-D9F3041DE3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roduct House Costs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819000"/>
          <a:ext cx="8686800" cy="546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19000"/>
                    <a:ext cx="8686800" cy="54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525A-6D49-4410-9A8C-70152CD581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6466-0BA5-4535-B10B-F18F8D24C8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17T19:14:40Z</dcterms:modified>
  <cp:revision>113</cp:revision>
  <dc:subject/>
  <dc:title>PowerPoint 簡報</dc:title>
</cp:coreProperties>
</file>