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DC355-AF8A-4BD5-9CBA-15080A20A7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790A4-8DC6-4856-A517-D75AD8AA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1D02-D3CA-4E39-B49F-081B89D7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88FE-8DB7-4EBE-8A35-94DE8F3A68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07B6-456F-465E-A13C-2CB4471F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E5FA3-ACDB-445C-B950-C942CD01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4572-0C39-4314-BFB8-63208B79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E006-C5D2-4EC2-B55E-A6FF1116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C451-78DD-457D-A342-4CD85C19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018A-906F-4183-8276-8C595F85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C5BB9-E593-4BF4-8993-BA4820F6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AE45-EE75-4A30-99D1-0BBECAB0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355B-E5BF-46AA-B694-B0DF8606ABB7}" type="slidenum">
              <a:rPr b="0" lang="zh-TW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195084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hilippe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gant Performanc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D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234040"/>
            <a:ext cx="4572000" cy="122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laus Dalm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6th Ma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3213000"/>
            <a:ext cx="83185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laus Dalm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Hubertus Schlau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laudia Weid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Markus A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27F24-1218-49CC-ABC0-8AEE5D5F69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56000" y="1003320"/>
            <a:ext cx="4467240" cy="294444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BOM deviation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15%</a:t>
            </a:r>
            <a:br>
              <a:rPr sz="1500"/>
            </a:b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Current:  86,31€ vs. M1 target 75,13€</a:t>
            </a:r>
            <a:br>
              <a:rPr sz="1500"/>
            </a:b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Reasons: new FX rate (about 3,8€ at S25 ) and volume reduction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24. May 2006 (current) vs 29. May 2006 (M1 target)</a:t>
            </a:r>
            <a:br>
              <a:rPr sz="1500"/>
            </a:b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(SW version 38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   </a:t>
            </a: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Possible earlier deliveries to RUS, UKR of  ~13k on 19. May 2006 to be decided (SW version 37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091040"/>
            <a:ext cx="4467240" cy="17190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major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Gap between front cover and uppercase for the first 25k: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CPM clarifies if this is accep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0032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20A9-7ED1-4E2E-B2FE-476F295F1F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27640" y="476280"/>
            <a:ext cx="4537080" cy="322164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W 38  still has to be tested in prod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CC certificate is not available until n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eliminary parts will have additional 2% scrap rate (approximately 60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FCC certificate</a:t>
            </a:r>
            <a:r>
              <a:rPr b="0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is not available until n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range approvals expected May 19th 06 (SW3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untry approvals on SW37 for Ramp up avail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Turkey, CZR, Croatia, Russia, AZ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3789360"/>
            <a:ext cx="4467240" cy="29077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 is not yet available (availability until 19. May 2006). NCCPI is </a:t>
            </a:r>
            <a:r>
              <a:rPr b="1" i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??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(inline with NCCPI tar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GCF test results not available yet, but planning is inline with customer require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Signatures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from EA, SW, LCM1, LCM3, SD QM, ST, QM (BA, CPM)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not yet available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. Signatures are expected till 24. May 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0032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18E2C-E16B-44DB-A43F-4C83444AB6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a0e66"/>
                </a:solidFill>
                <a:latin typeface="Times New Roman"/>
              </a:rPr>
              <a:t>Product House Costs – Philippe</a:t>
            </a:r>
            <a:br>
              <a:rPr sz="2000"/>
            </a:br>
            <a:r>
              <a:rPr b="1" lang="zh-TW" sz="2000" spc="-1" strike="noStrike">
                <a:solidFill>
                  <a:srgbClr val="3a0e66"/>
                </a:solidFill>
                <a:latin typeface="Times New Roman"/>
              </a:rPr>
              <a:t>Status at D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990720"/>
            <a:ext cx="7488000" cy="52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3367D-F224-42AF-8493-7F9E58FB9D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446040" y="29973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6040" y="36450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7EC5-80AE-4829-B89A-2C089F24F1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88BE-B439-4CB7-8865-8C2485D0A1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Points to be closed until D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765000"/>
          <a:ext cx="8305920" cy="5602320"/>
        </p:xfrm>
        <a:graphic>
          <a:graphicData uri="http://schemas.openxmlformats.org/drawingml/2006/table">
            <a:tbl>
              <a:tblPr/>
              <a:tblGrid>
                <a:gridCol w="1944720"/>
                <a:gridCol w="6361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SVN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vailable since 15.0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CC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l tests passed. All formalities in pla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rant expected 16.05.06 (maybe +1 day due to time difference US/E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CF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verified on test SW (SVN38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ormal test to be done at 7Layers with official SW SVN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pproval expexted until 22.0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Java certific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SW / QM-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confirmed on test SW (SVN3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to be verified on official SW release (Self-certification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confirmed 16.05.06 (DS okay for ST-SW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sting on SUN WEB page/Certificate expected until 24.05 (not finally confirm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-SW blocks for DS w/o certific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MS-On-Exit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-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or Return rate estimation.Testing in 5 days for RR estimation + 2 days for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xpected to be finished until 24.05.06 (test results 22.05.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urrent status for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VN37 is 6,0% - 6,5% (based on Min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T qual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ail on BT test case with SW SVN38. Potentially test failure. Under cla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 violation of lega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locking from ST-MO 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TTE approval (BAB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ranted 16.0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DE3A-A8E9-4C99-8BB9-03FCC6444D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W SVN37 DS blocker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1052640"/>
          <a:ext cx="8291520" cy="1933560"/>
        </p:xfrm>
        <a:graphic>
          <a:graphicData uri="http://schemas.openxmlformats.org/drawingml/2006/table">
            <a:tbl>
              <a:tblPr/>
              <a:tblGrid>
                <a:gridCol w="1008000"/>
                <a:gridCol w="728352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085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wo "lastModified()" related tests failed in JSR75 FC TCK ru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05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GCF SAT TC27.22.4.13.3 SET UP CALL (display of icons)  is failed. Wrong Terminal Response is sent from ME to 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05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GCF SAT TC 27.22.7.4.1 LOCATION STATUS EVENT is failed due to wrong ENVELOP send from ME to 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119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hilippe JSR82 TCK  : Test case api/javax/bluetooth/ServiceRecord/setDeviceServiceClassesTest fai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F0FC-E9E5-42ED-9B68-64E717AF3E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5-17T07:27:17Z</dcterms:modified>
  <cp:revision>163</cp:revision>
  <dc:subject/>
  <dc:title>PowerPoint 簡報</dc:title>
</cp:coreProperties>
</file>