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282D-6191-45ED-8E38-D28501F3D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17D1-CD58-43A7-9988-7602A648D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5C44-888B-47AF-9DC0-22F874ABA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792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136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792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136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4EA4-AC3C-4CB6-A42F-B342DA994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74480" y="550440"/>
            <a:ext cx="84690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1067-3691-4BB8-BE6F-23BAF4DB0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792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136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48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792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136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D920-0B67-4B48-88E5-0B5309A87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F8FD-B6DE-4817-855A-CAE8CFC01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996B-46FC-44E9-8886-598D818CB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74480" y="550440"/>
            <a:ext cx="84690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2AF3-F127-4326-9300-6CB178005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DF9E-4C12-4E0D-9C04-EA2541DB2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0064-CC80-4042-8607-6D2C24BC7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C3BA-EBDF-4653-BAC3-5967EB8AF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44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spcBef>
                <a:spcPts val="499"/>
              </a:spcBef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-225360">
              <a:spcBef>
                <a:spcPts val="499"/>
              </a:spcBef>
              <a:buClr>
                <a:srgbClr val="5f86a2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223920">
              <a:spcBef>
                <a:spcPts val="499"/>
              </a:spcBef>
              <a:buClr>
                <a:srgbClr val="5f86a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5040" indent="-225720">
              <a:spcBef>
                <a:spcPts val="499"/>
              </a:spcBef>
              <a:buClr>
                <a:srgbClr val="5f86a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905040" indent="-225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905040" indent="-225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74840" y="6603840"/>
            <a:ext cx="457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0800" y="6512400"/>
            <a:ext cx="4111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CFFF5E-E41C-46B1-B6EC-DE7CAD9A37B4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99400" y="6470640"/>
            <a:ext cx="2053800" cy="236160"/>
            <a:chOff x="6899400" y="6470640"/>
            <a:chExt cx="2053800" cy="23616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6899400" y="6470640"/>
              <a:ext cx="815040" cy="2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rcRect l="4008" t="11349" r="3770" b="10772"/>
            <a:stretch/>
          </p:blipFill>
          <p:spPr>
            <a:xfrm>
              <a:off x="7797600" y="6472800"/>
              <a:ext cx="115560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712280" y="6549120"/>
              <a:ext cx="61560" cy="6156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4480" y="1325520"/>
            <a:ext cx="7011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0" y="-144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spcBef>
                <a:spcPts val="499"/>
              </a:spcBef>
              <a:buClr>
                <a:srgbClr val="5f86a2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62120" algn="ctr">
              <a:spcBef>
                <a:spcPts val="499"/>
              </a:spcBef>
              <a:buClr>
                <a:srgbClr val="5f86a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43000" algn="ctr">
              <a:spcBef>
                <a:spcPts val="499"/>
              </a:spcBef>
              <a:buClr>
                <a:srgbClr val="5f86a2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creative.gettyimages.com/source/search/ImageEnlarge.aspx?MasterID=200118032-001&amp;s=ImageDetailSearchState%7C3%7C5%7C0%7C15%7C2%7C1%7C0%7C0%7C1%7C44%7C60%7C31.0.37.61.32.30.28.34.36.13.62.63.10.1.7.64.35.65.11.66.67.24.23.22.16.38.39.33.18.68.41.40.9.4.6.25.26.69%7C5%7C0%7C(%22Sheet+Music%3APrinted+Media%22+and+%22listening%3Ak%22)+or+(%22Music%3ATopics%22+and+%22listening%3Ak%22)%7C%7C1%7C0&amp;pk=6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4480" y="1569240"/>
            <a:ext cx="7011720" cy="10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81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rban A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74840" y="4430880"/>
            <a:ext cx="541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ne 2006 – Confid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49680" y="5707080"/>
            <a:ext cx="1543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 Bold"/>
              </a:rPr>
              <a:t>Keep explo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4840" y="3335400"/>
            <a:ext cx="541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duct St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or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080" y="3067200"/>
            <a:ext cx="6113160" cy="12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34128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's all about dynam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34128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's all about what you can do with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34128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what technology can do for y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8080" y="5136480"/>
            <a:ext cx="7565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The category 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Explore Performance 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offers joyful and convincing technical solutions 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to the consumer without accepting any compromis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99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00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7063-CDA3-4EF6-A65F-A09407AD10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0" y="1177920"/>
            <a:ext cx="227340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0" t="0" r="12896" b="0"/>
          <a:stretch/>
        </p:blipFill>
        <p:spPr>
          <a:xfrm>
            <a:off x="4572000" y="3247920"/>
            <a:ext cx="4572000" cy="2100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18425400">
            <a:off x="5161680" y="1270440"/>
            <a:ext cx="1095480" cy="1865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/>
          </p:cNvPr>
          <p:cNvPicPr/>
          <p:nvPr/>
        </p:nvPicPr>
        <p:blipFill>
          <a:blip r:embed="rId5"/>
          <a:srcRect l="0" t="10194" r="0" b="0"/>
          <a:stretch/>
        </p:blipFill>
        <p:spPr>
          <a:xfrm>
            <a:off x="6869160" y="1177920"/>
            <a:ext cx="2273400" cy="204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Line: Explore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4840" y="1333440"/>
            <a:ext cx="410040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thin Performance, Energy offer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iting and outstanding devices for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energetic, urban user."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havior/Lifesty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knowledgeable 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faceted lifesty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 should not sacrifice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yful attitude towards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ort is fu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y of technology without accepting compromises in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illing design and innovati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chanical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ect execution of specific th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8080" y="4677840"/>
            <a:ext cx="756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Mod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powerful – unconven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spontaneous – energetic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spor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dynamic – flexible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urban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playful – diffe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striking – naked – adventurous – conquering –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robust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high – demanding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enjoying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fun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victorious – extrove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13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14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FBFE-5309-477F-A718-8FAF98E0F0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0" t="9326" r="39611" b="0"/>
          <a:stretch/>
        </p:blipFill>
        <p:spPr>
          <a:xfrm>
            <a:off x="6095880" y="1177920"/>
            <a:ext cx="3048120" cy="3664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" y="1333440"/>
            <a:ext cx="136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21040" y="1333440"/>
            <a:ext cx="3232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e – female: 60% – 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ome level: mid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focus: 18 - 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gion focus: 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240" y="1500120"/>
            <a:ext cx="5601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2640" y="2394000"/>
            <a:ext cx="4716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ive in the center of a big city – and I do really enjoy it. In an urban environment I have all the opportunities I want to have  – only a short way to work, great nightlife, and options for all kinds of sports you can think of: running, inline skating etc. On the weekends I like meeting new people in the hottest city clubs or I love to go with my friends into the mountains nearby for skiing, cycling or actually just to unwi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52640" y="3647880"/>
            <a:ext cx="4200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me a mobile phone is more than a communication tool; it is a lifestyle object. It has to reflect  my active and competitive way of life, it must look tough and extraordinary with sportive street-wear appearance. The technology inside has to offer fun and excitement; not only for me but also for others. High quality and reliability is very important for me; a phon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to cope with daily knocks and bumps in 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iting urban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57160" y="4308480"/>
            <a:ext cx="5601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2800" y="4862160"/>
            <a:ext cx="769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For all people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with an active lifestyle and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a strong desire for durable products,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the M81 is a sportive designed phone in street-style optic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built to deal with the daily challenges and for having fun on the move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34400" y="4645800"/>
            <a:ext cx="101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Product 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30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31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01B9-9638-4CDC-9B2B-E94B8895A8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68360" y="3247920"/>
            <a:ext cx="227340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3972" r="37854" b="0"/>
          <a:stretch/>
        </p:blipFill>
        <p:spPr>
          <a:xfrm>
            <a:off x="2268360" y="3247920"/>
            <a:ext cx="2273400" cy="2341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1177920"/>
            <a:ext cx="4572000" cy="41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rcRect l="9551" t="2997" r="13908" b="3517"/>
          <a:stretch/>
        </p:blipFill>
        <p:spPr>
          <a:xfrm>
            <a:off x="7601040" y="1504800"/>
            <a:ext cx="1542960" cy="376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360" y="1177920"/>
            <a:ext cx="223524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1177920"/>
            <a:ext cx="227340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247920"/>
            <a:ext cx="223524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Pers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6973" r="0" b="0"/>
          <a:stretch/>
        </p:blipFill>
        <p:spPr>
          <a:xfrm>
            <a:off x="2357280" y="1328760"/>
            <a:ext cx="2095560" cy="173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0" t="24183" r="0" b="20909"/>
          <a:stretch/>
        </p:blipFill>
        <p:spPr>
          <a:xfrm>
            <a:off x="109440" y="1639800"/>
            <a:ext cx="2035440" cy="111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rcRect l="0" t="20807" r="0" b="0"/>
          <a:stretch/>
        </p:blipFill>
        <p:spPr>
          <a:xfrm>
            <a:off x="-12600" y="3247920"/>
            <a:ext cx="2257200" cy="2691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rcRect l="9120" t="3508" r="8177" b="3248"/>
          <a:stretch/>
        </p:blipFill>
        <p:spPr>
          <a:xfrm>
            <a:off x="4811760" y="1504800"/>
            <a:ext cx="1670040" cy="3759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rcRect l="35638" t="2759" r="26349" b="2977"/>
          <a:stretch/>
        </p:blipFill>
        <p:spPr>
          <a:xfrm>
            <a:off x="6661080" y="1504800"/>
            <a:ext cx="760320" cy="3762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40200" y="4947840"/>
            <a:ext cx="500868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Intensifies the user’s active lifestyle</a:t>
            </a:r>
            <a:br>
              <a:rPr sz="1200"/>
            </a:b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through its extraordinary street style de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Built for action – creates the impression of improved robustness and</a:t>
            </a:r>
            <a:br>
              <a:rPr sz="1200"/>
            </a:b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offers perfect grip by rubber elements;</a:t>
            </a:r>
            <a:br>
              <a:rPr sz="1200"/>
            </a:b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the camera protection plug underlines the indestruct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Exclusive material mix for exciting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51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52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043480" y="4432680"/>
            <a:ext cx="904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Design</a:t>
            </a:r>
            <a:br>
              <a:rPr sz="1400"/>
            </a:b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Stat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732C-760D-4662-BA9D-1781BA268F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rcRect l="0" t="55382" r="12898" b="4816"/>
          <a:stretch/>
        </p:blipFill>
        <p:spPr>
          <a:xfrm>
            <a:off x="6869160" y="3247920"/>
            <a:ext cx="2273400" cy="1563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0" t="0" r="0" b="24764"/>
          <a:stretch/>
        </p:blipFill>
        <p:spPr>
          <a:xfrm>
            <a:off x="2268360" y="3247920"/>
            <a:ext cx="2273400" cy="2379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rcRect l="0" t="24649" r="8468" b="0"/>
          <a:stretch/>
        </p:blipFill>
        <p:spPr>
          <a:xfrm>
            <a:off x="9360" y="3247920"/>
            <a:ext cx="2235240" cy="276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rcRect l="22258" t="13837" r="0" b="0"/>
          <a:stretch/>
        </p:blipFill>
        <p:spPr>
          <a:xfrm>
            <a:off x="4572000" y="3247920"/>
            <a:ext cx="2273400" cy="2041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rcRect l="0" t="9993" r="0" b="0"/>
          <a:stretch/>
        </p:blipFill>
        <p:spPr>
          <a:xfrm>
            <a:off x="9360" y="1177920"/>
            <a:ext cx="3418200" cy="204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067440" y="1177920"/>
            <a:ext cx="3076560" cy="204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0" t="9326" r="8254" b="0"/>
          <a:stretch/>
        </p:blipFill>
        <p:spPr>
          <a:xfrm>
            <a:off x="3456000" y="1177920"/>
            <a:ext cx="2583000" cy="2044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od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9080" y="5461200"/>
            <a:ext cx="62460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State-of-the-art multimedia wrapped in street-style opti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Made to cope with urban challenges thanks to robustness and prot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A daily companion for every situ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99880" y="4432680"/>
            <a:ext cx="1450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Focus</a:t>
            </a:r>
            <a:br>
              <a:rPr sz="1400"/>
            </a:b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Group Stat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69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70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CB01-436E-4A18-B012-DA2B3AA449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86a2"/>
                </a:solidFill>
                <a:latin typeface="Arial"/>
              </a:rPr>
              <a:t>Total Product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840" y="4214880"/>
            <a:ext cx="27907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ction-pack for fu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move –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-of-the-art multime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1080" y="2409840"/>
            <a:ext cx="2912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eet Style – show your sportive 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70400" y="1096920"/>
            <a:ext cx="2332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s-free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4840" y="2409840"/>
            <a:ext cx="280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t for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31080" y="4214880"/>
            <a:ext cx="29127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– be prepared to f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way and never be surprised by bad weat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0400" y="2085840"/>
            <a:ext cx="2203200" cy="25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bfc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92400" y="1744560"/>
            <a:ext cx="115920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3960000">
            <a:off x="4978080" y="248940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 rot="17640000">
            <a:off x="4977720" y="365616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rot="17640000">
            <a:off x="3016080" y="248904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 rot="3960000">
            <a:off x="3016080" y="365580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10080" y="2592360"/>
            <a:ext cx="1892160" cy="1555920"/>
            <a:chOff x="3610080" y="2592360"/>
            <a:chExt cx="1892160" cy="155592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rcRect l="9551" t="2997" r="13908" b="3517"/>
            <a:stretch/>
          </p:blipFill>
          <p:spPr>
            <a:xfrm>
              <a:off x="4828320" y="2592360"/>
              <a:ext cx="673920" cy="15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rcRect l="9120" t="3508" r="8177" b="3248"/>
            <a:stretch/>
          </p:blipFill>
          <p:spPr>
            <a:xfrm>
              <a:off x="3610080" y="2592360"/>
              <a:ext cx="729360" cy="15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4"/>
            <a:srcRect l="35638" t="2759" r="26349" b="2977"/>
            <a:stretch/>
          </p:blipFill>
          <p:spPr>
            <a:xfrm>
              <a:off x="4417560" y="2592360"/>
              <a:ext cx="331920" cy="155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0DAC-18DC-486F-BFD9-F011088C24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86a2"/>
                </a:solidFill>
                <a:latin typeface="Arial"/>
              </a:rPr>
              <a:t>Total Product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840" y="4214880"/>
            <a:ext cx="2790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ction-pack for fun on the move –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-of-the-art multi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megapixel camera with LED flash and digital z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playback, recording, downloading, strea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 player (MP3, AAC - eAAC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 MultiMediaCard slot for memory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torch functi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1080" y="2409840"/>
            <a:ext cx="29127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et Style – show your sportive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ive street style optic with funct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ber elements for the perfect gr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mix underlines exciting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70400" y="1096920"/>
            <a:ext cx="2332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ds-free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dled Headset Stereo (standard vari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4840" y="2409840"/>
            <a:ext cx="280008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t for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resistance against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 protection against dust and splas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atch resistant TFT display, 262,144 colors, 132 x 176 pixels, optimal indoor &amp; outdoor read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31080" y="4214880"/>
            <a:ext cx="291276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 – be prepared to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way and never be surprised by bad wea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-board navig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0400" y="2085840"/>
            <a:ext cx="2203200" cy="25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bfc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2400" y="1744560"/>
            <a:ext cx="115920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3960000">
            <a:off x="4978080" y="248940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17640000">
            <a:off x="4977720" y="365616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rot="17640000">
            <a:off x="3016080" y="248904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 rot="3960000">
            <a:off x="3016080" y="365580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10080" y="2592360"/>
            <a:ext cx="1892160" cy="1555920"/>
            <a:chOff x="3610080" y="2592360"/>
            <a:chExt cx="1892160" cy="155592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rcRect l="9551" t="2997" r="13908" b="3517"/>
            <a:stretch/>
          </p:blipFill>
          <p:spPr>
            <a:xfrm>
              <a:off x="4828320" y="2592360"/>
              <a:ext cx="673920" cy="15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/>
            <a:srcRect l="9120" t="3508" r="8177" b="3248"/>
            <a:stretch/>
          </p:blipFill>
          <p:spPr>
            <a:xfrm>
              <a:off x="3610080" y="2592360"/>
              <a:ext cx="729360" cy="15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"/>
            <a:srcRect l="35638" t="2759" r="26349" b="2977"/>
            <a:stretch/>
          </p:blipFill>
          <p:spPr>
            <a:xfrm>
              <a:off x="4417560" y="2592360"/>
              <a:ext cx="331920" cy="155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A1582-7CE1-402A-A861-94085841192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tznera</cp:lastModifiedBy>
  <cp:lastPrinted>2006-01-10T22:20:18Z</cp:lastPrinted>
  <dcterms:modified xsi:type="dcterms:W3CDTF">2006-06-23T09:43:06Z</dcterms:modified>
  <cp:revision>735</cp:revision>
  <dc:subject/>
  <dc:title>PowerPoint Presentation</dc:title>
</cp:coreProperties>
</file>