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2716C-EE9C-4885-BD52-D8BF0DD1C1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15C23-BAA2-4060-AFD4-9C7F457F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22440-8108-4DCA-8AE6-A359F9AB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25546-4BE0-41A7-A819-C1CDF7645A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CE668-84F3-49B2-AA85-6EFA5935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92E26-223F-40C9-9417-CF22F8D1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BAB49-A4D4-425F-A764-B862CB2D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477DC-9A45-461D-9CBC-04AF7C5E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28346-D509-4180-B7FE-84B31660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DE695-B516-40AB-BA7D-036B0B8C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1BAB0-53A5-4ADD-806F-2BEE5420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E6F4D-F4FD-4328-8B8A-BE9F52DF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2AA5-89E9-420A-AA4D-0998AEDAADBC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836640"/>
            <a:ext cx="7848720" cy="561744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B2 samples grey/blac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Plan @ M1: available in regions cw29 (21.7.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Actual: available in cw30 (deliveries on July 21st and 24th – do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ndard target for B2: 3 weeks before DS; DS planned on 11.8. (cw32) -&gt; Depending 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rrival in regions only slight 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Blue/white varia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Plan @ M1: only intention to deliver 2nd color vari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Team target: available in regions cw30; volume production 4 weeks after DS (cw3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ctual: assembly B2 in cw32; available in regions cw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gt; Hence 3 weeks 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 MMC tray delivery critical; first volume end cw35 in case that color match is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Measures to secure samp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lato to check if and how acceleration of IMD window und camera lid from Nissha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ossible (driver SCM Q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In case MMC trays are not available we should deliver w/o t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Measures to secure volume produ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Raw material for white PC-ABS and blue TPE already ordered for 50K devic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vailable at Nolato on 11.8. (cw3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Availability of keypads not confirmed yet for cw35; SP is in charge to get confi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Status Hawk #1/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49DE4-8AA8-4999-A84C-C1C4C40477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836640"/>
            <a:ext cx="7848720" cy="52858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amp Up Volu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Plan Milestone PS: 3.8.2006 (cw3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Nolato deliveries are until end of we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ence cw31 and cw32 are most 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lato still has problems with damage of tooling during mol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rom todays view DS at Aug. 11th still possible, but with reduced volume (appr. 8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asu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Daily TelCo with Nolato driven by SCM 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CM QM is asked to check at Nolato onside how to solve the problem with tooling and if there is a general issue with the tooling conce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tatus Hawk #2/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87520" y="1736640"/>
          <a:ext cx="7080120" cy="1836360"/>
        </p:xfrm>
        <a:graphic>
          <a:graphicData uri="http://schemas.openxmlformats.org/drawingml/2006/table">
            <a:tbl>
              <a:tblPr/>
              <a:tblGrid>
                <a:gridCol w="1924200"/>
                <a:gridCol w="1031040"/>
                <a:gridCol w="1031040"/>
                <a:gridCol w="1031400"/>
                <a:gridCol w="1031040"/>
                <a:gridCol w="1031400"/>
              </a:tblGrid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volu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ion volu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7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5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from Nola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7B024-93DC-43F9-B5F7-50E4A82B03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7-25T13:22:09Z</dcterms:modified>
  <cp:revision>149</cp:revision>
  <dc:subject/>
  <dc:title>PowerPoint 簡報</dc:title>
</cp:coreProperties>
</file>