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E25DE-B5AE-4AE6-9D67-054BF5DFB8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66EEC-CD54-4A47-B94B-7EA4A9D11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A47B4-A969-4501-8B8E-B814BC57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7C014-BD31-4934-B47F-0D4D1BC7EF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E296B-86D2-41A0-A616-E96491192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00CD3-6062-431B-850B-05B423475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5A7ED-803D-41CD-9047-201D08201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49B08-4633-4A1D-A75A-823490BF2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86741-D705-4649-B9B6-40637F0AB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770D9-AF81-41CA-90B1-25BD72C34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4CCD2-804A-4806-A136-714FCC74D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593B1-FDD1-4C28-BBC6-58B6623B8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77964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91336-C38C-4122-B17F-36F62F02BD9A}" type="slidenum">
              <a:rPr b="0" lang="en-US" sz="12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68360" y="836640"/>
            <a:ext cx="7848720" cy="479916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Ramp Up situa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- Planned Production Start @M1: 3.8.2006 (cw3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   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Actual:   9.8.2006 (cw32) with No 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        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14.8.2006 (cw33) with vari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- Planned Delivery Start @M1: 11.8.2006 (cw3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Actual: 18.8.2006 (cw3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Planned volume @DS: 20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Actual: target 14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Measu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Daily TelCo with Nolato driven by SCM Q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staff onside @Nolato and WBL to solve the problems with tooling and optimize deliv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Weekend work at Nolato and WBL; WBL on site at Nola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Further critical issu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Side key tactility has to be improved -&gt; actually delivery to OPs blocked from Q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Status Hawk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05970-F7AF-4D2D-86BF-CEEEFB429F2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Juergen Schmitz</cp:lastModifiedBy>
  <dcterms:modified xsi:type="dcterms:W3CDTF">2006-08-04T11:54:55Z</dcterms:modified>
  <cp:revision>150</cp:revision>
  <dc:subject/>
  <dc:title>PowerPoint 簡報</dc:title>
</cp:coreProperties>
</file>