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A298-EA30-4402-9263-D6A64EF2F6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8B0FF-A30A-494F-AB0F-24485117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ED04-889F-41B8-AF2B-0F73A3DC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6583-8AF6-486C-9970-22352CFBA4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0B64-2532-4CA4-BAED-B8F0C943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8D7E-AA12-4D06-8D98-F09930FD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DE58E-0AF6-46BF-86A2-C389429A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AFE5E-6344-4780-9C79-FF1E2E09B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A80C9-E995-462E-B306-BA46DE0A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005BE-1E18-4660-98A3-EEABC041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5197A-6FFD-4ADE-9E2F-9C978A5F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A858-E3FF-4735-AB78-475C328A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DC5D-3261-4FC9-9071-E6288913A147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36196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Philippe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M3/S4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.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8.07.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292640"/>
            <a:ext cx="83185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C. Weid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J.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Ch.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D6BA0-B282-430E-AD0C-9757AFFF55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27640" y="333360"/>
            <a:ext cx="4467240" cy="26305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HK: 98,28€ (current) vs. 88,40€ (M1 target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     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=&gt; deviation + 11%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RD: 4'1 Mio.€ (current) vs. 4'7 Mio € (M1 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=&gt; deviation -13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: 19.05.06 (current) vs. 29.05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4: 14.07.06 (current) vs. 30.06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27640" y="3141720"/>
            <a:ext cx="4467240" cy="20422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27640" y="5229360"/>
            <a:ext cx="4467240" cy="8442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OM (average lifecycl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87,9€ (current) vs. 77,7€ (M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M3/S4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6103" t="18899" r="59142" b="33661"/>
          <a:stretch/>
        </p:blipFill>
        <p:spPr>
          <a:xfrm>
            <a:off x="250920" y="119700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CE32D-92C1-4BC4-9C2F-EA515BE687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56000" y="1265400"/>
            <a:ext cx="4537080" cy="2308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M3/S4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4076640"/>
            <a:ext cx="4467240" cy="17665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 signatures are avail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6103" t="18899" r="59142" b="33661"/>
          <a:stretch/>
        </p:blipFill>
        <p:spPr>
          <a:xfrm>
            <a:off x="179280" y="1268280"/>
            <a:ext cx="410544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EA2FD-0FA5-413D-85D1-11BF879EBF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Product House Costs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819000"/>
          <a:ext cx="8686800" cy="546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19000"/>
                    <a:ext cx="8686800" cy="54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2D8F-852D-4AA8-9875-F740E8F8C8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30AFF-0B0F-46E4-9008-1A90D09A4D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17T19:14:40Z</dcterms:modified>
  <cp:revision>113</cp:revision>
  <dc:subject/>
  <dc:title>PowerPoint 簡報</dc:title>
</cp:coreProperties>
</file>