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8F9759-E654-477C-83DE-BD65B37A7B4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5DA0E8-8BFC-42E8-B6FC-BDE7CBE63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7EBE8F-B5A0-48CD-A936-C345D772D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35627E-EAA0-4AFA-89EA-A88788103AD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A58246-8F33-419E-A14E-7589059AC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9249B1-43DE-4267-8408-6C472BA16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9D528-C5CC-4BBB-8008-B4ADEC19E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FA429F-0B4C-45D0-A61B-DD5D5931F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330D30-8FA0-4FDE-9EA7-6C57A32AC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2A0D16-2A68-4336-A560-530D2AEDB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34EB85-BD2D-471D-B2B4-C49CCF9EC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754450-8238-43D4-9FCA-285F95C06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77964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EB027-53FC-4EDA-B704-649079CF5951}" type="slidenum">
              <a:rPr b="0" lang="zh-TW" sz="12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71520" y="6362640"/>
            <a:ext cx="506556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2005, BenQ Corpor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520" y="1950840"/>
            <a:ext cx="85122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Philippe   </a:t>
            </a: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egant Performance</a:t>
            </a: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OPC Status Report at DS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3" name=""/>
          <p:cNvSpPr/>
          <p:nvPr/>
        </p:nvSpPr>
        <p:spPr>
          <a:xfrm>
            <a:off x="468360" y="5234040"/>
            <a:ext cx="4572000" cy="122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Claus Dalm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Technical Project Ma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16th May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39640" y="3213000"/>
            <a:ext cx="831852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TPM: 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Claus Dalm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TPM BA: 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Hubertus Schlaus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CPM: 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Claudia Weid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CPM BA: 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Markus Ai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145272-91AB-4D0A-AFB1-C6FD1E4DACE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356000" y="1003320"/>
            <a:ext cx="4467240" cy="2944440"/>
          </a:xfrm>
          <a:prstGeom prst="rect">
            <a:avLst/>
          </a:prstGeom>
          <a:solidFill>
            <a:srgbClr val="ec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66"/>
                </a:solidFill>
                <a:uFillTx/>
                <a:latin typeface="Times New Roman"/>
                <a:ea typeface="文鼎中黑"/>
              </a:rPr>
              <a:t>CONTRA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66"/>
                </a:solidFill>
                <a:latin typeface="Times New Roman"/>
                <a:ea typeface="文鼎中黑"/>
              </a:rPr>
              <a:t>Cost vs. Targ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66"/>
                </a:solidFill>
                <a:latin typeface="Times New Roman"/>
                <a:ea typeface="文鼎中黑"/>
              </a:rPr>
              <a:t>BOM deviation </a:t>
            </a:r>
            <a:r>
              <a:rPr b="1" lang="en-GB" sz="1500" spc="-1" strike="noStrike">
                <a:solidFill>
                  <a:srgbClr val="ff0000"/>
                </a:solidFill>
                <a:latin typeface="Times New Roman"/>
                <a:ea typeface="文鼎中黑"/>
              </a:rPr>
              <a:t>15%</a:t>
            </a:r>
            <a:br>
              <a:rPr sz="1500"/>
            </a:br>
            <a:r>
              <a:rPr b="0" lang="en-US" sz="1500" spc="-1" strike="noStrike">
                <a:solidFill>
                  <a:srgbClr val="000066"/>
                </a:solidFill>
                <a:latin typeface="Times New Roman"/>
                <a:ea typeface="文鼎中黑"/>
              </a:rPr>
              <a:t>Current:  86,31€ vs. M1 target 75,13€</a:t>
            </a:r>
            <a:br>
              <a:rPr sz="1500"/>
            </a:br>
            <a:r>
              <a:rPr b="0" lang="en-US" sz="1500" spc="-1" strike="noStrike">
                <a:solidFill>
                  <a:srgbClr val="000066"/>
                </a:solidFill>
                <a:latin typeface="Times New Roman"/>
                <a:ea typeface="文鼎中黑"/>
              </a:rPr>
              <a:t>Reasons: new FX rate (about 3,8€ at S25 ) and volume reduction.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66"/>
                </a:solidFill>
                <a:latin typeface="Times New Roman"/>
                <a:ea typeface="文鼎中黑"/>
              </a:rPr>
              <a:t>Time-to-mar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66"/>
                </a:solidFill>
                <a:latin typeface="Times New Roman"/>
                <a:ea typeface="文鼎中黑"/>
              </a:rPr>
              <a:t>24. May 2006 (current) vs 29. May 2006 (M1 target)</a:t>
            </a:r>
            <a:br>
              <a:rPr sz="1500"/>
            </a:br>
            <a:r>
              <a:rPr b="0" lang="en-GB" sz="1500" spc="-1" strike="noStrike">
                <a:solidFill>
                  <a:srgbClr val="000066"/>
                </a:solidFill>
                <a:latin typeface="Times New Roman"/>
                <a:ea typeface="文鼎中黑"/>
              </a:rPr>
              <a:t>(SW version 38)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66"/>
                </a:solidFill>
                <a:latin typeface="Times New Roman"/>
                <a:ea typeface="文鼎中黑"/>
              </a:rPr>
              <a:t>   </a:t>
            </a:r>
            <a:r>
              <a:rPr b="0" lang="en-GB" sz="1500" spc="-1" strike="noStrike">
                <a:solidFill>
                  <a:srgbClr val="000066"/>
                </a:solidFill>
                <a:latin typeface="Times New Roman"/>
                <a:ea typeface="文鼎中黑"/>
              </a:rPr>
              <a:t>Possible earlier deliveries to RUS, UKR of  ~13k on 19. May 2006 to be decided (SW version 37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56000" y="4091040"/>
            <a:ext cx="4467240" cy="1719000"/>
          </a:xfrm>
          <a:prstGeom prst="rect">
            <a:avLst/>
          </a:prstGeom>
          <a:solidFill>
            <a:srgbClr val="ec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3a0e66"/>
                </a:solidFill>
                <a:uFillTx/>
                <a:latin typeface="Times New Roman"/>
                <a:ea typeface="文鼎中黑"/>
              </a:rPr>
              <a:t>S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Alloc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No major issu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Production Technolog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Gap between front cover and uppercase for the first 25k: </a:t>
            </a:r>
            <a:r>
              <a:rPr b="1" lang="en-US" sz="1500" spc="-1" strike="noStrike">
                <a:solidFill>
                  <a:srgbClr val="ff0000"/>
                </a:solidFill>
                <a:latin typeface="Times New Roman"/>
                <a:ea typeface="文鼎中黑"/>
              </a:rPr>
              <a:t>CPM clarifies if this is acceptabl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a0e66"/>
                </a:solidFill>
                <a:latin typeface="Times New Roman"/>
              </a:rPr>
              <a:t>Quality Gate Rating Philippe</a:t>
            </a:r>
            <a:r>
              <a:rPr b="1" lang="en-GB" sz="20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3a0e66"/>
                </a:solidFill>
                <a:latin typeface="Times New Roman"/>
              </a:rPr>
              <a:t>	</a:t>
            </a:r>
            <a:br>
              <a:rPr sz="2000"/>
            </a:br>
            <a:r>
              <a:rPr b="1" lang="en-GB" sz="2000" spc="-1" strike="noStrike">
                <a:solidFill>
                  <a:srgbClr val="3a0e66"/>
                </a:solidFill>
                <a:latin typeface="Times New Roman"/>
              </a:rPr>
              <a:t>DS Status</a:t>
            </a:r>
            <a:endParaRPr b="1" lang="en-US" sz="20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4000320" cy="4032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E7F93E-8ACF-47EA-B013-849CDD71AF3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427640" y="476280"/>
            <a:ext cx="4537080" cy="3221640"/>
          </a:xfrm>
          <a:prstGeom prst="rect">
            <a:avLst/>
          </a:prstGeom>
          <a:solidFill>
            <a:srgbClr val="ec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457200" indent="-457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3a0e66"/>
                </a:solidFill>
                <a:uFillTx/>
                <a:latin typeface="Times New Roman"/>
                <a:ea typeface="文鼎中黑"/>
              </a:rPr>
              <a:t>R&amp;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Softwar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SW 38  still has to be tested in produc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Hardware/Radi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FCC certificate is not available until now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Mechanic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Preliminary parts will have additional 2% scrap rate (approximately 60k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Compliance and Approva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ff0000"/>
                </a:solidFill>
                <a:latin typeface="Times New Roman"/>
                <a:ea typeface="文鼎中黑"/>
              </a:rPr>
              <a:t>FCC certificate</a:t>
            </a:r>
            <a:r>
              <a:rPr b="0" lang="de-DE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 is not available until now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Orange approvals expected May 19th 06 (SW38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Country approvals on SW37 for Ramp up availabl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          </a:t>
            </a:r>
            <a:r>
              <a:rPr b="0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(Turkey, CZR, Croatia, Russia, AZB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Times New Roman"/>
              </a:rPr>
              <a:t>Quality Gate Rating Philippe</a:t>
            </a:r>
            <a:r>
              <a:rPr b="1" lang="en-US" sz="20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a0e66"/>
                </a:solidFill>
                <a:latin typeface="Times New Roman"/>
              </a:rPr>
              <a:t>	</a:t>
            </a:r>
            <a:br>
              <a:rPr sz="2000"/>
            </a:br>
            <a:r>
              <a:rPr b="1" lang="en-US" sz="2000" spc="-1" strike="noStrike">
                <a:solidFill>
                  <a:srgbClr val="3a0e66"/>
                </a:solidFill>
                <a:latin typeface="Times New Roman"/>
              </a:rPr>
              <a:t>DS Status</a:t>
            </a:r>
            <a:endParaRPr b="1" lang="en-US" sz="2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1" name=""/>
          <p:cNvSpPr/>
          <p:nvPr/>
        </p:nvSpPr>
        <p:spPr>
          <a:xfrm>
            <a:off x="4427640" y="3789360"/>
            <a:ext cx="4467240" cy="2907720"/>
          </a:xfrm>
          <a:prstGeom prst="rect">
            <a:avLst/>
          </a:prstGeom>
          <a:solidFill>
            <a:srgbClr val="ec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3a0e66"/>
                </a:solidFill>
                <a:uFillTx/>
                <a:latin typeface="Times New Roman"/>
                <a:ea typeface="文鼎中黑"/>
              </a:rPr>
              <a:t>Q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Overall Prod. Quality / System Tes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Current Return Rate estimation is not yet available (availability until 19. May 2006). NCCPI is </a:t>
            </a:r>
            <a:r>
              <a:rPr b="1" i="1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??</a:t>
            </a:r>
            <a:r>
              <a:rPr b="0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 (inline with NCCPI target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GCF test results not available yet, but planning is inline with customer requirement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Project Qualit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Times New Roman"/>
                <a:ea typeface="文鼎中黑"/>
              </a:rPr>
              <a:t>Signatures</a:t>
            </a:r>
            <a:r>
              <a:rPr b="0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 from EA, SW, LCM1, LCM3, SD QM, ST, QM (BA, CPM) </a:t>
            </a:r>
            <a:r>
              <a:rPr b="1" lang="en-US" sz="1500" spc="-1" strike="noStrike">
                <a:solidFill>
                  <a:srgbClr val="ff0000"/>
                </a:solidFill>
                <a:latin typeface="Times New Roman"/>
                <a:ea typeface="文鼎中黑"/>
              </a:rPr>
              <a:t>not yet available</a:t>
            </a:r>
            <a:r>
              <a:rPr b="0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. Signatures are expected till 24. May 2006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4000320" cy="4032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C5114F-2DB5-44D3-AD96-B184919FD76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3a0e66"/>
                </a:solidFill>
                <a:latin typeface="Times New Roman"/>
              </a:rPr>
              <a:t>Product House Costs – Philippe</a:t>
            </a:r>
            <a:br>
              <a:rPr sz="2000"/>
            </a:br>
            <a:r>
              <a:rPr b="1" lang="zh-TW" sz="2000" spc="-1" strike="noStrike">
                <a:solidFill>
                  <a:srgbClr val="3a0e66"/>
                </a:solidFill>
                <a:latin typeface="Times New Roman"/>
              </a:rPr>
              <a:t>Status at DS</a:t>
            </a:r>
            <a:endParaRPr b="1" lang="en-US" sz="20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84360" y="990720"/>
            <a:ext cx="7488000" cy="524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DDB554-3C17-4E13-9426-DA57A550CEA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Times New Roman"/>
              </a:rPr>
              <a:t>Required management support 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367840" cy="52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Times New Roman"/>
              </a:rPr>
              <a:t>OPC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-630360">
              <a:lnSpc>
                <a:spcPct val="100000"/>
              </a:lnSpc>
              <a:spcBef>
                <a:spcPts val="451"/>
              </a:spcBef>
              <a:buClr>
                <a:srgbClr val="3a0e66"/>
              </a:buClr>
              <a:buFont typeface="Times New Roman"/>
              <a:buChar char="•"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accepts the milestone declaration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-630360">
              <a:lnSpc>
                <a:spcPct val="100000"/>
              </a:lnSpc>
              <a:spcBef>
                <a:spcPts val="451"/>
              </a:spcBef>
              <a:buClr>
                <a:srgbClr val="3a0e66"/>
              </a:buClr>
              <a:buFont typeface="Times New Roman"/>
              <a:buChar char="•"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rejects the milestone declaration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7" name=""/>
          <p:cNvSpPr/>
          <p:nvPr/>
        </p:nvSpPr>
        <p:spPr>
          <a:xfrm>
            <a:off x="446040" y="2997360"/>
            <a:ext cx="380880" cy="304560"/>
          </a:xfrm>
          <a:prstGeom prst="rect">
            <a:avLst/>
          </a:prstGeom>
          <a:solidFill>
            <a:srgbClr val="bad1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6040" y="3645000"/>
            <a:ext cx="380880" cy="304560"/>
          </a:xfrm>
          <a:prstGeom prst="rect">
            <a:avLst/>
          </a:prstGeom>
          <a:solidFill>
            <a:srgbClr val="bad1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8EBA0F-D934-4EE7-9010-1604F6DA0B3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348000" y="2852280"/>
            <a:ext cx="223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a0e66"/>
                </a:solidFill>
                <a:latin typeface="Times New Roman"/>
              </a:rPr>
              <a:t>Backup</a:t>
            </a:r>
            <a:endParaRPr b="1" lang="en-US" sz="4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81332A-6B43-4D7B-9231-F41955320F0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Times New Roman"/>
              </a:rPr>
              <a:t>Points to be closed until DS 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395280" y="765000"/>
          <a:ext cx="8305920" cy="5602320"/>
        </p:xfrm>
        <a:graphic>
          <a:graphicData uri="http://schemas.openxmlformats.org/drawingml/2006/table">
            <a:tbl>
              <a:tblPr/>
              <a:tblGrid>
                <a:gridCol w="1944720"/>
                <a:gridCol w="636120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SW SVN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S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Available since 15.05.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FCC approv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E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All tests passed. All formalities in plac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Grant expected 16.05.06 (maybe +1 day due to time difference US/EU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GCF approv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ST-M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Pass verified on test SW (SVN38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Formal test to be done at 7Layers with official SW SVN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Approval expexted until 22.05.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Java certific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ST-SW / QM-S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Pass confirmed on test SW (SVN38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Pass to be verified on official SW release (Self-certification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Pass confirmed 16.05.06 (DS okay for ST-SW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Listing on SUN WEB page/Certificate expected until 24.05 (not finally confirmed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QM-SW blocks for DS w/o certific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SMS-On-Exit te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QM-S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For Return rate estimation.Testing in 5 days for RR estimation + 2 days for report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Expected to be finished until 24.05.06 (test results 22.05.06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Current status for </a:t>
                      </a:r>
                      <a:r>
                        <a:rPr b="0" lang="en-US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SVN37 is 6,0% - 6,5% (based on Mino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BT qualific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ST-M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Fail on BT test case with SW SVN38. Potentially test failure. Under clarific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No violation of lega requirem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Blocking from ST-MO 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R&amp;TTE approval (BAB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ST-M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200" spc="-1" strike="noStrike">
                          <a:solidFill>
                            <a:srgbClr val="3a0e66"/>
                          </a:solidFill>
                          <a:latin typeface="Minion"/>
                          <a:ea typeface="文鼎中黑"/>
                        </a:rPr>
                        <a:t>Granted 16.05.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E050A4-3476-421A-B9C2-EEEF99EA717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Times New Roman"/>
              </a:rPr>
              <a:t>SW SVN37 DS blockers 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395280" y="1052640"/>
          <a:ext cx="8291520" cy="1933560"/>
        </p:xfrm>
        <a:graphic>
          <a:graphicData uri="http://schemas.openxmlformats.org/drawingml/2006/table">
            <a:tbl>
              <a:tblPr/>
              <a:tblGrid>
                <a:gridCol w="1008000"/>
                <a:gridCol w="7283520"/>
              </a:tblGrid>
              <a:tr h="44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P75001085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Two "lastModified()" related tests failed in JSR75 FC TCK run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439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P750010568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GCF SAT TC27.22.4.13.3 SET UP CALL (display of icons)  is failed. Wrong Terminal Response is sent from ME to SI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P75001057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GCF SAT TC 27.22.7.4.1 LOCATION STATUS EVENT is failed due to wrong ENVELOP send from ME to SI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611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P75001119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000" spc="-1" strike="noStrike">
                          <a:solidFill>
                            <a:srgbClr val="000000"/>
                          </a:solidFill>
                          <a:latin typeface="Arial"/>
                          <a:ea typeface="新細明體"/>
                        </a:rPr>
                        <a:t>Philippe JSR82 TCK  : Test case api/javax/bluetooth/ServiceRecord/setDeviceServiceClassesTest fail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E45BFB-A2A5-4EF2-B35B-DFF943F48B1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eve.huang</dc:creator>
  <dc:description/>
  <dc:language>en-US</dc:language>
  <cp:lastModifiedBy>Juergen Schmitz</cp:lastModifiedBy>
  <dcterms:modified xsi:type="dcterms:W3CDTF">2006-05-17T07:27:17Z</dcterms:modified>
  <cp:revision>163</cp:revision>
  <dc:subject/>
  <dc:title>PowerPoint 簡報</dc:title>
</cp:coreProperties>
</file>