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86B4B-5866-4878-9F50-1F2A594BE0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C2668-7726-4ADF-BC3B-833D0009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AD9EA-BB28-46DC-ACC5-53970FBD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17719-24C6-47CE-B3A7-F591B63342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C8CFB-D71C-4784-BF3A-9179E1A5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33859-4B3F-48E7-846E-CDBF683F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6A9FD-3E38-4A15-BDE7-8C117F41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CFFC1-55CE-490F-8903-346B930A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2E59D-8357-4DE6-83F1-69331314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137FE-9A53-49C8-8E0B-2BEA2E0D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84AC2-9BDC-485B-9F20-6E22833E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8232C-8373-4985-80E6-1FCBAA50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FB41-0BCE-4967-A857-7C2CBF054C28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Philippe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M3/S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.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18.07.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292640"/>
            <a:ext cx="83185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: C. Weid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: J.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: Ch.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D979-5676-4DEE-8409-1809A61594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27640" y="333360"/>
            <a:ext cx="4467240" cy="263052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HK: 98,28€ (current) vs. 88,40€ (M1 target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     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=&gt; deviation + 11%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D: 4'1 Mio.€ (current) vs. 4'7 Mio € (M1 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=&gt; deviation -13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: 19.05.06 (current) vs. 29.05.06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4: 14.07.06 (current) vs. 30.06.06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27640" y="3141720"/>
            <a:ext cx="4467240" cy="20422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7640" y="5229360"/>
            <a:ext cx="4467240" cy="84420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OM (average lifecycl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87,9€ (current) vs. 77,7€ (M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Philippe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M3/S4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6103" t="18899" r="59142" b="33661"/>
          <a:stretch/>
        </p:blipFill>
        <p:spPr>
          <a:xfrm>
            <a:off x="250920" y="1197000"/>
            <a:ext cx="410508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B5C2E-FF68-45DC-B292-23CCEB5CB5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356000" y="1265400"/>
            <a:ext cx="4537080" cy="23086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Quality Gate Rating Philippe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M3/S4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4076640"/>
            <a:ext cx="4467240" cy="176652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 signatures are avail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6103" t="18899" r="59142" b="33661"/>
          <a:stretch/>
        </p:blipFill>
        <p:spPr>
          <a:xfrm>
            <a:off x="179280" y="1268280"/>
            <a:ext cx="410544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EE75E-1458-460D-8FD1-3DABA56C95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Product House Costs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8600" y="819000"/>
          <a:ext cx="8686800" cy="546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19000"/>
                    <a:ext cx="8686800" cy="54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38576-2FE1-4FE5-B578-A2EB1E09BB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8952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6371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EDE85-67CF-452D-82B0-D81F11A7D8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7-17T19:14:40Z</dcterms:modified>
  <cp:revision>113</cp:revision>
  <dc:subject/>
  <dc:title>PowerPoint 簡報</dc:title>
</cp:coreProperties>
</file>