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051B-2DDA-4B35-A230-9483D836C6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6A65-1D80-4E70-9A74-CDCA29E8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45E9-9238-4BC0-A1DB-DA3D2AE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28ED-F584-4DC1-BA18-AFF2E7D33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8B92-CDD7-4757-80A1-354E003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16C5-444A-4FAE-B264-A3662B9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2138-8B76-48B5-91E5-76AEA0B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B1A6-0A85-4D52-B1DC-F85D5DA2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EA94-517D-44C1-9ED3-DDA5C162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C793-FC8A-4863-9F52-CEB60921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1EEB-DD98-4129-B7D2-EA9DDB5A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9C93-D5E5-4877-B79C-07F2BF6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31D8-DBD1-4605-8BB0-EF70F0FA2466}" type="slidenum">
              <a:rPr b="0" lang="zh-TW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95084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hilippe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t Performanc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D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23404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6th Ma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21300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Hubertus Schl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dia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9A5F-09CA-49BB-9ACC-59DFF8908F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6000" y="1003320"/>
            <a:ext cx="4467240" cy="2944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BOM deviation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15%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urrent:  86,31€ vs. M1 target 75,13€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Reasons: new FX rate (about 3,8€ at S25 ) and volume reduction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24. May 2006 (current) vs 29. May 2006 (M1 target)</a:t>
            </a:r>
            <a:br>
              <a:rPr sz="1500"/>
            </a:b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(SW version 38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  </a:t>
            </a: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Possible earlier deliveries to RUS, UKR of  ~13k on 19. May 2006 to be decided (SW version 3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091040"/>
            <a:ext cx="4467240" cy="17190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major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ap between front cover and uppercase for the first 25k: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CPM clarifies if this is accep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301F-91E7-47C7-84D1-6A2D946DA3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476280"/>
            <a:ext cx="4537080" cy="32216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 38  still has to be tested in p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CC certificate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eliminary parts will have additional 2% scrap rate (approximately 60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FCC certificate</a:t>
            </a: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range approvals expected May 19th 06 (SW3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untry approvals on SW37 for Ramp up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Turkey, CZR, Croatia, Russia, AZ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789360"/>
            <a:ext cx="4467240" cy="29077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is not yet available (availability until 19. May 2006). NCCPI is </a:t>
            </a:r>
            <a:r>
              <a:rPr b="1" i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??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(inline with NCCPI tar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CF test results not available yet, but planning is inline with customer require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ignatures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from EA, SW, LCM1, LCM3, SD QM, ST, QM (BA, CPM)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not yet available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 Signatures are expected till 24. May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D865-9913-4386-A136-77F1B7409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Product House Costs – Philippe</a:t>
            </a:r>
            <a:br>
              <a:rPr sz="2000"/>
            </a:b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Status at D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990720"/>
            <a:ext cx="7488000" cy="52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0BD9-B645-4D2F-8791-4877F0F46F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46040" y="29973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36450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E83C-4D07-4471-9F61-E9AB4A32C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DC31-87B4-4A69-ABF7-B548B282EF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oints to be closed until D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765000"/>
          <a:ext cx="8305920" cy="5602320"/>
        </p:xfrm>
        <a:graphic>
          <a:graphicData uri="http://schemas.openxmlformats.org/drawingml/2006/table">
            <a:tbl>
              <a:tblPr/>
              <a:tblGrid>
                <a:gridCol w="1944720"/>
                <a:gridCol w="6361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vailable since 15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CC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 tests passed. All formalities in 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 expected 16.05.06 (maybe +1 day due to time difference US/E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CF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verified on test SW (SVN3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mal test to be done at 7Layers with official 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pproval expexted until 22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Java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SW / 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on test SW (SVN3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to be verified on official SW release (Self-certification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16.05.06 (DS okay for ST-SW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sting on SUN WEB page/Certificate expected until 24.05 (not finally confir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 blocks for DS w/o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MS-On-Exit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 Return rate estimation.Testing in 5 days for RR estimation + 2 days for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xpected to be finished until 24.05.06 (test results 22.05.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urrent status for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VN37 is 6,0% - 6,5% (based on Min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T qual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il on BT test case with SW SVN38. Potentially test failure. Under cla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 violation of leg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locking from ST-MO 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TTE approval (BAB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ed 16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F548-857D-434B-9311-B3A6590A9D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W SVN37 DS blocker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052640"/>
          <a:ext cx="8291520" cy="1933560"/>
        </p:xfrm>
        <a:graphic>
          <a:graphicData uri="http://schemas.openxmlformats.org/drawingml/2006/table">
            <a:tbl>
              <a:tblPr/>
              <a:tblGrid>
                <a:gridCol w="1008000"/>
                <a:gridCol w="72835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8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wo "lastModified()" related tests failed in JSR75 FC TCK ru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27.22.4.13.3 SET UP CALL (display of icons)  is failed. Wrong Terminal Response is sent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 27.22.7.4.1 LOCATION STATUS EVENT is failed due to wrong ENVELOP send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11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hilippe JSR82 TCK  : Test case api/javax/bluetooth/ServiceRecord/setDeviceServiceClassesTest fai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C17F-8FD0-47DC-ABF8-C4DB7BF1AE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5-17T07:27:17Z</dcterms:modified>
  <cp:revision>163</cp:revision>
  <dc:subject/>
  <dc:title>PowerPoint 簡報</dc:title>
</cp:coreProperties>
</file>