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9D6B-94B6-41FD-AE8A-B3DA8D002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E2EB-C4F6-4780-839B-50337BFD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CD7B-2067-48A0-8FC9-F1AAD709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AE0D-8819-41B1-97C8-068719F7B4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28A2-54BC-475D-86D9-5A6F431B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C4F0-E6CA-4663-8AC3-0A94C3C9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179E2-1405-4FC6-8159-4466D65C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7B07-08D0-4B7E-8CD9-45603B9F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7D24-68EA-46DE-A6C5-5EB0D85E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DABC-A567-41F2-8DE1-E14F434B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7EEF-ECF3-495B-A523-76B41117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FD24-3C91-4EDC-8203-D794AD78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C079-A65A-4299-AB6C-EEB7F7B370A6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hilipp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M3/S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8.07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29264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C. Weid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Ch.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DCAB-1F12-463E-BD86-CDB341CC96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27640" y="333360"/>
            <a:ext cx="4467240" cy="2630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HK: 98,28€ (current) vs. 88,40€ (M1 target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     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=&gt; deviation + 11%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D: 4'1 Mio.€ (current) vs. 4'7 Mio €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=&gt; deviation -1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: 19.05.06 (current) vs. 29.05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4: 14.07.06 (current) vs. 30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314172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229360"/>
            <a:ext cx="4467240" cy="8442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(average lifecycl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87,9€ (current) vs. 77,7€ (M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3/S4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103" t="18899" r="59142" b="33661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F261-049C-4487-8CFA-CF448DCEC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3/S4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signatures are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6103" t="18899" r="59142" b="33661"/>
          <a:stretch/>
        </p:blipFill>
        <p:spPr>
          <a:xfrm>
            <a:off x="179280" y="1268280"/>
            <a:ext cx="410544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3348-A501-4799-883D-67D65EBFB3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roduct House Costs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819000"/>
          <a:ext cx="8686800" cy="54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19000"/>
                    <a:ext cx="8686800" cy="54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4504-7DF2-42DA-8E50-11EB855352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979E-5AB3-48CD-B9D6-86FB8B0C1F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17T19:14:40Z</dcterms:modified>
  <cp:revision>113</cp:revision>
  <dc:subject/>
  <dc:title>PowerPoint 簡報</dc:title>
</cp:coreProperties>
</file>