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4F0C-7595-417A-A9D7-91517A5B03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B409-11B8-41DC-87F6-99792DED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9EA1-6025-40C8-AA70-C3BA55FC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A3FD-0EE9-4475-880F-905DDB954F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746F-F615-43BA-9D0A-0538CAA0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D9FC-D30E-4FC4-8E0F-A40A7080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9F11-0583-4D2E-B4FF-E2F38AA4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6EC9-2ADB-4DCB-B1CA-8D3CEB52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1604-541D-4CF4-BCD5-38B38845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621E-9102-476B-B1D5-2A34620F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372B-76FE-465B-A2EB-3CBD7888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2650-9B45-45DF-875B-848A8E2F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C155-ACA1-4FC3-AD9F-725366E62132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hilipp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M3/S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8.07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29264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C. Weid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Ch.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B50C3-005B-4B52-9049-37DEF8FE57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27640" y="333360"/>
            <a:ext cx="4467240" cy="2630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HK: 98,28€ (current) vs. 88,40€ (M1 target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     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=&gt; deviation + 11%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D: 4'1 Mio.€ (current) vs. 4'7 Mio €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=&gt; deviation -1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: 19.05.06 (current) vs. 29.05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4: 14.07.06 (current) vs. 30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314172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229360"/>
            <a:ext cx="4467240" cy="8442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(average lifecycl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87,9€ (current) vs. 77,7€ (M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3/S4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103" t="18899" r="59142" b="33661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D349-8E8E-4C21-9C05-83BBB4246C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3/S4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signatures are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6103" t="18899" r="59142" b="33661"/>
          <a:stretch/>
        </p:blipFill>
        <p:spPr>
          <a:xfrm>
            <a:off x="179280" y="1268280"/>
            <a:ext cx="410544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0B4B7-3FEF-489A-93F1-B6B4218022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roduct House Costs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819000"/>
          <a:ext cx="8686800" cy="54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19000"/>
                    <a:ext cx="8686800" cy="54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FE78-F83D-4279-8714-7C89ED3760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CF10-3F00-4D59-9A8C-CDCB56DFEF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17T19:14:40Z</dcterms:modified>
  <cp:revision>113</cp:revision>
  <dc:subject/>
  <dc:title>PowerPoint 簡報</dc:title>
</cp:coreProperties>
</file>