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2C35-C01F-4DCD-A63F-299FDB1B35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24E2-620E-4EC7-A835-CFA813EA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11B9-155B-4C5B-9B19-1E5220F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3317-8F26-42A2-A290-EAB799C38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B272-FE2F-43A2-A1D6-A3BCDD28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F267-2B09-40B1-AFF5-E0C96B71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D725-1597-4C4A-86B5-3390423C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B0E1-A970-401A-B03B-07CF9E5A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75FA-C347-41C5-BC5B-2F94850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3189-64EC-4353-97F0-E05B6E83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A6B3-D200-4915-87B3-EBF2E3F5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C965-B7DB-4F03-B054-203A23F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51A4-C51A-4376-840D-5D481E555F61}" type="slidenum">
              <a:rPr b="0" lang="zh-TW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95084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hilippe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t Performanc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D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23404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6th Ma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21300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Hubertus Schl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dia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576B-978E-4677-8BC5-112C3818A0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6000" y="1003320"/>
            <a:ext cx="4467240" cy="2944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BOM deviation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15%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urrent:  86,31€ vs. M1 target 75,13€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Reasons: new FX rate (about 3,8€ at S25 ) and volume reduction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24. May 2006 (current) vs 29. May 2006 (M1 target)</a:t>
            </a:r>
            <a:br>
              <a:rPr sz="1500"/>
            </a:b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(SW version 38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  </a:t>
            </a: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Possible earlier deliveries to RUS, UKR of  ~13k on 19. May 2006 to be decided (SW version 3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091040"/>
            <a:ext cx="4467240" cy="17190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major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ap between front cover and uppercase for the first 25k: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CPM clarifies if this is accep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03FE-4E44-43B5-B7E9-89A97A8C1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476280"/>
            <a:ext cx="4537080" cy="32216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 38  still has to be tested in p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CC certificate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eliminary parts will have additional 2% scrap rate (approximately 60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FCC certificate</a:t>
            </a: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range approvals expected May 19th 06 (SW3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untry approvals on SW37 for Ramp up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Turkey, CZR, Croatia, Russia, AZ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789360"/>
            <a:ext cx="4467240" cy="29077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is not yet available (availability until 19. May 2006). NCCPI is </a:t>
            </a:r>
            <a:r>
              <a:rPr b="1" i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??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(inline with NCCPI tar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CF test results not available yet, but planning is inline with customer require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ignatures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from EA, SW, LCM1, LCM3, SD QM, ST, QM (BA, CPM)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not yet available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 Signatures are expected till 24. May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93CA-474D-4734-9967-F476622F32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Product House Costs – Philippe</a:t>
            </a:r>
            <a:br>
              <a:rPr sz="2000"/>
            </a:b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Status at D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990720"/>
            <a:ext cx="7488000" cy="52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0978-38AC-4223-9404-D99AC87113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46040" y="29973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36450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362C-06D4-4CC2-BC27-73ABD82C00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97B2-A80A-40A2-B5A3-5ECB62A7E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oints to be closed until D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765000"/>
          <a:ext cx="8305920" cy="5602320"/>
        </p:xfrm>
        <a:graphic>
          <a:graphicData uri="http://schemas.openxmlformats.org/drawingml/2006/table">
            <a:tbl>
              <a:tblPr/>
              <a:tblGrid>
                <a:gridCol w="1944720"/>
                <a:gridCol w="6361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vailable since 15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CC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 tests passed. All formalities in 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 expected 16.05.06 (maybe +1 day due to time difference US/E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CF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verified on test SW (SVN3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mal test to be done at 7Layers with official 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pproval expexted until 22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Java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SW / 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on test SW (SVN3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to be verified on official SW release (Self-certification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16.05.06 (DS okay for ST-SW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sting on SUN WEB page/Certificate expected until 24.05 (not finally confir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 blocks for DS w/o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MS-On-Exit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 Return rate estimation.Testing in 5 days for RR estimation + 2 days for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xpected to be finished until 24.05.06 (test results 22.05.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urrent status for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VN37 is 6,0% - 6,5% (based on Min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T qual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il on BT test case with SW SVN38. Potentially test failure. Under cla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 violation of leg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locking from ST-MO 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TTE approval (BAB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ed 16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160A-72DF-436E-9635-EB75DE76A6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W SVN37 DS blocker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052640"/>
          <a:ext cx="8291520" cy="1933560"/>
        </p:xfrm>
        <a:graphic>
          <a:graphicData uri="http://schemas.openxmlformats.org/drawingml/2006/table">
            <a:tbl>
              <a:tblPr/>
              <a:tblGrid>
                <a:gridCol w="1008000"/>
                <a:gridCol w="72835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8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wo "lastModified()" related tests failed in JSR75 FC TCK ru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27.22.4.13.3 SET UP CALL (display of icons)  is failed. Wrong Terminal Response is sent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 27.22.7.4.1 LOCATION STATUS EVENT is failed due to wrong ENVELOP send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11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hilippe JSR82 TCK  : Test case api/javax/bluetooth/ServiceRecord/setDeviceServiceClassesTest fai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423A-D7B1-449F-A149-309C1704C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5-17T07:27:17Z</dcterms:modified>
  <cp:revision>163</cp:revision>
  <dc:subject/>
  <dc:title>PowerPoint 簡報</dc:title>
</cp:coreProperties>
</file>