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4825" cy="96662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4EB24-B7E4-46E3-8D90-35F2EF4A47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74480" y="550440"/>
            <a:ext cx="84690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74480" y="1333440"/>
            <a:ext cx="846900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4480" y="2422080"/>
            <a:ext cx="846900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A8D36-45DC-4CC7-AB77-4C1E474B58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74480" y="550440"/>
            <a:ext cx="84690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74480" y="1333440"/>
            <a:ext cx="413280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14280" y="1333440"/>
            <a:ext cx="413280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74480" y="2422080"/>
            <a:ext cx="413280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14280" y="2422080"/>
            <a:ext cx="413280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8728C-245E-4484-AD87-C3DA5EE40E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74480" y="550440"/>
            <a:ext cx="84690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74480" y="1333440"/>
            <a:ext cx="272664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37920" y="1333440"/>
            <a:ext cx="272664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01360" y="1333440"/>
            <a:ext cx="272664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4480" y="2422080"/>
            <a:ext cx="272664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37920" y="2422080"/>
            <a:ext cx="272664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01360" y="2422080"/>
            <a:ext cx="272664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A47F1-64F5-4F92-8748-2A193581CA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74480" y="550440"/>
            <a:ext cx="84690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74480" y="1333440"/>
            <a:ext cx="8469000" cy="20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4480" y="550440"/>
            <a:ext cx="84690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4480" y="1333440"/>
            <a:ext cx="8469000" cy="20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74480" y="550440"/>
            <a:ext cx="84690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74480" y="1333440"/>
            <a:ext cx="4132800" cy="20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14280" y="1333440"/>
            <a:ext cx="4132800" cy="20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74480" y="550440"/>
            <a:ext cx="84690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74480" y="550440"/>
            <a:ext cx="846900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74480" y="550440"/>
            <a:ext cx="84690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74480" y="1333440"/>
            <a:ext cx="413280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14280" y="1333440"/>
            <a:ext cx="4132800" cy="20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4480" y="2422080"/>
            <a:ext cx="413280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4480" y="550440"/>
            <a:ext cx="84690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74480" y="1333440"/>
            <a:ext cx="8469000" cy="20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F9E09-CE8F-4CD0-AFD2-DCF0D3A8B2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4480" y="550440"/>
            <a:ext cx="84690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4480" y="1333440"/>
            <a:ext cx="4132800" cy="20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333440"/>
            <a:ext cx="413280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14280" y="2422080"/>
            <a:ext cx="413280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74480" y="550440"/>
            <a:ext cx="84690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74480" y="1333440"/>
            <a:ext cx="413280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14280" y="1333440"/>
            <a:ext cx="413280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4480" y="2422080"/>
            <a:ext cx="846900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74480" y="550440"/>
            <a:ext cx="84690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74480" y="1333440"/>
            <a:ext cx="846900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480" y="2422080"/>
            <a:ext cx="846900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74480" y="550440"/>
            <a:ext cx="84690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74480" y="1333440"/>
            <a:ext cx="413280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14280" y="1333440"/>
            <a:ext cx="413280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74480" y="2422080"/>
            <a:ext cx="413280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14280" y="2422080"/>
            <a:ext cx="413280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74480" y="550440"/>
            <a:ext cx="84690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74480" y="1333440"/>
            <a:ext cx="272664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37920" y="1333440"/>
            <a:ext cx="272664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01360" y="1333440"/>
            <a:ext cx="272664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74480" y="2422080"/>
            <a:ext cx="272664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37920" y="2422080"/>
            <a:ext cx="272664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01360" y="2422080"/>
            <a:ext cx="272664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74480" y="550440"/>
            <a:ext cx="84690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74480" y="1333440"/>
            <a:ext cx="8469000" cy="20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77420-5EFE-4FF0-85CE-5958B70851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74480" y="550440"/>
            <a:ext cx="84690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74480" y="1333440"/>
            <a:ext cx="4132800" cy="20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14280" y="1333440"/>
            <a:ext cx="4132800" cy="20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64727-7B7B-4A96-8D1C-CE7106497E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4480" y="550440"/>
            <a:ext cx="84690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891BD-D3E0-4E75-BAB5-EF2A029C3D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74480" y="550440"/>
            <a:ext cx="846900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C2F17-5FF2-4426-BE29-CEB972E4B9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4480" y="550440"/>
            <a:ext cx="84690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4480" y="1333440"/>
            <a:ext cx="413280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4280" y="1333440"/>
            <a:ext cx="4132800" cy="20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480" y="2422080"/>
            <a:ext cx="413280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95018-BB61-4696-A62D-B9D0128A8F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4480" y="550440"/>
            <a:ext cx="84690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4480" y="1333440"/>
            <a:ext cx="4132800" cy="20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4280" y="1333440"/>
            <a:ext cx="413280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14280" y="2422080"/>
            <a:ext cx="413280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46088-0E8D-40CF-8875-A79B7CA225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4480" y="550440"/>
            <a:ext cx="84690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4480" y="1333440"/>
            <a:ext cx="413280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14280" y="1333440"/>
            <a:ext cx="413280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4480" y="2422080"/>
            <a:ext cx="846900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E240F-1D21-4865-BD3D-2E98F2C234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-1440"/>
            <a:ext cx="9144000" cy="6858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4480" y="550440"/>
            <a:ext cx="84690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4480" y="1333440"/>
            <a:ext cx="8469000" cy="20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25360" indent="-223920">
              <a:spcBef>
                <a:spcPts val="499"/>
              </a:spcBef>
              <a:buClr>
                <a:srgbClr val="5f86a2"/>
              </a:buClr>
              <a:buSzPct val="11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52520" indent="-225360">
              <a:spcBef>
                <a:spcPts val="499"/>
              </a:spcBef>
              <a:buClr>
                <a:srgbClr val="5f86a2"/>
              </a:buClr>
              <a:buSzPct val="12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77880" indent="-223920">
              <a:spcBef>
                <a:spcPts val="499"/>
              </a:spcBef>
              <a:buClr>
                <a:srgbClr val="5f86a2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905040" indent="-225720">
              <a:spcBef>
                <a:spcPts val="499"/>
              </a:spcBef>
              <a:buClr>
                <a:srgbClr val="5f86a2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905040" indent="-22572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905040" indent="-22572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474840" y="6603840"/>
            <a:ext cx="45720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4330800" y="6512400"/>
            <a:ext cx="4111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age </a:t>
            </a:r>
            <a:fld id="{7B87E46F-4417-418D-AAEE-4F532C857442}" type="slidenum">
              <a:rPr b="0" lang="en-US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6899400" y="6470640"/>
            <a:ext cx="2053800" cy="236160"/>
            <a:chOff x="6899400" y="6470640"/>
            <a:chExt cx="2053800" cy="236160"/>
          </a:xfrm>
        </p:grpSpPr>
        <p:pic>
          <p:nvPicPr>
            <p:cNvPr id="6" name="" descr=""/>
            <p:cNvPicPr/>
            <p:nvPr/>
          </p:nvPicPr>
          <p:blipFill>
            <a:blip r:embed="rId3"/>
            <a:stretch/>
          </p:blipFill>
          <p:spPr>
            <a:xfrm>
              <a:off x="6899400" y="6470640"/>
              <a:ext cx="815040" cy="23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" descr=""/>
            <p:cNvPicPr/>
            <p:nvPr/>
          </p:nvPicPr>
          <p:blipFill>
            <a:blip r:embed="rId4"/>
            <a:srcRect l="4008" t="11349" r="3770" b="10772"/>
            <a:stretch/>
          </p:blipFill>
          <p:spPr>
            <a:xfrm>
              <a:off x="7797600" y="6472800"/>
              <a:ext cx="1155600" cy="2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7712280" y="6549120"/>
              <a:ext cx="61560" cy="61560"/>
            </a:xfrm>
            <a:custGeom>
              <a:avLst/>
              <a:gdLst/>
              <a:ahLst/>
              <a:rect l="l" t="t" r="r" b="b"/>
              <a:pathLst>
                <a:path w="1008" h="1006">
                  <a:moveTo>
                    <a:pt x="504" y="0"/>
                  </a:moveTo>
                  <a:cubicBezTo>
                    <a:pt x="641" y="0"/>
                    <a:pt x="910" y="47"/>
                    <a:pt x="935" y="72"/>
                  </a:cubicBezTo>
                  <a:cubicBezTo>
                    <a:pt x="960" y="97"/>
                    <a:pt x="1008" y="369"/>
                    <a:pt x="1008" y="504"/>
                  </a:cubicBezTo>
                  <a:cubicBezTo>
                    <a:pt x="1008" y="639"/>
                    <a:pt x="963" y="909"/>
                    <a:pt x="938" y="934"/>
                  </a:cubicBezTo>
                  <a:cubicBezTo>
                    <a:pt x="913" y="959"/>
                    <a:pt x="639" y="1006"/>
                    <a:pt x="504" y="1006"/>
                  </a:cubicBezTo>
                  <a:cubicBezTo>
                    <a:pt x="369" y="1006"/>
                    <a:pt x="100" y="961"/>
                    <a:pt x="75" y="936"/>
                  </a:cubicBezTo>
                  <a:cubicBezTo>
                    <a:pt x="50" y="911"/>
                    <a:pt x="0" y="638"/>
                    <a:pt x="0" y="504"/>
                  </a:cubicBezTo>
                  <a:cubicBezTo>
                    <a:pt x="0" y="370"/>
                    <a:pt x="49" y="98"/>
                    <a:pt x="74" y="72"/>
                  </a:cubicBezTo>
                  <a:cubicBezTo>
                    <a:pt x="99" y="46"/>
                    <a:pt x="367" y="0"/>
                    <a:pt x="504" y="0"/>
                  </a:cubicBezTo>
                  <a:close/>
                </a:path>
              </a:pathLst>
            </a:custGeom>
            <a:solidFill>
              <a:srgbClr val="3a0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4480" y="1325520"/>
            <a:ext cx="7011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5421240" y="6192720"/>
            <a:ext cx="3319560" cy="382680"/>
            <a:chOff x="5421240" y="6192720"/>
            <a:chExt cx="3319560" cy="382680"/>
          </a:xfrm>
        </p:grpSpPr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5421240" y="6192720"/>
              <a:ext cx="1317600" cy="38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" descr=""/>
            <p:cNvPicPr/>
            <p:nvPr/>
          </p:nvPicPr>
          <p:blipFill>
            <a:blip r:embed="rId4"/>
            <a:srcRect l="4008" t="15978" r="3770" b="17710"/>
            <a:stretch/>
          </p:blipFill>
          <p:spPr>
            <a:xfrm>
              <a:off x="6873840" y="6216480"/>
              <a:ext cx="1866960" cy="29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734160" y="6319800"/>
              <a:ext cx="101520" cy="101520"/>
            </a:xfrm>
            <a:custGeom>
              <a:avLst/>
              <a:gdLst/>
              <a:ahLst/>
              <a:rect l="l" t="t" r="r" b="b"/>
              <a:pathLst>
                <a:path w="1008" h="1006">
                  <a:moveTo>
                    <a:pt x="504" y="0"/>
                  </a:moveTo>
                  <a:cubicBezTo>
                    <a:pt x="641" y="0"/>
                    <a:pt x="910" y="47"/>
                    <a:pt x="935" y="72"/>
                  </a:cubicBezTo>
                  <a:cubicBezTo>
                    <a:pt x="960" y="97"/>
                    <a:pt x="1008" y="369"/>
                    <a:pt x="1008" y="504"/>
                  </a:cubicBezTo>
                  <a:cubicBezTo>
                    <a:pt x="1008" y="639"/>
                    <a:pt x="963" y="909"/>
                    <a:pt x="938" y="934"/>
                  </a:cubicBezTo>
                  <a:cubicBezTo>
                    <a:pt x="913" y="959"/>
                    <a:pt x="639" y="1006"/>
                    <a:pt x="504" y="1006"/>
                  </a:cubicBezTo>
                  <a:cubicBezTo>
                    <a:pt x="369" y="1006"/>
                    <a:pt x="100" y="961"/>
                    <a:pt x="75" y="936"/>
                  </a:cubicBezTo>
                  <a:cubicBezTo>
                    <a:pt x="50" y="911"/>
                    <a:pt x="0" y="638"/>
                    <a:pt x="0" y="504"/>
                  </a:cubicBezTo>
                  <a:cubicBezTo>
                    <a:pt x="0" y="370"/>
                    <a:pt x="49" y="98"/>
                    <a:pt x="74" y="72"/>
                  </a:cubicBezTo>
                  <a:cubicBezTo>
                    <a:pt x="99" y="46"/>
                    <a:pt x="367" y="0"/>
                    <a:pt x="504" y="0"/>
                  </a:cubicBezTo>
                  <a:close/>
                </a:path>
              </a:pathLst>
            </a:custGeom>
            <a:solidFill>
              <a:srgbClr val="3a0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0" y="-1440"/>
            <a:ext cx="9144000" cy="6858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44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80880" algn="ctr">
              <a:spcBef>
                <a:spcPts val="499"/>
              </a:spcBef>
              <a:buClr>
                <a:srgbClr val="5f86a2"/>
              </a:buClr>
              <a:buSzPct val="12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762120" algn="ctr">
              <a:spcBef>
                <a:spcPts val="499"/>
              </a:spcBef>
              <a:buClr>
                <a:srgbClr val="5f86a2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143000" algn="ctr">
              <a:spcBef>
                <a:spcPts val="499"/>
              </a:spcBef>
              <a:buClr>
                <a:srgbClr val="5f86a2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1430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1430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hyperlink" Target="http://creative.gettyimages.com/source/search/ImageEnlarge.aspx?MasterID=200118032-001&amp;s=ImageDetailSearchState%7C3%7C5%7C0%7C15%7C2%7C1%7C0%7C0%7C1%7C44%7C60%7C31.0.37.61.32.30.28.34.36.13.62.63.10.1.7.64.35.65.11.66.67.24.23.22.16.38.39.33.18.68.41.40.9.4.6.25.26.69%7C5%7C0%7C(%22Sheet+Music%3APrinted+Media%22+and+%22listening%3Ak%22)+or+(%22Music%3ATopics%22+and+%22listening%3Ak%22)%7C%7C1%7C0&amp;pk=6" TargetMode="External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5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74480" y="1569240"/>
            <a:ext cx="7011720" cy="10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81</a:t>
            </a:r>
            <a:br>
              <a:rPr sz="44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rban Activ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74840" y="4430880"/>
            <a:ext cx="54115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une 2006 – Confident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49680" y="5707080"/>
            <a:ext cx="15433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inion Bold"/>
              </a:rPr>
              <a:t>Keep explor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74840" y="3335400"/>
            <a:ext cx="54115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roduct Stor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74480" y="550440"/>
            <a:ext cx="6716520" cy="36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lore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378080" y="3067200"/>
            <a:ext cx="6113160" cy="12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998"/>
              </a:lnSpc>
              <a:spcBef>
                <a:spcPts val="2001"/>
              </a:spcBef>
              <a:tabLst>
                <a:tab algn="l" pos="0"/>
                <a:tab algn="l" pos="34128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t's all about dynam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spcBef>
                <a:spcPts val="2001"/>
              </a:spcBef>
              <a:tabLst>
                <a:tab algn="l" pos="0"/>
                <a:tab algn="l" pos="34128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's all about what you can do with techn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spcBef>
                <a:spcPts val="2001"/>
              </a:spcBef>
              <a:tabLst>
                <a:tab algn="l" pos="0"/>
                <a:tab algn="l" pos="34128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nd what technology can do for yo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4840" y="46080"/>
            <a:ext cx="820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81 – Urban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335320"/>
            <a:ext cx="9144000" cy="3744720"/>
          </a:xfrm>
          <a:custGeom>
            <a:avLst/>
            <a:gdLst/>
            <a:ahLst/>
            <a:rect l="l" t="t" r="r" b="b"/>
            <a:pathLst>
              <a:path w="5760" h="2359">
                <a:moveTo>
                  <a:pt x="5760" y="2359"/>
                </a:moveTo>
                <a:lnTo>
                  <a:pt x="0" y="2358"/>
                </a:lnTo>
                <a:lnTo>
                  <a:pt x="2" y="2250"/>
                </a:lnTo>
                <a:lnTo>
                  <a:pt x="448" y="2186"/>
                </a:lnTo>
                <a:lnTo>
                  <a:pt x="917" y="2113"/>
                </a:lnTo>
                <a:lnTo>
                  <a:pt x="1258" y="2060"/>
                </a:lnTo>
                <a:lnTo>
                  <a:pt x="1597" y="2008"/>
                </a:lnTo>
                <a:lnTo>
                  <a:pt x="1927" y="1954"/>
                </a:lnTo>
                <a:lnTo>
                  <a:pt x="2252" y="1903"/>
                </a:lnTo>
                <a:lnTo>
                  <a:pt x="2529" y="1856"/>
                </a:lnTo>
                <a:lnTo>
                  <a:pt x="2847" y="1799"/>
                </a:lnTo>
                <a:lnTo>
                  <a:pt x="3360" y="1693"/>
                </a:lnTo>
                <a:lnTo>
                  <a:pt x="3626" y="1628"/>
                </a:lnTo>
                <a:lnTo>
                  <a:pt x="3975" y="1534"/>
                </a:lnTo>
                <a:lnTo>
                  <a:pt x="4374" y="1413"/>
                </a:lnTo>
                <a:lnTo>
                  <a:pt x="4727" y="1301"/>
                </a:lnTo>
                <a:lnTo>
                  <a:pt x="4914" y="1240"/>
                </a:lnTo>
                <a:lnTo>
                  <a:pt x="5067" y="1184"/>
                </a:lnTo>
                <a:lnTo>
                  <a:pt x="5144" y="1152"/>
                </a:lnTo>
                <a:lnTo>
                  <a:pt x="5208" y="1118"/>
                </a:lnTo>
                <a:lnTo>
                  <a:pt x="5332" y="1036"/>
                </a:lnTo>
                <a:lnTo>
                  <a:pt x="5383" y="987"/>
                </a:lnTo>
                <a:lnTo>
                  <a:pt x="5413" y="939"/>
                </a:lnTo>
                <a:lnTo>
                  <a:pt x="5437" y="898"/>
                </a:lnTo>
                <a:lnTo>
                  <a:pt x="5470" y="832"/>
                </a:lnTo>
                <a:lnTo>
                  <a:pt x="5495" y="776"/>
                </a:lnTo>
                <a:lnTo>
                  <a:pt x="5522" y="705"/>
                </a:lnTo>
                <a:lnTo>
                  <a:pt x="5653" y="338"/>
                </a:lnTo>
                <a:lnTo>
                  <a:pt x="5760" y="0"/>
                </a:lnTo>
                <a:lnTo>
                  <a:pt x="5760" y="23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8080" y="5136480"/>
            <a:ext cx="75657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86a2"/>
                </a:solidFill>
                <a:latin typeface="Arial"/>
              </a:rPr>
              <a:t>The category </a:t>
            </a:r>
            <a:br>
              <a:rPr sz="1800"/>
            </a:br>
            <a:r>
              <a:rPr b="1" lang="en-US" sz="1800" spc="-1" strike="noStrike">
                <a:solidFill>
                  <a:srgbClr val="5f86a2"/>
                </a:solidFill>
                <a:latin typeface="Arial"/>
              </a:rPr>
              <a:t>Explore Performance </a:t>
            </a:r>
            <a:br>
              <a:rPr sz="1800"/>
            </a:br>
            <a:r>
              <a:rPr b="1" lang="en-US" sz="1800" spc="-1" strike="noStrike">
                <a:solidFill>
                  <a:srgbClr val="5f86a2"/>
                </a:solidFill>
                <a:latin typeface="Arial"/>
              </a:rPr>
              <a:t>offers joyful and convincing technical solutions </a:t>
            </a:r>
            <a:br>
              <a:rPr sz="1800"/>
            </a:br>
            <a:r>
              <a:rPr b="1" lang="en-US" sz="1800" spc="-1" strike="noStrike">
                <a:solidFill>
                  <a:srgbClr val="5f86a2"/>
                </a:solidFill>
                <a:latin typeface="Arial"/>
              </a:rPr>
              <a:t>to the consumer without accepting any compromise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0" y="5905440"/>
            <a:ext cx="978480" cy="441720"/>
            <a:chOff x="0" y="5905440"/>
            <a:chExt cx="978480" cy="441720"/>
          </a:xfrm>
        </p:grpSpPr>
        <p:grpSp>
          <p:nvGrpSpPr>
            <p:cNvPr id="99" name=""/>
            <p:cNvGrpSpPr/>
            <p:nvPr/>
          </p:nvGrpSpPr>
          <p:grpSpPr>
            <a:xfrm>
              <a:off x="0" y="5932440"/>
              <a:ext cx="92160" cy="82440"/>
              <a:chOff x="0" y="5932440"/>
              <a:chExt cx="92160" cy="82440"/>
            </a:xfrm>
          </p:grpSpPr>
          <p:sp>
            <p:nvSpPr>
              <p:cNvPr id="100" name=""/>
              <p:cNvSpPr/>
              <p:nvPr/>
            </p:nvSpPr>
            <p:spPr>
              <a:xfrm>
                <a:off x="9360" y="5932440"/>
                <a:ext cx="82800" cy="82440"/>
              </a:xfrm>
              <a:prstGeom prst="rect">
                <a:avLst/>
              </a:prstGeom>
              <a:solidFill>
                <a:srgbClr val="5f86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0" y="5932440"/>
                <a:ext cx="0" cy="79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138960" y="5905440"/>
              <a:ext cx="839520" cy="44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88920"/>
                  <a:tab algn="l" pos="179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5f86a2"/>
                  </a:solidFill>
                  <a:latin typeface="Arial"/>
                </a:rPr>
                <a:t>Performanc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88920"/>
                  <a:tab algn="l" pos="179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5f86a2"/>
                  </a:solidFill>
                  <a:latin typeface="Arial"/>
                </a:rPr>
                <a:t>	</a:t>
              </a:r>
              <a:r>
                <a:rPr b="1" lang="en-US" sz="800" spc="-1" strike="noStrike">
                  <a:solidFill>
                    <a:srgbClr val="5f86a2"/>
                  </a:solidFill>
                  <a:latin typeface="Arial"/>
                </a:rPr>
                <a:t>Explore Energ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88920"/>
                  <a:tab algn="l" pos="179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5f86a2"/>
                  </a:solidFill>
                  <a:latin typeface="Arial"/>
                </a:rPr>
                <a:t>	</a:t>
              </a:r>
              <a:r>
                <a:rPr b="1" lang="en-US" sz="800" spc="-1" strike="noStrike">
                  <a:solidFill>
                    <a:srgbClr val="5f86a2"/>
                  </a:solidFill>
                  <a:latin typeface="Arial"/>
                </a:rPr>
                <a:t>	</a:t>
              </a:r>
              <a:r>
                <a:rPr b="1" lang="en-US" sz="800" spc="-1" strike="noStrike">
                  <a:solidFill>
                    <a:srgbClr val="5f86a2"/>
                  </a:solidFill>
                  <a:latin typeface="Arial"/>
                </a:rPr>
                <a:t>M8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fidential  – June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57AD5-8769-4B69-AEA6-4E146744FB2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572000" y="1177920"/>
            <a:ext cx="2273400" cy="204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rcRect l="0" t="0" r="12896" b="0"/>
          <a:stretch/>
        </p:blipFill>
        <p:spPr>
          <a:xfrm>
            <a:off x="4572000" y="3247920"/>
            <a:ext cx="4572000" cy="21002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 rot="18425400">
            <a:off x="5161680" y="1270440"/>
            <a:ext cx="1095480" cy="18651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>
            <a:hlinkClick r:id="rId4"/>
          </p:cNvPr>
          <p:cNvPicPr/>
          <p:nvPr/>
        </p:nvPicPr>
        <p:blipFill>
          <a:blip r:embed="rId5"/>
          <a:srcRect l="0" t="10194" r="0" b="0"/>
          <a:stretch/>
        </p:blipFill>
        <p:spPr>
          <a:xfrm>
            <a:off x="6869160" y="1177920"/>
            <a:ext cx="2273400" cy="20415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2335320"/>
            <a:ext cx="9144000" cy="3744720"/>
          </a:xfrm>
          <a:custGeom>
            <a:avLst/>
            <a:gdLst/>
            <a:ahLst/>
            <a:rect l="l" t="t" r="r" b="b"/>
            <a:pathLst>
              <a:path w="5760" h="2359">
                <a:moveTo>
                  <a:pt x="5760" y="2359"/>
                </a:moveTo>
                <a:lnTo>
                  <a:pt x="0" y="2358"/>
                </a:lnTo>
                <a:lnTo>
                  <a:pt x="2" y="2250"/>
                </a:lnTo>
                <a:lnTo>
                  <a:pt x="448" y="2186"/>
                </a:lnTo>
                <a:lnTo>
                  <a:pt x="917" y="2113"/>
                </a:lnTo>
                <a:lnTo>
                  <a:pt x="1258" y="2060"/>
                </a:lnTo>
                <a:lnTo>
                  <a:pt x="1597" y="2008"/>
                </a:lnTo>
                <a:lnTo>
                  <a:pt x="1927" y="1954"/>
                </a:lnTo>
                <a:lnTo>
                  <a:pt x="2252" y="1903"/>
                </a:lnTo>
                <a:lnTo>
                  <a:pt x="2529" y="1856"/>
                </a:lnTo>
                <a:lnTo>
                  <a:pt x="2847" y="1799"/>
                </a:lnTo>
                <a:lnTo>
                  <a:pt x="3360" y="1693"/>
                </a:lnTo>
                <a:lnTo>
                  <a:pt x="3626" y="1628"/>
                </a:lnTo>
                <a:lnTo>
                  <a:pt x="3975" y="1534"/>
                </a:lnTo>
                <a:lnTo>
                  <a:pt x="4374" y="1413"/>
                </a:lnTo>
                <a:lnTo>
                  <a:pt x="4727" y="1301"/>
                </a:lnTo>
                <a:lnTo>
                  <a:pt x="4914" y="1240"/>
                </a:lnTo>
                <a:lnTo>
                  <a:pt x="5067" y="1184"/>
                </a:lnTo>
                <a:lnTo>
                  <a:pt x="5144" y="1152"/>
                </a:lnTo>
                <a:lnTo>
                  <a:pt x="5208" y="1118"/>
                </a:lnTo>
                <a:lnTo>
                  <a:pt x="5332" y="1036"/>
                </a:lnTo>
                <a:lnTo>
                  <a:pt x="5383" y="987"/>
                </a:lnTo>
                <a:lnTo>
                  <a:pt x="5413" y="939"/>
                </a:lnTo>
                <a:lnTo>
                  <a:pt x="5437" y="898"/>
                </a:lnTo>
                <a:lnTo>
                  <a:pt x="5470" y="832"/>
                </a:lnTo>
                <a:lnTo>
                  <a:pt x="5495" y="776"/>
                </a:lnTo>
                <a:lnTo>
                  <a:pt x="5522" y="705"/>
                </a:lnTo>
                <a:lnTo>
                  <a:pt x="5653" y="338"/>
                </a:lnTo>
                <a:lnTo>
                  <a:pt x="5760" y="0"/>
                </a:lnTo>
                <a:lnTo>
                  <a:pt x="5760" y="23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74480" y="550440"/>
            <a:ext cx="671652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duct Line: Explore Ener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4840" y="1333440"/>
            <a:ext cx="4100400" cy="36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ithin Performance, Energy offers 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xciting and outstanding devices for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he energetic, urban user."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ehavior/Lifesty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100000"/>
              </a:lnSpc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ost knowledgeable consum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100000"/>
              </a:lnSpc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ultifaceted lifesty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100000"/>
              </a:lnSpc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sign should not sacrifice perform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100000"/>
              </a:lnSpc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layful attitude towards techn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100000"/>
              </a:lnSpc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port is fun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e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100000"/>
              </a:lnSpc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oy of technology without accepting compromises in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100000"/>
              </a:lnSpc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rilling design and innovative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echanical concep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100000"/>
              </a:lnSpc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erfect execution of specific the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74840" y="46080"/>
            <a:ext cx="820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81 – Urban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78080" y="4677840"/>
            <a:ext cx="7565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ceda"/>
                </a:solidFill>
                <a:latin typeface="Arial"/>
              </a:rPr>
              <a:t>Mod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ceda"/>
                </a:solidFill>
                <a:latin typeface="Arial"/>
              </a:rPr>
              <a:t>– </a:t>
            </a:r>
            <a:r>
              <a:rPr b="0" lang="en-US" sz="1400" spc="-1" strike="noStrike">
                <a:solidFill>
                  <a:srgbClr val="bfceda"/>
                </a:solidFill>
                <a:latin typeface="Arial"/>
              </a:rPr>
              <a:t>powerful – unconventio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ceda"/>
                </a:solidFill>
                <a:latin typeface="Arial"/>
              </a:rPr>
              <a:t>– </a:t>
            </a:r>
            <a:r>
              <a:rPr b="0" lang="en-US" sz="1400" spc="-1" strike="noStrike">
                <a:solidFill>
                  <a:srgbClr val="bfceda"/>
                </a:solidFill>
                <a:latin typeface="Arial"/>
              </a:rPr>
              <a:t>spontaneous – energetic – </a:t>
            </a:r>
            <a:r>
              <a:rPr b="1" lang="en-US" sz="1400" spc="-1" strike="noStrike">
                <a:solidFill>
                  <a:srgbClr val="5f86a2"/>
                </a:solidFill>
                <a:latin typeface="Arial"/>
              </a:rPr>
              <a:t>spor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ceda"/>
                </a:solidFill>
                <a:latin typeface="Arial"/>
              </a:rPr>
              <a:t>– </a:t>
            </a:r>
            <a:r>
              <a:rPr b="0" lang="en-US" sz="1400" spc="-1" strike="noStrike">
                <a:solidFill>
                  <a:srgbClr val="bfceda"/>
                </a:solidFill>
                <a:latin typeface="Arial"/>
              </a:rPr>
              <a:t>dynamic – flexible – </a:t>
            </a:r>
            <a:r>
              <a:rPr b="1" lang="en-US" sz="1400" spc="-1" strike="noStrike">
                <a:solidFill>
                  <a:srgbClr val="5f86a2"/>
                </a:solidFill>
                <a:latin typeface="Arial"/>
              </a:rPr>
              <a:t>urban</a:t>
            </a:r>
            <a:r>
              <a:rPr b="0" lang="en-US" sz="1400" spc="-1" strike="noStrike">
                <a:solidFill>
                  <a:srgbClr val="bfceda"/>
                </a:solidFill>
                <a:latin typeface="Arial"/>
              </a:rPr>
              <a:t> – playful – differ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ceda"/>
                </a:solidFill>
                <a:latin typeface="Arial"/>
              </a:rPr>
              <a:t>– </a:t>
            </a:r>
            <a:r>
              <a:rPr b="0" lang="en-US" sz="1400" spc="-1" strike="noStrike">
                <a:solidFill>
                  <a:srgbClr val="bfceda"/>
                </a:solidFill>
                <a:latin typeface="Arial"/>
              </a:rPr>
              <a:t>striking – naked – adventurous – conquering – mob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ceda"/>
                </a:solidFill>
                <a:latin typeface="Arial"/>
              </a:rPr>
              <a:t>– </a:t>
            </a:r>
            <a:r>
              <a:rPr b="1" lang="en-US" sz="1400" spc="-1" strike="noStrike">
                <a:solidFill>
                  <a:srgbClr val="5f86a2"/>
                </a:solidFill>
                <a:latin typeface="Arial"/>
              </a:rPr>
              <a:t>robust</a:t>
            </a:r>
            <a:r>
              <a:rPr b="0" lang="en-US" sz="1400" spc="-1" strike="noStrike">
                <a:solidFill>
                  <a:srgbClr val="bfceda"/>
                </a:solidFill>
                <a:latin typeface="Arial"/>
              </a:rPr>
              <a:t> – high – demanding – </a:t>
            </a:r>
            <a:r>
              <a:rPr b="1" lang="en-US" sz="1400" spc="-1" strike="noStrike">
                <a:solidFill>
                  <a:srgbClr val="5f86a2"/>
                </a:solidFill>
                <a:latin typeface="Arial"/>
              </a:rPr>
              <a:t>enjoying</a:t>
            </a:r>
            <a:r>
              <a:rPr b="0" lang="en-US" sz="1400" spc="-1" strike="noStrike">
                <a:solidFill>
                  <a:srgbClr val="bfceda"/>
                </a:solidFill>
                <a:latin typeface="Arial"/>
              </a:rPr>
              <a:t> – </a:t>
            </a:r>
            <a:r>
              <a:rPr b="1" lang="en-US" sz="1400" spc="-1" strike="noStrike">
                <a:solidFill>
                  <a:srgbClr val="5f86a2"/>
                </a:solidFill>
                <a:latin typeface="Arial"/>
              </a:rPr>
              <a:t>fun</a:t>
            </a:r>
            <a:r>
              <a:rPr b="0" lang="en-US" sz="1400" spc="-1" strike="noStrike">
                <a:solidFill>
                  <a:srgbClr val="bfceda"/>
                </a:solidFill>
                <a:latin typeface="Arial"/>
              </a:rPr>
              <a:t> – victorious – extrover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0" y="5905440"/>
            <a:ext cx="978480" cy="441720"/>
            <a:chOff x="0" y="5905440"/>
            <a:chExt cx="978480" cy="441720"/>
          </a:xfrm>
        </p:grpSpPr>
        <p:grpSp>
          <p:nvGrpSpPr>
            <p:cNvPr id="113" name=""/>
            <p:cNvGrpSpPr/>
            <p:nvPr/>
          </p:nvGrpSpPr>
          <p:grpSpPr>
            <a:xfrm>
              <a:off x="0" y="5932440"/>
              <a:ext cx="92160" cy="82440"/>
              <a:chOff x="0" y="5932440"/>
              <a:chExt cx="92160" cy="82440"/>
            </a:xfrm>
          </p:grpSpPr>
          <p:sp>
            <p:nvSpPr>
              <p:cNvPr id="114" name=""/>
              <p:cNvSpPr/>
              <p:nvPr/>
            </p:nvSpPr>
            <p:spPr>
              <a:xfrm>
                <a:off x="9360" y="5932440"/>
                <a:ext cx="82800" cy="82440"/>
              </a:xfrm>
              <a:prstGeom prst="rect">
                <a:avLst/>
              </a:prstGeom>
              <a:solidFill>
                <a:srgbClr val="5f86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5932440"/>
                <a:ext cx="0" cy="79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138960" y="5905440"/>
              <a:ext cx="839520" cy="44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88920"/>
                  <a:tab algn="l" pos="179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5f86a2"/>
                  </a:solidFill>
                  <a:latin typeface="Arial"/>
                </a:rPr>
                <a:t>Performanc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88920"/>
                  <a:tab algn="l" pos="179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5f86a2"/>
                  </a:solidFill>
                  <a:latin typeface="Arial"/>
                </a:rPr>
                <a:t>	</a:t>
              </a:r>
              <a:r>
                <a:rPr b="1" lang="en-US" sz="800" spc="-1" strike="noStrike">
                  <a:solidFill>
                    <a:srgbClr val="5f86a2"/>
                  </a:solidFill>
                  <a:latin typeface="Arial"/>
                </a:rPr>
                <a:t>Explore Energ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88920"/>
                  <a:tab algn="l" pos="179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5f86a2"/>
                  </a:solidFill>
                  <a:latin typeface="Arial"/>
                </a:rPr>
                <a:t>	</a:t>
              </a:r>
              <a:r>
                <a:rPr b="1" lang="en-US" sz="800" spc="-1" strike="noStrike">
                  <a:solidFill>
                    <a:srgbClr val="5f86a2"/>
                  </a:solidFill>
                  <a:latin typeface="Arial"/>
                </a:rPr>
                <a:t>	</a:t>
              </a:r>
              <a:r>
                <a:rPr b="1" lang="en-US" sz="800" spc="-1" strike="noStrike">
                  <a:solidFill>
                    <a:srgbClr val="5f86a2"/>
                  </a:solidFill>
                  <a:latin typeface="Arial"/>
                </a:rPr>
                <a:t>M8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fidential  – June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760DE-CE41-4487-9894-68DF62CC173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rcRect l="0" t="9326" r="39611" b="0"/>
          <a:stretch/>
        </p:blipFill>
        <p:spPr>
          <a:xfrm>
            <a:off x="6095880" y="1177920"/>
            <a:ext cx="3048120" cy="366408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74480" y="550440"/>
            <a:ext cx="671652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arget Grou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74840" y="1333440"/>
            <a:ext cx="1363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dic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4840" y="46080"/>
            <a:ext cx="820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81 – Urban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021040" y="1333440"/>
            <a:ext cx="323208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225360" indent="-223920">
              <a:lnSpc>
                <a:spcPct val="100000"/>
              </a:lnSpc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le – female: 60% – 4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100000"/>
              </a:lnSpc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come level: mid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100000"/>
              </a:lnSpc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ge focus: 18 - 30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100000"/>
              </a:lnSpc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gion focus: EM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26240" y="1500120"/>
            <a:ext cx="56016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Arial"/>
              </a:rPr>
              <a:t>„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52640" y="2394000"/>
            <a:ext cx="471636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 live in the center of a big city – and I do really enjoy it. In an urban environment I have all the opportunities I want to have  – only a short way to work, great nightlife, and options for all kinds of sports you can think of: running, inline skating etc. On the weekends I like meeting new people in the hottest city clubs or I love to go with my friends into the mountains nearby for skiing, cycling or actually just to unwin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52640" y="3647880"/>
            <a:ext cx="42004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me a mobile phone is more than a communication tool; it is a lifestyle object. It has to reflect  my active and competitive way of life, it must look tough and extraordinary with sportive street-wear appearance. The technology inside has to offer fun and excitement; not only for me but also for others. High quality and reliability is very important for me; a phon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s to cope with daily knocks and bumps in a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citing urban lif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357160" y="4308480"/>
            <a:ext cx="56016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Arial"/>
              </a:rPr>
              <a:t>„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2335320"/>
            <a:ext cx="9144000" cy="3744720"/>
          </a:xfrm>
          <a:custGeom>
            <a:avLst/>
            <a:gdLst/>
            <a:ahLst/>
            <a:rect l="l" t="t" r="r" b="b"/>
            <a:pathLst>
              <a:path w="5760" h="2359">
                <a:moveTo>
                  <a:pt x="5760" y="2359"/>
                </a:moveTo>
                <a:lnTo>
                  <a:pt x="0" y="2358"/>
                </a:lnTo>
                <a:lnTo>
                  <a:pt x="2" y="2250"/>
                </a:lnTo>
                <a:lnTo>
                  <a:pt x="448" y="2186"/>
                </a:lnTo>
                <a:lnTo>
                  <a:pt x="917" y="2113"/>
                </a:lnTo>
                <a:lnTo>
                  <a:pt x="1258" y="2060"/>
                </a:lnTo>
                <a:lnTo>
                  <a:pt x="1597" y="2008"/>
                </a:lnTo>
                <a:lnTo>
                  <a:pt x="1927" y="1954"/>
                </a:lnTo>
                <a:lnTo>
                  <a:pt x="2252" y="1903"/>
                </a:lnTo>
                <a:lnTo>
                  <a:pt x="2529" y="1856"/>
                </a:lnTo>
                <a:lnTo>
                  <a:pt x="2847" y="1799"/>
                </a:lnTo>
                <a:lnTo>
                  <a:pt x="3360" y="1693"/>
                </a:lnTo>
                <a:lnTo>
                  <a:pt x="3626" y="1628"/>
                </a:lnTo>
                <a:lnTo>
                  <a:pt x="3975" y="1534"/>
                </a:lnTo>
                <a:lnTo>
                  <a:pt x="4374" y="1413"/>
                </a:lnTo>
                <a:lnTo>
                  <a:pt x="4727" y="1301"/>
                </a:lnTo>
                <a:lnTo>
                  <a:pt x="4914" y="1240"/>
                </a:lnTo>
                <a:lnTo>
                  <a:pt x="5067" y="1184"/>
                </a:lnTo>
                <a:lnTo>
                  <a:pt x="5144" y="1152"/>
                </a:lnTo>
                <a:lnTo>
                  <a:pt x="5208" y="1118"/>
                </a:lnTo>
                <a:lnTo>
                  <a:pt x="5332" y="1036"/>
                </a:lnTo>
                <a:lnTo>
                  <a:pt x="5383" y="987"/>
                </a:lnTo>
                <a:lnTo>
                  <a:pt x="5413" y="939"/>
                </a:lnTo>
                <a:lnTo>
                  <a:pt x="5437" y="898"/>
                </a:lnTo>
                <a:lnTo>
                  <a:pt x="5470" y="832"/>
                </a:lnTo>
                <a:lnTo>
                  <a:pt x="5495" y="776"/>
                </a:lnTo>
                <a:lnTo>
                  <a:pt x="5522" y="705"/>
                </a:lnTo>
                <a:lnTo>
                  <a:pt x="5653" y="338"/>
                </a:lnTo>
                <a:lnTo>
                  <a:pt x="5760" y="0"/>
                </a:lnTo>
                <a:lnTo>
                  <a:pt x="5760" y="23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52800" y="4862160"/>
            <a:ext cx="769860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86a2"/>
                </a:solidFill>
                <a:latin typeface="Arial"/>
              </a:rPr>
              <a:t>„</a:t>
            </a:r>
            <a:r>
              <a:rPr b="1" lang="en-US" sz="1800" spc="-1" strike="noStrike">
                <a:solidFill>
                  <a:srgbClr val="5f86a2"/>
                </a:solidFill>
                <a:latin typeface="Arial"/>
              </a:rPr>
              <a:t>For all people</a:t>
            </a:r>
            <a:br>
              <a:rPr sz="1800"/>
            </a:br>
            <a:r>
              <a:rPr b="1" lang="en-US" sz="1800" spc="-1" strike="noStrike">
                <a:solidFill>
                  <a:srgbClr val="5f86a2"/>
                </a:solidFill>
                <a:latin typeface="Arial"/>
              </a:rPr>
              <a:t>with an active lifestyle and</a:t>
            </a:r>
            <a:br>
              <a:rPr sz="1800"/>
            </a:br>
            <a:r>
              <a:rPr b="1" lang="en-US" sz="1800" spc="-1" strike="noStrike">
                <a:solidFill>
                  <a:srgbClr val="5f86a2"/>
                </a:solidFill>
                <a:latin typeface="Arial"/>
              </a:rPr>
              <a:t>a strong desire for durable products,</a:t>
            </a:r>
            <a:br>
              <a:rPr sz="1800"/>
            </a:br>
            <a:r>
              <a:rPr b="1" lang="en-US" sz="1800" spc="-1" strike="noStrike">
                <a:solidFill>
                  <a:srgbClr val="5f86a2"/>
                </a:solidFill>
                <a:latin typeface="Arial"/>
              </a:rPr>
              <a:t>the M81 is a sportive designed phone in street-style optic</a:t>
            </a:r>
            <a:br>
              <a:rPr sz="1800"/>
            </a:br>
            <a:r>
              <a:rPr b="1" lang="en-US" sz="1800" spc="-1" strike="noStrike">
                <a:solidFill>
                  <a:srgbClr val="5f86a2"/>
                </a:solidFill>
                <a:latin typeface="Arial"/>
              </a:rPr>
              <a:t>built to deal with the daily challenges and for having fun on the move.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934400" y="4645800"/>
            <a:ext cx="101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ceda"/>
                </a:solidFill>
                <a:latin typeface="Arial"/>
              </a:rPr>
              <a:t>Product Id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0" y="5905440"/>
            <a:ext cx="978480" cy="441720"/>
            <a:chOff x="0" y="5905440"/>
            <a:chExt cx="978480" cy="441720"/>
          </a:xfrm>
        </p:grpSpPr>
        <p:grpSp>
          <p:nvGrpSpPr>
            <p:cNvPr id="130" name=""/>
            <p:cNvGrpSpPr/>
            <p:nvPr/>
          </p:nvGrpSpPr>
          <p:grpSpPr>
            <a:xfrm>
              <a:off x="0" y="5932440"/>
              <a:ext cx="92160" cy="82440"/>
              <a:chOff x="0" y="5932440"/>
              <a:chExt cx="92160" cy="82440"/>
            </a:xfrm>
          </p:grpSpPr>
          <p:sp>
            <p:nvSpPr>
              <p:cNvPr id="131" name=""/>
              <p:cNvSpPr/>
              <p:nvPr/>
            </p:nvSpPr>
            <p:spPr>
              <a:xfrm>
                <a:off x="9360" y="5932440"/>
                <a:ext cx="82800" cy="82440"/>
              </a:xfrm>
              <a:prstGeom prst="rect">
                <a:avLst/>
              </a:prstGeom>
              <a:solidFill>
                <a:srgbClr val="5f86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5932440"/>
                <a:ext cx="0" cy="79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" name=""/>
            <p:cNvSpPr/>
            <p:nvPr/>
          </p:nvSpPr>
          <p:spPr>
            <a:xfrm>
              <a:off x="138960" y="5905440"/>
              <a:ext cx="839520" cy="44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88920"/>
                  <a:tab algn="l" pos="179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5f86a2"/>
                  </a:solidFill>
                  <a:latin typeface="Arial"/>
                </a:rPr>
                <a:t>Performanc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88920"/>
                  <a:tab algn="l" pos="179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5f86a2"/>
                  </a:solidFill>
                  <a:latin typeface="Arial"/>
                </a:rPr>
                <a:t>	</a:t>
              </a:r>
              <a:r>
                <a:rPr b="1" lang="en-US" sz="800" spc="-1" strike="noStrike">
                  <a:solidFill>
                    <a:srgbClr val="5f86a2"/>
                  </a:solidFill>
                  <a:latin typeface="Arial"/>
                </a:rPr>
                <a:t>Explore Energ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88920"/>
                  <a:tab algn="l" pos="179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5f86a2"/>
                  </a:solidFill>
                  <a:latin typeface="Arial"/>
                </a:rPr>
                <a:t>	</a:t>
              </a:r>
              <a:r>
                <a:rPr b="1" lang="en-US" sz="800" spc="-1" strike="noStrike">
                  <a:solidFill>
                    <a:srgbClr val="5f86a2"/>
                  </a:solidFill>
                  <a:latin typeface="Arial"/>
                </a:rPr>
                <a:t>	</a:t>
              </a:r>
              <a:r>
                <a:rPr b="1" lang="en-US" sz="800" spc="-1" strike="noStrike">
                  <a:solidFill>
                    <a:srgbClr val="5f86a2"/>
                  </a:solidFill>
                  <a:latin typeface="Arial"/>
                </a:rPr>
                <a:t>M8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fidential  – June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99CB1-23BD-4883-99A3-373B236E1B3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268360" y="3247920"/>
            <a:ext cx="2273400" cy="204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rcRect l="0" t="3972" r="37854" b="0"/>
          <a:stretch/>
        </p:blipFill>
        <p:spPr>
          <a:xfrm>
            <a:off x="2268360" y="3247920"/>
            <a:ext cx="2273400" cy="23418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572000" y="1177920"/>
            <a:ext cx="4572000" cy="411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"/>
          <a:srcRect l="9551" t="2997" r="13908" b="3517"/>
          <a:stretch/>
        </p:blipFill>
        <p:spPr>
          <a:xfrm>
            <a:off x="7601040" y="1504800"/>
            <a:ext cx="1542960" cy="37688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9360" y="1177920"/>
            <a:ext cx="2235240" cy="204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1177920"/>
            <a:ext cx="2273400" cy="204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360" y="3247920"/>
            <a:ext cx="2235240" cy="204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74480" y="550440"/>
            <a:ext cx="671652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sign Persona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74840" y="46080"/>
            <a:ext cx="820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81 – Urban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4"/>
          <a:srcRect l="0" t="16973" r="0" b="0"/>
          <a:stretch/>
        </p:blipFill>
        <p:spPr>
          <a:xfrm>
            <a:off x="2357280" y="1328760"/>
            <a:ext cx="2095560" cy="17398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"/>
          <a:srcRect l="0" t="24183" r="0" b="20909"/>
          <a:stretch/>
        </p:blipFill>
        <p:spPr>
          <a:xfrm>
            <a:off x="109440" y="1639800"/>
            <a:ext cx="2035440" cy="11178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6"/>
          <a:srcRect l="0" t="20807" r="0" b="0"/>
          <a:stretch/>
        </p:blipFill>
        <p:spPr>
          <a:xfrm>
            <a:off x="-12600" y="3247920"/>
            <a:ext cx="2257200" cy="26910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7"/>
          <a:srcRect l="9120" t="3508" r="8177" b="3248"/>
          <a:stretch/>
        </p:blipFill>
        <p:spPr>
          <a:xfrm>
            <a:off x="4811760" y="1504800"/>
            <a:ext cx="1670040" cy="37594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8"/>
          <a:srcRect l="35638" t="2759" r="26349" b="2977"/>
          <a:stretch/>
        </p:blipFill>
        <p:spPr>
          <a:xfrm>
            <a:off x="6661080" y="1504800"/>
            <a:ext cx="760320" cy="37623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0" y="2335320"/>
            <a:ext cx="9144000" cy="3744720"/>
          </a:xfrm>
          <a:custGeom>
            <a:avLst/>
            <a:gdLst/>
            <a:ahLst/>
            <a:rect l="l" t="t" r="r" b="b"/>
            <a:pathLst>
              <a:path w="5760" h="2359">
                <a:moveTo>
                  <a:pt x="5760" y="2359"/>
                </a:moveTo>
                <a:lnTo>
                  <a:pt x="0" y="2358"/>
                </a:lnTo>
                <a:lnTo>
                  <a:pt x="2" y="2250"/>
                </a:lnTo>
                <a:lnTo>
                  <a:pt x="448" y="2186"/>
                </a:lnTo>
                <a:lnTo>
                  <a:pt x="917" y="2113"/>
                </a:lnTo>
                <a:lnTo>
                  <a:pt x="1258" y="2060"/>
                </a:lnTo>
                <a:lnTo>
                  <a:pt x="1597" y="2008"/>
                </a:lnTo>
                <a:lnTo>
                  <a:pt x="1927" y="1954"/>
                </a:lnTo>
                <a:lnTo>
                  <a:pt x="2252" y="1903"/>
                </a:lnTo>
                <a:lnTo>
                  <a:pt x="2529" y="1856"/>
                </a:lnTo>
                <a:lnTo>
                  <a:pt x="2847" y="1799"/>
                </a:lnTo>
                <a:lnTo>
                  <a:pt x="3360" y="1693"/>
                </a:lnTo>
                <a:lnTo>
                  <a:pt x="3626" y="1628"/>
                </a:lnTo>
                <a:lnTo>
                  <a:pt x="3975" y="1534"/>
                </a:lnTo>
                <a:lnTo>
                  <a:pt x="4374" y="1413"/>
                </a:lnTo>
                <a:lnTo>
                  <a:pt x="4727" y="1301"/>
                </a:lnTo>
                <a:lnTo>
                  <a:pt x="4914" y="1240"/>
                </a:lnTo>
                <a:lnTo>
                  <a:pt x="5067" y="1184"/>
                </a:lnTo>
                <a:lnTo>
                  <a:pt x="5144" y="1152"/>
                </a:lnTo>
                <a:lnTo>
                  <a:pt x="5208" y="1118"/>
                </a:lnTo>
                <a:lnTo>
                  <a:pt x="5332" y="1036"/>
                </a:lnTo>
                <a:lnTo>
                  <a:pt x="5383" y="987"/>
                </a:lnTo>
                <a:lnTo>
                  <a:pt x="5413" y="939"/>
                </a:lnTo>
                <a:lnTo>
                  <a:pt x="5437" y="898"/>
                </a:lnTo>
                <a:lnTo>
                  <a:pt x="5470" y="832"/>
                </a:lnTo>
                <a:lnTo>
                  <a:pt x="5495" y="776"/>
                </a:lnTo>
                <a:lnTo>
                  <a:pt x="5522" y="705"/>
                </a:lnTo>
                <a:lnTo>
                  <a:pt x="5653" y="338"/>
                </a:lnTo>
                <a:lnTo>
                  <a:pt x="5760" y="0"/>
                </a:lnTo>
                <a:lnTo>
                  <a:pt x="5760" y="23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40200" y="4947840"/>
            <a:ext cx="5008680" cy="12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86a2"/>
                </a:solidFill>
                <a:latin typeface="Arial"/>
              </a:rPr>
              <a:t>Intensifies the user’s active lifestyle</a:t>
            </a:r>
            <a:br>
              <a:rPr sz="1200"/>
            </a:br>
            <a:r>
              <a:rPr b="1" lang="en-US" sz="1200" spc="-1" strike="noStrike">
                <a:solidFill>
                  <a:srgbClr val="5f86a2"/>
                </a:solidFill>
                <a:latin typeface="Arial"/>
              </a:rPr>
              <a:t>through its extraordinary street style desig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86a2"/>
                </a:solidFill>
                <a:latin typeface="Arial"/>
              </a:rPr>
              <a:t>Built for action – creates the impression of improved robustness and</a:t>
            </a:r>
            <a:br>
              <a:rPr sz="1200"/>
            </a:br>
            <a:r>
              <a:rPr b="1" lang="en-US" sz="1200" spc="-1" strike="noStrike">
                <a:solidFill>
                  <a:srgbClr val="5f86a2"/>
                </a:solidFill>
                <a:latin typeface="Arial"/>
              </a:rPr>
              <a:t>offers perfect grip by rubber elements;</a:t>
            </a:r>
            <a:br>
              <a:rPr sz="1200"/>
            </a:br>
            <a:r>
              <a:rPr b="1" lang="en-US" sz="1200" spc="-1" strike="noStrike">
                <a:solidFill>
                  <a:srgbClr val="5f86a2"/>
                </a:solidFill>
                <a:latin typeface="Arial"/>
              </a:rPr>
              <a:t>the camera protection plug underlines the indestructibi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86a2"/>
                </a:solidFill>
                <a:latin typeface="Arial"/>
              </a:rPr>
              <a:t>Exclusive material mix for exciting opt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0" y="5905440"/>
            <a:ext cx="978480" cy="441720"/>
            <a:chOff x="0" y="5905440"/>
            <a:chExt cx="978480" cy="441720"/>
          </a:xfrm>
        </p:grpSpPr>
        <p:grpSp>
          <p:nvGrpSpPr>
            <p:cNvPr id="151" name=""/>
            <p:cNvGrpSpPr/>
            <p:nvPr/>
          </p:nvGrpSpPr>
          <p:grpSpPr>
            <a:xfrm>
              <a:off x="0" y="5932440"/>
              <a:ext cx="92160" cy="82440"/>
              <a:chOff x="0" y="5932440"/>
              <a:chExt cx="92160" cy="82440"/>
            </a:xfrm>
          </p:grpSpPr>
          <p:sp>
            <p:nvSpPr>
              <p:cNvPr id="152" name=""/>
              <p:cNvSpPr/>
              <p:nvPr/>
            </p:nvSpPr>
            <p:spPr>
              <a:xfrm>
                <a:off x="9360" y="5932440"/>
                <a:ext cx="82800" cy="82440"/>
              </a:xfrm>
              <a:prstGeom prst="rect">
                <a:avLst/>
              </a:prstGeom>
              <a:solidFill>
                <a:srgbClr val="5f86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5932440"/>
                <a:ext cx="0" cy="79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138960" y="5905440"/>
              <a:ext cx="839520" cy="44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88920"/>
                  <a:tab algn="l" pos="179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5f86a2"/>
                  </a:solidFill>
                  <a:latin typeface="Arial"/>
                </a:rPr>
                <a:t>Performanc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88920"/>
                  <a:tab algn="l" pos="179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5f86a2"/>
                  </a:solidFill>
                  <a:latin typeface="Arial"/>
                </a:rPr>
                <a:t>	</a:t>
              </a:r>
              <a:r>
                <a:rPr b="1" lang="en-US" sz="800" spc="-1" strike="noStrike">
                  <a:solidFill>
                    <a:srgbClr val="5f86a2"/>
                  </a:solidFill>
                  <a:latin typeface="Arial"/>
                </a:rPr>
                <a:t>Explore Energ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88920"/>
                  <a:tab algn="l" pos="179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5f86a2"/>
                  </a:solidFill>
                  <a:latin typeface="Arial"/>
                </a:rPr>
                <a:t>	</a:t>
              </a:r>
              <a:r>
                <a:rPr b="1" lang="en-US" sz="800" spc="-1" strike="noStrike">
                  <a:solidFill>
                    <a:srgbClr val="5f86a2"/>
                  </a:solidFill>
                  <a:latin typeface="Arial"/>
                </a:rPr>
                <a:t>	</a:t>
              </a:r>
              <a:r>
                <a:rPr b="1" lang="en-US" sz="800" spc="-1" strike="noStrike">
                  <a:solidFill>
                    <a:srgbClr val="5f86a2"/>
                  </a:solidFill>
                  <a:latin typeface="Arial"/>
                </a:rPr>
                <a:t>M8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8043480" y="4432680"/>
            <a:ext cx="9043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ceda"/>
                </a:solidFill>
                <a:latin typeface="Arial"/>
              </a:rPr>
              <a:t>Design</a:t>
            </a:r>
            <a:br>
              <a:rPr sz="1400"/>
            </a:br>
            <a:r>
              <a:rPr b="0" lang="en-US" sz="1400" spc="-1" strike="noStrike">
                <a:solidFill>
                  <a:srgbClr val="bfceda"/>
                </a:solidFill>
                <a:latin typeface="Arial"/>
              </a:rPr>
              <a:t>State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fidential  – June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8183F-F15E-4899-8399-F6145E3B370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2"/>
          <a:srcRect l="0" t="55382" r="12898" b="4816"/>
          <a:stretch/>
        </p:blipFill>
        <p:spPr>
          <a:xfrm>
            <a:off x="6869160" y="3247920"/>
            <a:ext cx="2273400" cy="15638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rcRect l="0" t="0" r="0" b="24764"/>
          <a:stretch/>
        </p:blipFill>
        <p:spPr>
          <a:xfrm>
            <a:off x="2268360" y="3247920"/>
            <a:ext cx="2273400" cy="23796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/>
          <a:srcRect l="0" t="24649" r="8468" b="0"/>
          <a:stretch/>
        </p:blipFill>
        <p:spPr>
          <a:xfrm>
            <a:off x="9360" y="3247920"/>
            <a:ext cx="2235240" cy="27640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5"/>
          <a:srcRect l="22258" t="13837" r="0" b="0"/>
          <a:stretch/>
        </p:blipFill>
        <p:spPr>
          <a:xfrm>
            <a:off x="4572000" y="3247920"/>
            <a:ext cx="2273400" cy="20415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6"/>
          <a:srcRect l="0" t="9993" r="0" b="0"/>
          <a:stretch/>
        </p:blipFill>
        <p:spPr>
          <a:xfrm>
            <a:off x="9360" y="1177920"/>
            <a:ext cx="3418200" cy="20448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7"/>
          <a:stretch/>
        </p:blipFill>
        <p:spPr>
          <a:xfrm>
            <a:off x="6067440" y="1177920"/>
            <a:ext cx="3076560" cy="20448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8"/>
          <a:srcRect l="0" t="9326" r="8254" b="0"/>
          <a:stretch/>
        </p:blipFill>
        <p:spPr>
          <a:xfrm>
            <a:off x="3456000" y="1177920"/>
            <a:ext cx="2583000" cy="204480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74480" y="550440"/>
            <a:ext cx="671652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odboa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74840" y="46080"/>
            <a:ext cx="820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81 – Urban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2335320"/>
            <a:ext cx="9144000" cy="3744720"/>
          </a:xfrm>
          <a:custGeom>
            <a:avLst/>
            <a:gdLst/>
            <a:ahLst/>
            <a:rect l="l" t="t" r="r" b="b"/>
            <a:pathLst>
              <a:path w="5760" h="2359">
                <a:moveTo>
                  <a:pt x="5760" y="2359"/>
                </a:moveTo>
                <a:lnTo>
                  <a:pt x="0" y="2358"/>
                </a:lnTo>
                <a:lnTo>
                  <a:pt x="2" y="2250"/>
                </a:lnTo>
                <a:lnTo>
                  <a:pt x="448" y="2186"/>
                </a:lnTo>
                <a:lnTo>
                  <a:pt x="917" y="2113"/>
                </a:lnTo>
                <a:lnTo>
                  <a:pt x="1258" y="2060"/>
                </a:lnTo>
                <a:lnTo>
                  <a:pt x="1597" y="2008"/>
                </a:lnTo>
                <a:lnTo>
                  <a:pt x="1927" y="1954"/>
                </a:lnTo>
                <a:lnTo>
                  <a:pt x="2252" y="1903"/>
                </a:lnTo>
                <a:lnTo>
                  <a:pt x="2529" y="1856"/>
                </a:lnTo>
                <a:lnTo>
                  <a:pt x="2847" y="1799"/>
                </a:lnTo>
                <a:lnTo>
                  <a:pt x="3360" y="1693"/>
                </a:lnTo>
                <a:lnTo>
                  <a:pt x="3626" y="1628"/>
                </a:lnTo>
                <a:lnTo>
                  <a:pt x="3975" y="1534"/>
                </a:lnTo>
                <a:lnTo>
                  <a:pt x="4374" y="1413"/>
                </a:lnTo>
                <a:lnTo>
                  <a:pt x="4727" y="1301"/>
                </a:lnTo>
                <a:lnTo>
                  <a:pt x="4914" y="1240"/>
                </a:lnTo>
                <a:lnTo>
                  <a:pt x="5067" y="1184"/>
                </a:lnTo>
                <a:lnTo>
                  <a:pt x="5144" y="1152"/>
                </a:lnTo>
                <a:lnTo>
                  <a:pt x="5208" y="1118"/>
                </a:lnTo>
                <a:lnTo>
                  <a:pt x="5332" y="1036"/>
                </a:lnTo>
                <a:lnTo>
                  <a:pt x="5383" y="987"/>
                </a:lnTo>
                <a:lnTo>
                  <a:pt x="5413" y="939"/>
                </a:lnTo>
                <a:lnTo>
                  <a:pt x="5437" y="898"/>
                </a:lnTo>
                <a:lnTo>
                  <a:pt x="5470" y="832"/>
                </a:lnTo>
                <a:lnTo>
                  <a:pt x="5495" y="776"/>
                </a:lnTo>
                <a:lnTo>
                  <a:pt x="5522" y="705"/>
                </a:lnTo>
                <a:lnTo>
                  <a:pt x="5653" y="338"/>
                </a:lnTo>
                <a:lnTo>
                  <a:pt x="5760" y="0"/>
                </a:lnTo>
                <a:lnTo>
                  <a:pt x="5760" y="23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719080" y="5461200"/>
            <a:ext cx="6246000" cy="7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86a2"/>
                </a:solidFill>
                <a:latin typeface="Arial"/>
              </a:rPr>
              <a:t>State-of-the-art multimedia wrapped in street-style opti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86a2"/>
                </a:solidFill>
                <a:latin typeface="Arial"/>
              </a:rPr>
              <a:t>Made to cope with urban challenges thanks to robustness and protec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86a2"/>
                </a:solidFill>
                <a:latin typeface="Arial"/>
              </a:rPr>
              <a:t>A daily companion for every situa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499880" y="4432680"/>
            <a:ext cx="14500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ceda"/>
                </a:solidFill>
                <a:latin typeface="Arial"/>
              </a:rPr>
              <a:t>Focus</a:t>
            </a:r>
            <a:br>
              <a:rPr sz="1400"/>
            </a:br>
            <a:r>
              <a:rPr b="0" lang="en-US" sz="1400" spc="-1" strike="noStrike">
                <a:solidFill>
                  <a:srgbClr val="bfceda"/>
                </a:solidFill>
                <a:latin typeface="Arial"/>
              </a:rPr>
              <a:t>Group State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0" y="5905440"/>
            <a:ext cx="978480" cy="441720"/>
            <a:chOff x="0" y="5905440"/>
            <a:chExt cx="978480" cy="441720"/>
          </a:xfrm>
        </p:grpSpPr>
        <p:grpSp>
          <p:nvGrpSpPr>
            <p:cNvPr id="169" name=""/>
            <p:cNvGrpSpPr/>
            <p:nvPr/>
          </p:nvGrpSpPr>
          <p:grpSpPr>
            <a:xfrm>
              <a:off x="0" y="5932440"/>
              <a:ext cx="92160" cy="82440"/>
              <a:chOff x="0" y="5932440"/>
              <a:chExt cx="92160" cy="82440"/>
            </a:xfrm>
          </p:grpSpPr>
          <p:sp>
            <p:nvSpPr>
              <p:cNvPr id="170" name=""/>
              <p:cNvSpPr/>
              <p:nvPr/>
            </p:nvSpPr>
            <p:spPr>
              <a:xfrm>
                <a:off x="9360" y="5932440"/>
                <a:ext cx="82800" cy="82440"/>
              </a:xfrm>
              <a:prstGeom prst="rect">
                <a:avLst/>
              </a:prstGeom>
              <a:solidFill>
                <a:srgbClr val="5f86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5932440"/>
                <a:ext cx="0" cy="79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2" name=""/>
            <p:cNvSpPr/>
            <p:nvPr/>
          </p:nvSpPr>
          <p:spPr>
            <a:xfrm>
              <a:off x="138960" y="5905440"/>
              <a:ext cx="839520" cy="44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88920"/>
                  <a:tab algn="l" pos="179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5f86a2"/>
                  </a:solidFill>
                  <a:latin typeface="Arial"/>
                </a:rPr>
                <a:t>Performanc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88920"/>
                  <a:tab algn="l" pos="179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5f86a2"/>
                  </a:solidFill>
                  <a:latin typeface="Arial"/>
                </a:rPr>
                <a:t>	</a:t>
              </a:r>
              <a:r>
                <a:rPr b="1" lang="en-US" sz="800" spc="-1" strike="noStrike">
                  <a:solidFill>
                    <a:srgbClr val="5f86a2"/>
                  </a:solidFill>
                  <a:latin typeface="Arial"/>
                </a:rPr>
                <a:t>Explore Energ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88920"/>
                  <a:tab algn="l" pos="179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5f86a2"/>
                  </a:solidFill>
                  <a:latin typeface="Arial"/>
                </a:rPr>
                <a:t>	</a:t>
              </a:r>
              <a:r>
                <a:rPr b="1" lang="en-US" sz="800" spc="-1" strike="noStrike">
                  <a:solidFill>
                    <a:srgbClr val="5f86a2"/>
                  </a:solidFill>
                  <a:latin typeface="Arial"/>
                </a:rPr>
                <a:t>	</a:t>
              </a:r>
              <a:r>
                <a:rPr b="1" lang="en-US" sz="800" spc="-1" strike="noStrike">
                  <a:solidFill>
                    <a:srgbClr val="5f86a2"/>
                  </a:solidFill>
                  <a:latin typeface="Arial"/>
                </a:rPr>
                <a:t>M8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fidential  – June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26722-D625-4C4C-B11B-E66E56BC985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74480" y="550440"/>
            <a:ext cx="671652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86a2"/>
                </a:solidFill>
                <a:latin typeface="Arial"/>
              </a:rPr>
              <a:t>Total Product Experi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74840" y="46080"/>
            <a:ext cx="820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81 – Urban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74840" y="4214880"/>
            <a:ext cx="2790720" cy="6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action-pack for fu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n the move –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e-of-the-art multimedi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31080" y="2409840"/>
            <a:ext cx="29127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eet Style – show your sportive performanc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70400" y="1096920"/>
            <a:ext cx="2332080" cy="2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nds-free experi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74840" y="2409840"/>
            <a:ext cx="2800080" cy="2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ilt for 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31080" y="4214880"/>
            <a:ext cx="2912760" cy="6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ations – be prepared to fi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way and never be surprised by bad weath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70400" y="2085840"/>
            <a:ext cx="2203200" cy="25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bfc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992400" y="1744560"/>
            <a:ext cx="1159200" cy="603360"/>
          </a:xfrm>
          <a:prstGeom prst="upArrow">
            <a:avLst>
              <a:gd name="adj1" fmla="val 64111"/>
              <a:gd name="adj2" fmla="val 47370"/>
            </a:avLst>
          </a:prstGeom>
          <a:gradFill rotWithShape="0">
            <a:gsLst>
              <a:gs pos="0">
                <a:srgbClr val="8faabe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rot="3960000">
            <a:off x="4978080" y="2489400"/>
            <a:ext cx="1158840" cy="603000"/>
          </a:xfrm>
          <a:prstGeom prst="upArrow">
            <a:avLst>
              <a:gd name="adj1" fmla="val 64111"/>
              <a:gd name="adj2" fmla="val 47370"/>
            </a:avLst>
          </a:prstGeom>
          <a:gradFill rotWithShape="0">
            <a:gsLst>
              <a:gs pos="0">
                <a:srgbClr val="8faabe"/>
              </a:gs>
              <a:gs pos="100000">
                <a:srgbClr val="ffffff"/>
              </a:gs>
            </a:gsLst>
            <a:lin ang="14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 rot="17640000">
            <a:off x="4977720" y="3656160"/>
            <a:ext cx="1158840" cy="603000"/>
          </a:xfrm>
          <a:prstGeom prst="upArrow">
            <a:avLst>
              <a:gd name="adj1" fmla="val 64111"/>
              <a:gd name="adj2" fmla="val 47370"/>
            </a:avLst>
          </a:prstGeom>
          <a:gradFill rotWithShape="0">
            <a:gsLst>
              <a:gs pos="0">
                <a:srgbClr val="8faabe"/>
              </a:gs>
              <a:gs pos="100000">
                <a:srgbClr val="ffffff"/>
              </a:gs>
            </a:gsLst>
            <a:lin ang="14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 rot="17640000">
            <a:off x="3016080" y="2489040"/>
            <a:ext cx="1158840" cy="603360"/>
          </a:xfrm>
          <a:prstGeom prst="upArrow">
            <a:avLst>
              <a:gd name="adj1" fmla="val 64111"/>
              <a:gd name="adj2" fmla="val 47370"/>
            </a:avLst>
          </a:prstGeom>
          <a:gradFill rotWithShape="0">
            <a:gsLst>
              <a:gs pos="0">
                <a:srgbClr val="8faabe"/>
              </a:gs>
              <a:gs pos="100000">
                <a:srgbClr val="ffffff"/>
              </a:gs>
            </a:gsLst>
            <a:lin ang="14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 flipV="1" rot="3960000">
            <a:off x="3016080" y="3655800"/>
            <a:ext cx="1158840" cy="603360"/>
          </a:xfrm>
          <a:prstGeom prst="upArrow">
            <a:avLst>
              <a:gd name="adj1" fmla="val 64111"/>
              <a:gd name="adj2" fmla="val 47370"/>
            </a:avLst>
          </a:prstGeom>
          <a:gradFill rotWithShape="0">
            <a:gsLst>
              <a:gs pos="0">
                <a:srgbClr val="8faabe"/>
              </a:gs>
              <a:gs pos="100000">
                <a:srgbClr val="ffffff"/>
              </a:gs>
            </a:gsLst>
            <a:lin ang="14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3610080" y="2592360"/>
            <a:ext cx="1892160" cy="1555920"/>
            <a:chOff x="3610080" y="2592360"/>
            <a:chExt cx="1892160" cy="1555920"/>
          </a:xfrm>
        </p:grpSpPr>
        <p:pic>
          <p:nvPicPr>
            <p:cNvPr id="187" name="" descr=""/>
            <p:cNvPicPr/>
            <p:nvPr/>
          </p:nvPicPr>
          <p:blipFill>
            <a:blip r:embed="rId2"/>
            <a:srcRect l="9551" t="2997" r="13908" b="3517"/>
            <a:stretch/>
          </p:blipFill>
          <p:spPr>
            <a:xfrm>
              <a:off x="4828320" y="2592360"/>
              <a:ext cx="673920" cy="155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" descr=""/>
            <p:cNvPicPr/>
            <p:nvPr/>
          </p:nvPicPr>
          <p:blipFill>
            <a:blip r:embed="rId3"/>
            <a:srcRect l="9120" t="3508" r="8177" b="3248"/>
            <a:stretch/>
          </p:blipFill>
          <p:spPr>
            <a:xfrm>
              <a:off x="3610080" y="2592360"/>
              <a:ext cx="729360" cy="155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" descr=""/>
            <p:cNvPicPr/>
            <p:nvPr/>
          </p:nvPicPr>
          <p:blipFill>
            <a:blip r:embed="rId4"/>
            <a:srcRect l="35638" t="2759" r="26349" b="2977"/>
            <a:stretch/>
          </p:blipFill>
          <p:spPr>
            <a:xfrm>
              <a:off x="4417560" y="2592360"/>
              <a:ext cx="331920" cy="1553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fidential  – June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DC58D-7CE0-47B7-AB15-5419D67141D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74480" y="550440"/>
            <a:ext cx="671652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86a2"/>
                </a:solidFill>
                <a:latin typeface="Arial"/>
              </a:rPr>
              <a:t>Total Product Experi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74840" y="46080"/>
            <a:ext cx="820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81 – Urban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74840" y="4214880"/>
            <a:ext cx="27907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action-pack for fun on the move –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te-of-the-art multimedi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95000"/>
              </a:lnSpc>
              <a:buClr>
                <a:srgbClr val="5f86a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3 megapixel camera with LED flash and digital zo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95000"/>
              </a:lnSpc>
              <a:buClr>
                <a:srgbClr val="5f86a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 playback, recording, downloading, stream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95000"/>
              </a:lnSpc>
              <a:buClr>
                <a:srgbClr val="5f86a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ic player (MP3, AAC - eAAC+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95000"/>
              </a:lnSpc>
              <a:buClr>
                <a:srgbClr val="5f86a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 MultiMediaCard slot for memory exte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95000"/>
              </a:lnSpc>
              <a:buClr>
                <a:srgbClr val="5f86a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ed torch function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031080" y="2409840"/>
            <a:ext cx="2912760" cy="10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reet Style – show your sportive perform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95000"/>
              </a:lnSpc>
              <a:buClr>
                <a:srgbClr val="5f86a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rtive street style optic with functional appea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95000"/>
              </a:lnSpc>
              <a:buClr>
                <a:srgbClr val="5f86a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bber elements for the perfect gr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95000"/>
              </a:lnSpc>
              <a:buClr>
                <a:srgbClr val="5f86a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erial mix underlines exciting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470400" y="1096920"/>
            <a:ext cx="23320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ands-free experi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95000"/>
              </a:lnSpc>
              <a:buClr>
                <a:srgbClr val="5f86a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ndled Headset Stereo (standard varia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74840" y="2409840"/>
            <a:ext cx="2800080" cy="12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ilt for 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95000"/>
              </a:lnSpc>
              <a:buClr>
                <a:srgbClr val="5f86a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d resistance against sh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95000"/>
              </a:lnSpc>
              <a:buClr>
                <a:srgbClr val="5f86a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mera protection against dust and splash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95000"/>
              </a:lnSpc>
              <a:buClr>
                <a:srgbClr val="5f86a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ratch resistant TFT display, 262,144 colors, 132 x 176 pixels, optimal indoor &amp; outdoor read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31080" y="4214880"/>
            <a:ext cx="2912760" cy="8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pplications – be prepared to f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way and never be surprised by bad weat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95000"/>
              </a:lnSpc>
              <a:buClr>
                <a:srgbClr val="5f86a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ather fore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95000"/>
              </a:lnSpc>
              <a:buClr>
                <a:srgbClr val="5f86a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-board navig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470400" y="2085840"/>
            <a:ext cx="2203200" cy="25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bfc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92400" y="1744560"/>
            <a:ext cx="1159200" cy="603360"/>
          </a:xfrm>
          <a:prstGeom prst="upArrow">
            <a:avLst>
              <a:gd name="adj1" fmla="val 64111"/>
              <a:gd name="adj2" fmla="val 47370"/>
            </a:avLst>
          </a:prstGeom>
          <a:gradFill rotWithShape="0">
            <a:gsLst>
              <a:gs pos="0">
                <a:srgbClr val="8faabe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rot="3960000">
            <a:off x="4978080" y="2489400"/>
            <a:ext cx="1158840" cy="603000"/>
          </a:xfrm>
          <a:prstGeom prst="upArrow">
            <a:avLst>
              <a:gd name="adj1" fmla="val 64111"/>
              <a:gd name="adj2" fmla="val 47370"/>
            </a:avLst>
          </a:prstGeom>
          <a:gradFill rotWithShape="0">
            <a:gsLst>
              <a:gs pos="0">
                <a:srgbClr val="8faabe"/>
              </a:gs>
              <a:gs pos="100000">
                <a:srgbClr val="ffffff"/>
              </a:gs>
            </a:gsLst>
            <a:lin ang="14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 rot="17640000">
            <a:off x="4977720" y="3656160"/>
            <a:ext cx="1158840" cy="603000"/>
          </a:xfrm>
          <a:prstGeom prst="upArrow">
            <a:avLst>
              <a:gd name="adj1" fmla="val 64111"/>
              <a:gd name="adj2" fmla="val 47370"/>
            </a:avLst>
          </a:prstGeom>
          <a:gradFill rotWithShape="0">
            <a:gsLst>
              <a:gs pos="0">
                <a:srgbClr val="8faabe"/>
              </a:gs>
              <a:gs pos="100000">
                <a:srgbClr val="ffffff"/>
              </a:gs>
            </a:gsLst>
            <a:lin ang="14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 rot="17640000">
            <a:off x="3016080" y="2489040"/>
            <a:ext cx="1158840" cy="603360"/>
          </a:xfrm>
          <a:prstGeom prst="upArrow">
            <a:avLst>
              <a:gd name="adj1" fmla="val 64111"/>
              <a:gd name="adj2" fmla="val 47370"/>
            </a:avLst>
          </a:prstGeom>
          <a:gradFill rotWithShape="0">
            <a:gsLst>
              <a:gs pos="0">
                <a:srgbClr val="8faabe"/>
              </a:gs>
              <a:gs pos="100000">
                <a:srgbClr val="ffffff"/>
              </a:gs>
            </a:gsLst>
            <a:lin ang="14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 flipV="1" rot="3960000">
            <a:off x="3016080" y="3655800"/>
            <a:ext cx="1158840" cy="603360"/>
          </a:xfrm>
          <a:prstGeom prst="upArrow">
            <a:avLst>
              <a:gd name="adj1" fmla="val 64111"/>
              <a:gd name="adj2" fmla="val 47370"/>
            </a:avLst>
          </a:prstGeom>
          <a:gradFill rotWithShape="0">
            <a:gsLst>
              <a:gs pos="0">
                <a:srgbClr val="8faabe"/>
              </a:gs>
              <a:gs pos="100000">
                <a:srgbClr val="ffffff"/>
              </a:gs>
            </a:gsLst>
            <a:lin ang="14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610080" y="2592360"/>
            <a:ext cx="1892160" cy="1555920"/>
            <a:chOff x="3610080" y="2592360"/>
            <a:chExt cx="1892160" cy="1555920"/>
          </a:xfrm>
        </p:grpSpPr>
        <p:pic>
          <p:nvPicPr>
            <p:cNvPr id="204" name="" descr=""/>
            <p:cNvPicPr/>
            <p:nvPr/>
          </p:nvPicPr>
          <p:blipFill>
            <a:blip r:embed="rId2"/>
            <a:srcRect l="9551" t="2997" r="13908" b="3517"/>
            <a:stretch/>
          </p:blipFill>
          <p:spPr>
            <a:xfrm>
              <a:off x="4828320" y="2592360"/>
              <a:ext cx="673920" cy="155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" descr=""/>
            <p:cNvPicPr/>
            <p:nvPr/>
          </p:nvPicPr>
          <p:blipFill>
            <a:blip r:embed="rId3"/>
            <a:srcRect l="9120" t="3508" r="8177" b="3248"/>
            <a:stretch/>
          </p:blipFill>
          <p:spPr>
            <a:xfrm>
              <a:off x="3610080" y="2592360"/>
              <a:ext cx="729360" cy="155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" descr=""/>
            <p:cNvPicPr/>
            <p:nvPr/>
          </p:nvPicPr>
          <p:blipFill>
            <a:blip r:embed="rId4"/>
            <a:srcRect l="35638" t="2759" r="26349" b="2977"/>
            <a:stretch/>
          </p:blipFill>
          <p:spPr>
            <a:xfrm>
              <a:off x="4417560" y="2592360"/>
              <a:ext cx="331920" cy="1553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fidential  – June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764B4-DAFA-4B71-8446-A3DFB5B75D8C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matznera</cp:lastModifiedBy>
  <cp:lastPrinted>2006-01-10T22:20:18Z</cp:lastPrinted>
  <dcterms:modified xsi:type="dcterms:W3CDTF">2006-06-23T09:43:06Z</dcterms:modified>
  <cp:revision>735</cp:revision>
  <dc:subject/>
  <dc:title>PowerPoint Presentation</dc:title>
</cp:coreProperties>
</file>