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B6F2-836F-4745-80EA-AC3E9176B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6B02-4E0C-4D27-ADE0-19C0E9CE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9CCD-C93A-4B9E-B657-7580E37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0FAA-BF52-43AC-B996-ECF86BBD7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6FC2-E2C0-4469-97F2-975C1FC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5BFF-FB4B-4699-AF4F-A99CF4D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E2C2-6E02-46E6-9C6D-820EBE4D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5494-F95E-4EB0-AD80-9D21B31E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CEDA-91F2-4A37-BB28-7AA6014B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A67E-6958-4275-869C-C1C62247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2904-EC76-4C63-A2E0-6CA07989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A9C7-B71D-4BBE-83A8-E3EC8F5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E405-F8BF-472E-89EF-A31A3DD76D4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836640"/>
            <a:ext cx="7848720" cy="5617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B2 samples grey/bl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@ M1: available in regions cw29 (21.7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Actual: available in cw30 (deliveries on July 21st and 24th – d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ndard target for B2: 3 weeks before DS; DS planned on 11.8. (cw32) -&gt; Depending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rrival in regions only slight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Blue/white varia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@ M1: only intention to deliver 2nd color var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Team target: available in regions cw30; volume production 4 weeks after DS (cw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assembly B2 in cw32; available in regions cw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gt; Hence 3 week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 MMC tray delivery critical; first volume end cw35 in case that color match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 to secure s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lato to check if and how acceleration of IMD window und camera lid from Nissha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ossible (driver SCM Q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 case MMC trays are not available we should deliver w/o t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 to secure volume produ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Raw material for white PC-ABS and blue TPE already ordered for 50K devic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vailable at Nolato on 11.8. (cw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Availability of keypads not confirmed yet for cw35; SP is in charge to get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Status Hawk #1/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4357-EE96-4BB5-B49C-E5E1697848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836640"/>
            <a:ext cx="7848720" cy="5285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amp Up Volu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Milestone PS: 3.8.2006 (cw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Nolato deliveries are until end of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ence cw31 and cw32 are most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lato still has problems with damage of tooling during mo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rom todays view DS at Aug. 11th still possible, but with reduced volume (appr. 8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as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Daily TelCo with Nolato driven by SC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CM QM is asked to check at Nolato onside how to solve the problem with tooling and if there is a general issue with the tooling conce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us Hawk #2/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7520" y="1736640"/>
          <a:ext cx="7080120" cy="1836360"/>
        </p:xfrm>
        <a:graphic>
          <a:graphicData uri="http://schemas.openxmlformats.org/drawingml/2006/table">
            <a:tbl>
              <a:tblPr/>
              <a:tblGrid>
                <a:gridCol w="1924200"/>
                <a:gridCol w="1031040"/>
                <a:gridCol w="1031040"/>
                <a:gridCol w="1031400"/>
                <a:gridCol w="1031040"/>
                <a:gridCol w="10314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vol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vol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from Nol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32B2-8B53-4227-9E0C-790BCC59A4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25T13:22:09Z</dcterms:modified>
  <cp:revision>149</cp:revision>
  <dc:subject/>
  <dc:title>PowerPoint 簡報</dc:title>
</cp:coreProperties>
</file>