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AADA-ADF9-46F9-9522-DE3E11EEED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527A-AC13-4FAD-AFEB-2E4E1BCE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2DE78-A2FF-4FAD-8829-FFE71859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3B7DC-9D47-439F-AD60-8D7E688CA4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048A-4C6B-4ADF-A6B5-DAFED524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28F0-8E2F-45E8-AEA9-0A1487EE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76E5-EDC7-49BF-94E2-D6CB7C66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4A2A-0936-4D7E-8F0E-962FEC7B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9D5E-E15C-4DC7-B873-ADB32DD2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3D55D-6D6B-4BB3-B9DF-869253D4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F4A8E-D71B-45DB-80EC-DD3F7713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74993-19F9-4472-AB7C-F73CB100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E006-946F-4546-93CD-ED51AFEE0516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836640"/>
            <a:ext cx="7848720" cy="47991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amp Up sit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Planned Production Start @M1: 3.8.2006 (cw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 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ctual:   9.8.2006 (cw32) with No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14.8.2006 (cw33) with 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Planned Delivery Start @M1: 11.8.2006 (cw3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ctual: 18.8.2006 (cw3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lanned volume @DS: 2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ctual: target 14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Measu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aily TelCo with Nolato driven by SCM 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staff onside @Nolato and WBL to solve the problems with tooling and optimize 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Weekend work at Nolato and WBL; WBL on site at Nol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Further critical issu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ide key tactility has to be improved -&gt; actually delivery to OPs blocked from 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us Hawk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5048-0505-4B46-BE3B-F0B580623B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8-04T11:54:55Z</dcterms:modified>
  <cp:revision>150</cp:revision>
  <dc:subject/>
  <dc:title>PowerPoint 簡報</dc:title>
</cp:coreProperties>
</file>