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8A23D-632F-43BD-9E4D-10B802F9CF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2293F-B696-4CFF-98CF-DC6C9AD78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AC3B5-9351-4973-B234-C7A24729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1A1F0-58EE-4729-BD1D-DFACD1A7B6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A327D-68BB-4D76-9F90-BE56C2DF4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A50D0-9BF4-4D39-AA57-5E4694583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D2767-C099-4FE3-A4F8-2BBF98991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C2737-131B-4789-A7BB-3C937550B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B3CB1-7D9E-4357-AE17-AA7B42378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D3A7B-498E-4AFC-BD6C-BCC6BFD18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AC586-1B19-441C-AF57-115517254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17AB0-BE6D-43AC-A9A0-BAA476DD5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77964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62946-8CE2-459D-B368-FE7A4EE526BD}" type="slidenum">
              <a:rPr b="0" lang="en-US" sz="12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68360" y="836640"/>
            <a:ext cx="7848720" cy="561744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B2 samples grey/black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- Plan @ M1: available in regions cw29 (21.7.0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- Actual: available in cw30 (deliveries on July 21st and 24th – do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Standard target for B2: 3 weeks before DS; DS planned on 11.8. (cw32) -&gt; Depending 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arrival in regions only slight de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Blue/white varian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- Plan @ M1: only intention to deliver 2nd color vari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- Team target: available in regions cw30; volume production 4 weeks after DS (cw3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Actual: assembly B2 in cw32; available in regions cw3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gt; Hence 3 weeks de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- MMC tray delivery critical; first volume end cw35 in case that color match is 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Measures to secure sampl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Nolato to check if and how acceleration of IMD window und camera lid from Nissha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possible (driver SCM Q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In case MMC trays are not available we should deliver w/o tr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Measures to secure volume produc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- Raw material for white PC-ABS and blue TPE already ordered for 50K device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available at Nolato on 11.8. (cw3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- Availability of keypads not confirmed yet for cw35; SP is in charge to get confi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Status Hawk #1/2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DAA66-8272-4D9B-9CF4-EFA8E3FDBBC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68360" y="836640"/>
            <a:ext cx="7848720" cy="528588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Ramp Up Volum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- Plan Milestone PS: 3.8.2006 (cw3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  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- Nolato deliveries are until end of wee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Hence cw31 and cw32 are most crit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Nolato still has problems with damage of tooling during mol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From todays view DS at Aug. 11th still possible, but with reduced volume (appr. 8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easu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- Daily TelCo with Nolato driven by SCM Q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SCM QM is asked to check at Nolato onside how to solve the problem with tooling and if there is a general issue with the tooling concep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Status Hawk #2/2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587520" y="1736640"/>
          <a:ext cx="7080120" cy="1836360"/>
        </p:xfrm>
        <a:graphic>
          <a:graphicData uri="http://schemas.openxmlformats.org/drawingml/2006/table">
            <a:tbl>
              <a:tblPr/>
              <a:tblGrid>
                <a:gridCol w="1924200"/>
                <a:gridCol w="1031040"/>
                <a:gridCol w="1031040"/>
                <a:gridCol w="1031400"/>
                <a:gridCol w="1031040"/>
                <a:gridCol w="1031400"/>
              </a:tblGrid>
              <a:tr h="252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eca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5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lot volu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5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duction volu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7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,5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livery from Nola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7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EF36F-A8D3-4F68-B863-EAF30C205B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Juergen Schmitz</cp:lastModifiedBy>
  <dcterms:modified xsi:type="dcterms:W3CDTF">2006-07-25T13:22:09Z</dcterms:modified>
  <cp:revision>149</cp:revision>
  <dc:subject/>
  <dc:title>PowerPoint 簡報</dc:title>
</cp:coreProperties>
</file>