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0756B-842F-43A0-91FB-BCE50FA45F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7FAED-023C-4BD0-9915-3DFE3752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7D93A-4FC1-4FCB-8BA6-FD1DE207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23E74-899F-4A38-A2B8-1D8FCC5015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1A027-909A-41F8-86DB-12B7ADFA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42059-8C9B-473A-9BEF-A1A469A8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804CC-2497-467A-8352-37811B94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0F986-861C-4011-BE26-7E86727E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E05E-3C16-499C-BD18-F3749182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F5CA2-8B39-4C17-AE35-F2499E86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BA4C7-164E-46B5-AE62-A3608663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435E0-37FB-4890-8921-3C22F241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9823-0D5E-42AD-B8FF-8E3E055223C8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836640"/>
            <a:ext cx="7848720" cy="47991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amp Up situ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Planned Production Start @M1: 3.8.2006 (cw3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 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ctual:   9.8.2006 (cw32) with No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14.8.2006 (cw33) with 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Planned Delivery Start @M1: 11.8.2006 (cw3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ctual: 18.8.2006 (cw3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lanned volume @DS: 20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ctual: target 14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Measu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aily TelCo with Nolato driven by SCM 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staff onside @Nolato and WBL to solve the problems with tooling and optimize 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Weekend work at Nolato and WBL; WBL on site at Nol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Further critical issu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ide key tactility has to be improved -&gt; actually delivery to OPs blocked from 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us Hawk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CC2BB-BCCA-417F-99C8-C35CD5CA67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8-04T11:54:55Z</dcterms:modified>
  <cp:revision>150</cp:revision>
  <dc:subject/>
  <dc:title>PowerPoint 簡報</dc:title>
</cp:coreProperties>
</file>