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DC4-4358-44D9-A6D5-C7DB2D0A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19F-B2B3-45FB-81E8-DB81D890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275-8B1A-4429-A701-423020AB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AF1-868E-4171-A84C-D45F5B83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C78-FAF7-445A-A527-A0B94AB0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401-F2D1-48AC-9B62-8FFA1185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E47-CC66-4F42-AA79-686BE023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524-0BC5-4AC3-A2FB-849B22FF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8E9-7FDB-458E-8404-C4D7829E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121-4671-4B0B-870E-B68EA6F0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BFD-A11D-4418-9C60-28B867EB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65A-060A-4479-B0F8-C49B30FE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76BD-57FC-45AA-BBA7-4E8625A7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57240" y="4221000"/>
            <a:ext cx="792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49600" y="3286080"/>
            <a:ext cx="79200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41600" y="2494080"/>
            <a:ext cx="7923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33960" y="2836800"/>
            <a:ext cx="792000" cy="318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8480" y="248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80840" y="2846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6480" y="3284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32840" y="4214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9960" y="406440"/>
            <a:ext cx="330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: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: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6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0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30320" y="2962080"/>
            <a:ext cx="3817800" cy="360360"/>
            <a:chOff x="1930320" y="2962080"/>
            <a:chExt cx="3817800" cy="360360"/>
          </a:xfrm>
        </p:grpSpPr>
        <p:sp>
          <p:nvSpPr>
            <p:cNvPr id="51" name=""/>
            <p:cNvSpPr/>
            <p:nvPr/>
          </p:nvSpPr>
          <p:spPr>
            <a:xfrm flipV="1">
              <a:off x="1930320" y="296208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51040" y="296244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930320" y="3573000"/>
            <a:ext cx="3817800" cy="360360"/>
            <a:chOff x="1930320" y="3573000"/>
            <a:chExt cx="3817800" cy="360360"/>
          </a:xfrm>
        </p:grpSpPr>
        <p:sp>
          <p:nvSpPr>
            <p:cNvPr id="54" name=""/>
            <p:cNvSpPr/>
            <p:nvPr/>
          </p:nvSpPr>
          <p:spPr>
            <a:xfrm flipV="1">
              <a:off x="1930320" y="357300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51040" y="357336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74880" y="63972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 SISL and 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7600" y="27748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0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93200" y="3349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6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3480" y="4221000"/>
            <a:ext cx="792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5840" y="3286080"/>
            <a:ext cx="79200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2494080"/>
            <a:ext cx="7923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2836800"/>
            <a:ext cx="792000" cy="318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720" y="248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7080" y="2846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2720" y="3284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72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05120" y="3322440"/>
            <a:ext cx="3817800" cy="360360"/>
            <a:chOff x="1905120" y="3322440"/>
            <a:chExt cx="3817800" cy="360360"/>
          </a:xfrm>
        </p:grpSpPr>
        <p:sp>
          <p:nvSpPr>
            <p:cNvPr id="73" name=""/>
            <p:cNvSpPr/>
            <p:nvPr/>
          </p:nvSpPr>
          <p:spPr>
            <a:xfrm flipV="1">
              <a:off x="1905120" y="332244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5840" y="332280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06560" y="3771720"/>
            <a:ext cx="3817800" cy="360360"/>
            <a:chOff x="1906560" y="3771720"/>
            <a:chExt cx="3817800" cy="360360"/>
          </a:xfrm>
        </p:grpSpPr>
        <p:sp>
          <p:nvSpPr>
            <p:cNvPr id="76" name=""/>
            <p:cNvSpPr/>
            <p:nvPr/>
          </p:nvSpPr>
          <p:spPr>
            <a:xfrm flipV="1">
              <a:off x="1906560" y="377172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27280" y="377208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73800" y="639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0" y="314172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0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07600" y="3573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5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960" y="404640"/>
            <a:ext cx="330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: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5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0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5445000"/>
            <a:ext cx="79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97120" y="5229360"/>
            <a:ext cx="792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89480" y="5229360"/>
            <a:ext cx="79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5229360"/>
            <a:ext cx="79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600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800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528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164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76400" y="5049360"/>
            <a:ext cx="3817800" cy="360360"/>
            <a:chOff x="1976400" y="5049360"/>
            <a:chExt cx="3817800" cy="360360"/>
          </a:xfrm>
        </p:grpSpPr>
        <p:sp>
          <p:nvSpPr>
            <p:cNvPr id="96" name=""/>
            <p:cNvSpPr/>
            <p:nvPr/>
          </p:nvSpPr>
          <p:spPr>
            <a:xfrm flipV="1">
              <a:off x="1976400" y="504936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97120" y="504972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78200" y="5211360"/>
            <a:ext cx="3817800" cy="360360"/>
            <a:chOff x="1978200" y="5211360"/>
            <a:chExt cx="3817800" cy="360360"/>
          </a:xfrm>
        </p:grpSpPr>
        <p:sp>
          <p:nvSpPr>
            <p:cNvPr id="99" name=""/>
            <p:cNvSpPr/>
            <p:nvPr/>
          </p:nvSpPr>
          <p:spPr>
            <a:xfrm flipV="1">
              <a:off x="1978200" y="521136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8920" y="521172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975240" y="639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3840" y="471816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4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9080" y="51498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5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9600" y="404640"/>
            <a:ext cx="317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: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5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4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7:43:44Z</dcterms:created>
  <dc:creator>Juergen Schmitz</dc:creator>
  <dc:description/>
  <dc:language>en-US</dc:language>
  <cp:lastModifiedBy>Juergen Schmitz</cp:lastModifiedBy>
  <dcterms:modified xsi:type="dcterms:W3CDTF">2006-03-30T10:08:54Z</dcterms:modified>
  <cp:revision>3</cp:revision>
  <dc:subject/>
  <dc:title>Folie 1</dc:title>
</cp:coreProperties>
</file>