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7A9E-8EE3-4F46-BBA9-22F12DE3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3762-C02B-413F-AF2B-27E36BAC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925B-8A53-4132-95EE-E34A706D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7A4-405D-4A74-B14D-73E74586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3B4-C6E9-4D61-B1AF-6E13C818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320B-94C3-48C5-9A63-607831D9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47B8-0149-41DC-AC9F-D0E1B354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A153-DC37-40E4-A215-FE6DAF5A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FF0E-F5D4-4E17-BA3F-88163128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8713-17A9-4B3D-8F80-15C09660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116C-195B-4D91-BBF7-3B5BC396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16FD-8366-4155-B992-98EDAAD2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6729-6DA2-402A-A857-FE684C4D6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57240" y="4221000"/>
            <a:ext cx="79236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49600" y="3286080"/>
            <a:ext cx="792000" cy="27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41600" y="2494080"/>
            <a:ext cx="792360" cy="35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33960" y="2836800"/>
            <a:ext cx="792000" cy="318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8480" y="2486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80840" y="2846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96480" y="3284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32840" y="4214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79960" y="406440"/>
            <a:ext cx="3301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SL:    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jing: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s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36MW (5days/we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70MW (6days/we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30320" y="2962080"/>
            <a:ext cx="3817800" cy="360360"/>
            <a:chOff x="1930320" y="2962080"/>
            <a:chExt cx="3817800" cy="360360"/>
          </a:xfrm>
        </p:grpSpPr>
        <p:sp>
          <p:nvSpPr>
            <p:cNvPr id="51" name=""/>
            <p:cNvSpPr/>
            <p:nvPr/>
          </p:nvSpPr>
          <p:spPr>
            <a:xfrm flipV="1">
              <a:off x="1930320" y="296208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51040" y="2962440"/>
              <a:ext cx="30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930320" y="3573000"/>
            <a:ext cx="3817800" cy="360360"/>
            <a:chOff x="1930320" y="3573000"/>
            <a:chExt cx="3817800" cy="360360"/>
          </a:xfrm>
        </p:grpSpPr>
        <p:sp>
          <p:nvSpPr>
            <p:cNvPr id="54" name=""/>
            <p:cNvSpPr/>
            <p:nvPr/>
          </p:nvSpPr>
          <p:spPr>
            <a:xfrm flipV="1">
              <a:off x="1930320" y="357300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51040" y="3573360"/>
              <a:ext cx="30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974880" y="63972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tal SISL and Beij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07600" y="277488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70MW (+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93200" y="33498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36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6160" y="601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4920" y="601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0728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928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2520" y="602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r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33480" y="4221000"/>
            <a:ext cx="79236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5840" y="3286080"/>
            <a:ext cx="792000" cy="27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7840" y="2494080"/>
            <a:ext cx="792360" cy="35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10200" y="2836800"/>
            <a:ext cx="792000" cy="318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720" y="2486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7080" y="2846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72720" y="3284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872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905120" y="3322440"/>
            <a:ext cx="3817800" cy="360360"/>
            <a:chOff x="1905120" y="3322440"/>
            <a:chExt cx="3817800" cy="360360"/>
          </a:xfrm>
        </p:grpSpPr>
        <p:sp>
          <p:nvSpPr>
            <p:cNvPr id="73" name=""/>
            <p:cNvSpPr/>
            <p:nvPr/>
          </p:nvSpPr>
          <p:spPr>
            <a:xfrm flipV="1">
              <a:off x="1905120" y="332244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25840" y="3322800"/>
              <a:ext cx="30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906560" y="3771720"/>
            <a:ext cx="3817800" cy="360360"/>
            <a:chOff x="1906560" y="3771720"/>
            <a:chExt cx="3817800" cy="360360"/>
          </a:xfrm>
        </p:grpSpPr>
        <p:sp>
          <p:nvSpPr>
            <p:cNvPr id="76" name=""/>
            <p:cNvSpPr/>
            <p:nvPr/>
          </p:nvSpPr>
          <p:spPr>
            <a:xfrm flipV="1">
              <a:off x="1906560" y="377172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27280" y="3772080"/>
              <a:ext cx="30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973800" y="6397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SL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6160" y="601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4920" y="601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0728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9928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2520" y="602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r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22000" y="314172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0MW (+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07600" y="3573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25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9960" y="404640"/>
            <a:ext cx="330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SL:    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s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25MW (5days/we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0MW (6days/we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05120" y="5445000"/>
            <a:ext cx="792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97120" y="5229360"/>
            <a:ext cx="792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89480" y="5229360"/>
            <a:ext cx="792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81480" y="5229360"/>
            <a:ext cx="792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6000" y="522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28000" y="522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5280" y="522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164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976400" y="5049360"/>
            <a:ext cx="3817800" cy="360360"/>
            <a:chOff x="1976400" y="5049360"/>
            <a:chExt cx="3817800" cy="360360"/>
          </a:xfrm>
        </p:grpSpPr>
        <p:sp>
          <p:nvSpPr>
            <p:cNvPr id="96" name=""/>
            <p:cNvSpPr/>
            <p:nvPr/>
          </p:nvSpPr>
          <p:spPr>
            <a:xfrm flipV="1">
              <a:off x="1976400" y="504936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97120" y="5049720"/>
              <a:ext cx="30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978200" y="5211360"/>
            <a:ext cx="3817800" cy="360360"/>
            <a:chOff x="1978200" y="5211360"/>
            <a:chExt cx="3817800" cy="360360"/>
          </a:xfrm>
        </p:grpSpPr>
        <p:sp>
          <p:nvSpPr>
            <p:cNvPr id="99" name=""/>
            <p:cNvSpPr/>
            <p:nvPr/>
          </p:nvSpPr>
          <p:spPr>
            <a:xfrm flipV="1">
              <a:off x="1978200" y="521136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98920" y="5211720"/>
              <a:ext cx="30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975240" y="639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jing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6160" y="601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4920" y="601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0728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9928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2520" y="602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r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3840" y="471816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4MW (+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9080" y="51498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5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9600" y="404640"/>
            <a:ext cx="317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jing: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s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5MW (5days/we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4MW (6days/we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7:43:44Z</dcterms:created>
  <dc:creator>Juergen Schmitz</dc:creator>
  <dc:description/>
  <dc:language>en-US</dc:language>
  <cp:lastModifiedBy>Juergen Schmitz</cp:lastModifiedBy>
  <dcterms:modified xsi:type="dcterms:W3CDTF">2006-03-30T10:08:54Z</dcterms:modified>
  <cp:revision>3</cp:revision>
  <dc:subject/>
  <dc:title>Folie 1</dc:title>
</cp:coreProperties>
</file>