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5A3-84FE-4C7D-BC85-EED00354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902-3987-48E4-A743-06A70911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83D-F7EA-413C-9F65-25D196DF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818-59B4-4E4F-8264-4A9F7E053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7862-9B29-47D3-BFE5-13143F7C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8B2-427A-4FB0-8B15-448C49D2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9DF4-AED2-4F83-A448-3193BC5F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044-C91D-456B-A999-065AC745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46D-E982-430D-BAB3-E68995A6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907-4CAD-4FD3-92D4-02C999B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D0F-2DD8-4D92-A8EE-B27DA6F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74E-F121-4667-98C9-405DDAD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5CC4-D06D-4790-B645-37D0412BC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57240" y="4221000"/>
            <a:ext cx="792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49600" y="3286080"/>
            <a:ext cx="79200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41600" y="2494080"/>
            <a:ext cx="7923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33960" y="2836800"/>
            <a:ext cx="792000" cy="318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8480" y="248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80840" y="2846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96480" y="328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32840" y="4214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79960" y="406440"/>
            <a:ext cx="3301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: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: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6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0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30320" y="2962080"/>
            <a:ext cx="3817800" cy="360360"/>
            <a:chOff x="1930320" y="2962080"/>
            <a:chExt cx="3817800" cy="360360"/>
          </a:xfrm>
        </p:grpSpPr>
        <p:sp>
          <p:nvSpPr>
            <p:cNvPr id="51" name=""/>
            <p:cNvSpPr/>
            <p:nvPr/>
          </p:nvSpPr>
          <p:spPr>
            <a:xfrm flipV="1">
              <a:off x="1930320" y="296208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51040" y="296244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1930320" y="3573000"/>
            <a:ext cx="3817800" cy="360360"/>
            <a:chOff x="1930320" y="3573000"/>
            <a:chExt cx="3817800" cy="360360"/>
          </a:xfrm>
        </p:grpSpPr>
        <p:sp>
          <p:nvSpPr>
            <p:cNvPr id="54" name=""/>
            <p:cNvSpPr/>
            <p:nvPr/>
          </p:nvSpPr>
          <p:spPr>
            <a:xfrm flipV="1">
              <a:off x="1930320" y="357300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51040" y="357336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974880" y="63972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tal SISL and Beij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07600" y="27748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70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893200" y="33498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6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3480" y="4221000"/>
            <a:ext cx="79236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5840" y="3286080"/>
            <a:ext cx="792000" cy="27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2494080"/>
            <a:ext cx="792360" cy="35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10200" y="2836800"/>
            <a:ext cx="792000" cy="318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64720" y="2486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7080" y="28465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2720" y="3284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720" y="421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905120" y="3322440"/>
            <a:ext cx="3817800" cy="360360"/>
            <a:chOff x="1905120" y="3322440"/>
            <a:chExt cx="3817800" cy="360360"/>
          </a:xfrm>
        </p:grpSpPr>
        <p:sp>
          <p:nvSpPr>
            <p:cNvPr id="73" name=""/>
            <p:cNvSpPr/>
            <p:nvPr/>
          </p:nvSpPr>
          <p:spPr>
            <a:xfrm flipV="1">
              <a:off x="1905120" y="332244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25840" y="332280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906560" y="3771720"/>
            <a:ext cx="3817800" cy="360360"/>
            <a:chOff x="1906560" y="3771720"/>
            <a:chExt cx="3817800" cy="360360"/>
          </a:xfrm>
        </p:grpSpPr>
        <p:sp>
          <p:nvSpPr>
            <p:cNvPr id="76" name=""/>
            <p:cNvSpPr/>
            <p:nvPr/>
          </p:nvSpPr>
          <p:spPr>
            <a:xfrm flipV="1">
              <a:off x="1906560" y="377172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27280" y="377208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73800" y="6397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22000" y="314172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0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07600" y="3573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5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79960" y="404640"/>
            <a:ext cx="330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SL: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25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0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5445000"/>
            <a:ext cx="792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97120" y="5229360"/>
            <a:ext cx="7923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89480" y="522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1480" y="5229360"/>
            <a:ext cx="792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600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2800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5280" y="522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1640" y="5516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76400" y="5049360"/>
            <a:ext cx="3817800" cy="360360"/>
            <a:chOff x="1976400" y="5049360"/>
            <a:chExt cx="3817800" cy="360360"/>
          </a:xfrm>
        </p:grpSpPr>
        <p:sp>
          <p:nvSpPr>
            <p:cNvPr id="96" name=""/>
            <p:cNvSpPr/>
            <p:nvPr/>
          </p:nvSpPr>
          <p:spPr>
            <a:xfrm flipV="1">
              <a:off x="1976400" y="504936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97120" y="50497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978200" y="5211360"/>
            <a:ext cx="3817800" cy="360360"/>
            <a:chOff x="1978200" y="5211360"/>
            <a:chExt cx="3817800" cy="360360"/>
          </a:xfrm>
        </p:grpSpPr>
        <p:sp>
          <p:nvSpPr>
            <p:cNvPr id="99" name=""/>
            <p:cNvSpPr/>
            <p:nvPr/>
          </p:nvSpPr>
          <p:spPr>
            <a:xfrm flipV="1">
              <a:off x="1978200" y="5211360"/>
              <a:ext cx="72072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98920" y="5211720"/>
              <a:ext cx="30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975240" y="6397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2616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4920" y="60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07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9928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2520" y="602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pr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3840" y="4718160"/>
            <a:ext cx="16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4MW (+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9080" y="51498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5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79600" y="404640"/>
            <a:ext cx="317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resou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jing: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s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5MW (5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4MW (6days/we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7:43:44Z</dcterms:created>
  <dc:creator>Juergen Schmitz</dc:creator>
  <dc:description/>
  <dc:language>en-US</dc:language>
  <cp:lastModifiedBy>Juergen Schmitz</cp:lastModifiedBy>
  <dcterms:modified xsi:type="dcterms:W3CDTF">2006-03-30T10:08:54Z</dcterms:modified>
  <cp:revision>3</cp:revision>
  <dc:subject/>
  <dc:title>Folie 1</dc:title>
</cp:coreProperties>
</file>