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6"/>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13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8"/>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4D5C-C092-440C-86E8-4B5A9E69B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0E7A-8D60-4C98-92A7-2A1278C1B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792000" y="177840"/>
            <a:ext cx="5089680" cy="3817800"/>
          </a:xfrm>
          <a:prstGeom prst="rect">
            <a:avLst/>
          </a:prstGeom>
          <a:ln w="0">
            <a:noFill/>
          </a:ln>
        </p:spPr>
      </p:sp>
      <p:sp>
        <p:nvSpPr>
          <p:cNvPr id="339" name="PlaceHolder 2"/>
          <p:cNvSpPr>
            <a:spLocks noGrp="1"/>
          </p:cNvSpPr>
          <p:nvPr>
            <p:ph type="body"/>
          </p:nvPr>
        </p:nvSpPr>
        <p:spPr>
          <a:xfrm>
            <a:off x="666720" y="4473360"/>
            <a:ext cx="5329440" cy="50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133C70-BF72-4BD3-BE33-A79EF562C0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3733A455-925C-4D20-9F37-7884DDF7B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FB70EC7F-0AD3-4E9E-94E9-4A7A02D2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758B7D23-F646-41C5-89C2-2F9B636BE7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012B8F-BA4C-4C2A-B0C7-8DCCE22134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0"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277D01-C8CD-4F1E-B4F1-00143B0260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2"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A70D5A-E272-4BA7-945F-8738EDBAC7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CE5566-09BD-4BFB-BAC4-1A1848D1F7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99E15A-EC41-42E7-BFCB-CE31AF50DC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A25280-2460-4875-AE78-196AE4AC1A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4825CC-2E9D-4664-854B-F1CC8831A0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E7FF03B7-BDF9-48BA-9BB0-1D200259F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8E10FC-AA96-4CE9-90ED-3D23DAF0E2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75D4EB-ADA7-4443-8763-2D0FA543D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3E5563-3DBE-4170-BA27-F658D5ED9E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7403A7-1034-40EF-B0B0-0CDF0AD82E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9"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2"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3"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4"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817B81-6FE4-4DB9-A727-F2B714043F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1D7E73EB-9E40-4B8B-902A-211E2697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C024B461-AFA5-46CD-84F1-C6ADF0FD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6F024AB6-226A-4238-B607-178139A67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451E7AB3-3EEA-448F-922B-49ED81FAF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8A9BA879-6B0D-4D59-8E6E-5C156755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BD817BEC-4318-4FBB-84D5-5EAAE16E7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88952A84-141D-4CAA-AAD9-9E9FADF5854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EBDC-FB09-4E58-81DC-E24BC11F8E4B}" type="slidenum">
              <a:rPr b="0" lang="en-US"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2600"/>
            <a:ext cx="9144000" cy="6840720"/>
          </a:xfrm>
          <a:prstGeom prst="rect">
            <a:avLst/>
          </a:prstGeom>
          <a:ln w="0">
            <a:noFill/>
          </a:ln>
        </p:spPr>
      </p:pic>
      <p:pic>
        <p:nvPicPr>
          <p:cNvPr id="43" name="" descr=""/>
          <p:cNvPicPr/>
          <p:nvPr/>
        </p:nvPicPr>
        <p:blipFill>
          <a:blip r:embed="rId3"/>
          <a:srcRect l="-833" t="-1153" r="-833" b="-1729"/>
          <a:stretch/>
        </p:blipFill>
        <p:spPr>
          <a:xfrm>
            <a:off x="7834320" y="6311880"/>
            <a:ext cx="1035000" cy="301680"/>
          </a:xfrm>
          <a:prstGeom prst="rect">
            <a:avLst/>
          </a:prstGeom>
          <a:ln w="0">
            <a:noFill/>
          </a:ln>
        </p:spPr>
      </p:pic>
      <p:sp>
        <p:nvSpPr>
          <p:cNvPr id="4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45"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3"/>
          <p:cNvSpPr>
            <a:spLocks noGrp="1"/>
          </p:cNvSpPr>
          <p:nvPr>
            <p:ph type="ftr" idx="3"/>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4D2D-94C9-481A-B87C-F15C8E989FD2}"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48"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Jerry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9163080" cy="6854760"/>
            <a:chOff x="0" y="0"/>
            <a:chExt cx="9163080" cy="6854760"/>
          </a:xfrm>
        </p:grpSpPr>
        <p:pic>
          <p:nvPicPr>
            <p:cNvPr id="86" name="" descr=""/>
            <p:cNvPicPr/>
            <p:nvPr/>
          </p:nvPicPr>
          <p:blipFill>
            <a:blip r:embed="rId2"/>
            <a:stretch/>
          </p:blipFill>
          <p:spPr>
            <a:xfrm>
              <a:off x="0" y="0"/>
              <a:ext cx="9163080" cy="6854760"/>
            </a:xfrm>
            <a:prstGeom prst="rect">
              <a:avLst/>
            </a:prstGeom>
            <a:ln w="0">
              <a:noFill/>
            </a:ln>
          </p:spPr>
        </p:pic>
        <p:pic>
          <p:nvPicPr>
            <p:cNvPr id="87" name="" descr=""/>
            <p:cNvPicPr/>
            <p:nvPr/>
          </p:nvPicPr>
          <p:blipFill>
            <a:blip r:embed="rId3"/>
            <a:srcRect l="-833" t="-1153" r="-833" b="-1729"/>
            <a:stretch/>
          </p:blipFill>
          <p:spPr>
            <a:xfrm>
              <a:off x="7834320" y="6311880"/>
              <a:ext cx="1035000" cy="301680"/>
            </a:xfrm>
            <a:prstGeom prst="rect">
              <a:avLst/>
            </a:prstGeom>
            <a:ln w="0">
              <a:noFill/>
            </a:ln>
          </p:spPr>
        </p:pic>
      </p:grpSp>
      <p:sp>
        <p:nvSpPr>
          <p:cNvPr id="88"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 name="PlaceHolder 2"/>
          <p:cNvSpPr>
            <a:spLocks noGrp="1"/>
          </p:cNvSpPr>
          <p:nvPr>
            <p:ph type="ftr" idx="5"/>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0</a:t>
            </a:r>
            <a:endParaRPr b="1" lang="en-US" sz="3200" spc="-1" strike="noStrike">
              <a:solidFill>
                <a:srgbClr val="3a0e66"/>
              </a:solidFill>
              <a:latin typeface="Minion"/>
            </a:endParaRPr>
          </a:p>
        </p:txBody>
      </p:sp>
      <p:sp>
        <p:nvSpPr>
          <p:cNvPr id="134"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16 Mar 2006</a:t>
            </a:r>
            <a:endParaRPr b="0" lang="en-US" sz="2000" spc="-1" strike="noStrike">
              <a:solidFill>
                <a:srgbClr val="000000"/>
              </a:solidFill>
              <a:latin typeface="Times New Roman"/>
            </a:endParaRPr>
          </a:p>
        </p:txBody>
      </p:sp>
      <p:sp>
        <p:nvSpPr>
          <p:cNvPr id="135"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732862E-DD01-4CF6-9EE4-6DDDDBDE0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39845-5BAD-4284-97C3-F85891F0680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37"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39" name=""/>
          <p:cNvGrpSpPr/>
          <p:nvPr/>
        </p:nvGrpSpPr>
        <p:grpSpPr>
          <a:xfrm>
            <a:off x="689040" y="2379600"/>
            <a:ext cx="2233440" cy="2208240"/>
            <a:chOff x="689040" y="2379600"/>
            <a:chExt cx="2233440" cy="2208240"/>
          </a:xfrm>
        </p:grpSpPr>
        <p:sp>
          <p:nvSpPr>
            <p:cNvPr id="140"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147"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48"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149"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50"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151"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152" name=""/>
          <p:cNvSpPr/>
          <p:nvPr/>
        </p:nvSpPr>
        <p:spPr>
          <a:xfrm>
            <a:off x="3708360" y="4818240"/>
            <a:ext cx="5289480" cy="17816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not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igned) vs. target 450k over lifecycle (used in BC, no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written confirmation by VF)</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7’6 € (=23.9 %) vs.17’6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48.1%) @M alpha</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90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70.22 €</a:t>
            </a:r>
            <a:endParaRPr b="0" lang="en-US" sz="1500" spc="-1" strike="noStrike">
              <a:solidFill>
                <a:srgbClr val="000000"/>
              </a:solidFill>
              <a:latin typeface="Times New Roman"/>
            </a:endParaRPr>
          </a:p>
        </p:txBody>
      </p:sp>
      <p:sp>
        <p:nvSpPr>
          <p:cNvPr id="153" name=""/>
          <p:cNvSpPr/>
          <p:nvPr/>
        </p:nvSpPr>
        <p:spPr>
          <a:xfrm>
            <a:off x="3708360" y="2506680"/>
            <a:ext cx="528948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oduct Profit Contribution: </a:t>
            </a:r>
            <a:r>
              <a:rPr b="0" lang="en-US" sz="1500" spc="-1" strike="noStrike">
                <a:solidFill>
                  <a:srgbClr val="3a0e66"/>
                </a:solidFill>
                <a:latin typeface="Times New Roman"/>
                <a:ea typeface="文鼎中黑"/>
              </a:rPr>
              <a:t>6’1 € (=19.2%) vs.14’9 @M alpha</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Time to Break-Even: 67%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y.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4’5 € = internal cost 9’0 € - VF NRE  4’5 € (based on MS achievement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Volume risk result in Sales Margin deduction of  0’3 </a:t>
            </a:r>
            <a:r>
              <a:rPr b="0" lang="en-US" sz="1500" spc="-1" strike="noStrike">
                <a:solidFill>
                  <a:srgbClr val="3a0e66"/>
                </a:solidFill>
                <a:latin typeface="Times New Roman"/>
                <a:ea typeface="文鼎中黑"/>
              </a:rPr>
              <a:t>€,           PPC deduction of </a:t>
            </a:r>
            <a:r>
              <a:rPr b="0" lang="en-GB" sz="1500" spc="-1" strike="noStrike">
                <a:solidFill>
                  <a:srgbClr val="3a0e66"/>
                </a:solidFill>
                <a:latin typeface="Times New Roman"/>
                <a:ea typeface="文鼎中黑"/>
              </a:rPr>
              <a:t> 0’2 </a:t>
            </a:r>
            <a:r>
              <a:rPr b="0" lang="en-US" sz="1500" spc="-1" strike="noStrike">
                <a:solidFill>
                  <a:srgbClr val="3a0e66"/>
                </a:solidFill>
                <a:latin typeface="Times New Roman"/>
                <a:ea typeface="文鼎中黑"/>
              </a:rPr>
              <a:t>€</a:t>
            </a:r>
            <a:endParaRPr b="0" lang="en-US" sz="1500" spc="-1" strike="noStrike">
              <a:solidFill>
                <a:srgbClr val="000000"/>
              </a:solidFill>
              <a:latin typeface="Times New Roman"/>
            </a:endParaRPr>
          </a:p>
        </p:txBody>
      </p:sp>
      <p:sp>
        <p:nvSpPr>
          <p:cNvPr id="154" name=""/>
          <p:cNvSpPr/>
          <p:nvPr/>
        </p:nvSpPr>
        <p:spPr>
          <a:xfrm>
            <a:off x="3708360" y="113832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155"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56"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57"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8E24AF-99D8-4420-947C-33E93909BB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5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0" name=""/>
          <p:cNvSpPr/>
          <p:nvPr/>
        </p:nvSpPr>
        <p:spPr>
          <a:xfrm>
            <a:off x="3755880" y="1047600"/>
            <a:ext cx="5241960" cy="187956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0:         Feb.23, 2006 vs. Mar.16, 2006 (actual)</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1:         Mar.21, 2006 vs. Mar.31, 2006 (latest plan)</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S25/M2:  Jul.18, 2006</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DS:         </a:t>
            </a:r>
            <a:r>
              <a:rPr b="0" lang="en-US" sz="1400" spc="-1" strike="noStrike">
                <a:solidFill>
                  <a:srgbClr val="3a0e66"/>
                </a:solidFill>
                <a:latin typeface="Times New Roman"/>
                <a:ea typeface="文鼎中黑"/>
              </a:rPr>
              <a:t>Sep.22, 2006 (internally); Communicated DS to VF is   </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Oct.9, 2006, shipment arrival at VF OpCos by Oct.13</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S4:          Nov.13, 2006</a:t>
            </a:r>
            <a:endParaRPr b="0" lang="en-US" sz="14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PLT:  30% possibility of 2-weeks-delay based on DS in Sep.</a:t>
            </a:r>
            <a:endParaRPr b="0" lang="en-US" sz="1400" spc="-1" strike="noStrike">
              <a:solidFill>
                <a:srgbClr val="000000"/>
              </a:solidFill>
              <a:latin typeface="Times New Roman"/>
            </a:endParaRPr>
          </a:p>
        </p:txBody>
      </p:sp>
      <p:sp>
        <p:nvSpPr>
          <p:cNvPr id="161" name=""/>
          <p:cNvSpPr/>
          <p:nvPr/>
        </p:nvSpPr>
        <p:spPr>
          <a:xfrm>
            <a:off x="3780000" y="5699160"/>
            <a:ext cx="5241600" cy="902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ignatures complete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50% PPLs in BJ site relatively unexperienced as PPLs</a:t>
            </a:r>
            <a:endParaRPr b="0" lang="en-US" sz="1400" spc="-1" strike="noStrike">
              <a:solidFill>
                <a:srgbClr val="000000"/>
              </a:solidFill>
              <a:latin typeface="Times New Roman"/>
            </a:endParaRPr>
          </a:p>
        </p:txBody>
      </p:sp>
      <p:sp>
        <p:nvSpPr>
          <p:cNvPr id="162" name=""/>
          <p:cNvSpPr/>
          <p:nvPr/>
        </p:nvSpPr>
        <p:spPr>
          <a:xfrm>
            <a:off x="3755880" y="3030480"/>
            <a:ext cx="5241960" cy="25714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Current estimated return rate:</a:t>
            </a:r>
            <a:endParaRPr b="0" lang="en-US" sz="1400" spc="-1" strike="noStrike">
              <a:solidFill>
                <a:srgbClr val="000000"/>
              </a:solidFill>
              <a:latin typeface="Times New Roman"/>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pl-PL" sz="1400" spc="-1" strike="noStrike">
                <a:solidFill>
                  <a:srgbClr val="3a0e66"/>
                </a:solidFill>
                <a:latin typeface="Times New Roman"/>
                <a:ea typeface="文鼎中黑"/>
              </a:rPr>
              <a:t>4</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5% (SW 1</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3 % +HW 3</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2 %)</a:t>
            </a: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vs. 4.5% (target)</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No experience with mechanical concept of  slider key ,on /off key; MD concept not finalized based on ongoing D FMEA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Transfer of project from AAL to BJ midway through project has risk impact on schedule</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oftware features not completely fixed</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3-4 weeks potential delay in case of MD problems due to missing of 3rd prototype run</a:t>
            </a:r>
            <a:endParaRPr b="0" lang="en-US" sz="1400" spc="-1" strike="noStrike">
              <a:solidFill>
                <a:srgbClr val="000000"/>
              </a:solidFill>
              <a:latin typeface="Times New Roman"/>
            </a:endParaRPr>
          </a:p>
        </p:txBody>
      </p:sp>
      <p:sp>
        <p:nvSpPr>
          <p:cNvPr id="163"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64"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689040" y="2379600"/>
            <a:ext cx="2233440" cy="2208240"/>
            <a:chOff x="689040" y="2379600"/>
            <a:chExt cx="2233440" cy="2208240"/>
          </a:xfrm>
        </p:grpSpPr>
        <p:sp>
          <p:nvSpPr>
            <p:cNvPr id="166"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173"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4"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175"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6"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177"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178"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79"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5A5B11-D024-496D-8D14-7FE03BC2B3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511960" y="1403280"/>
            <a:ext cx="3470040" cy="4710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The original lifecycle in M-alpha was from Sept’06 to Aug’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has been delayed by one month,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Risk:</a:t>
            </a:r>
            <a:r>
              <a:rPr b="0" lang="en-US" sz="800" spc="-1" strike="noStrike">
                <a:solidFill>
                  <a:srgbClr val="000000"/>
                </a:solidFill>
                <a:latin typeface="Arial"/>
                <a:ea typeface="新細明體"/>
              </a:rPr>
              <a:t> VF will probably commit to only 150K units till Jan 15</a:t>
            </a:r>
            <a:r>
              <a:rPr b="0" lang="en-US" sz="800" spc="-1" strike="noStrike" baseline="30000">
                <a:solidFill>
                  <a:srgbClr val="000000"/>
                </a:solidFill>
                <a:latin typeface="Arial"/>
                <a:ea typeface="新細明體"/>
              </a:rPr>
              <a:t>th</a:t>
            </a:r>
            <a:r>
              <a:rPr b="0" lang="en-US" sz="800" spc="-1" strike="noStrike">
                <a:solidFill>
                  <a:srgbClr val="000000"/>
                </a:solidFill>
                <a:latin typeface="Arial"/>
                <a:ea typeface="新細明體"/>
              </a:rPr>
              <a:t> 2007. Committed volume to be fixed by final contract early Apr’06.</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Launch Price: 90 Euro;      End-of-Life Price: 65 Euro.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Business Case price has already considered the lower price line (15 Euro less per unit, in order to compensate VF’s 4.5 Mio Euro NRE paymen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M-alpha BOM was based on EGR platform and unclear product profile, therefore it is lower than current BOM.</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r>
              <a:rPr b="0" lang="de-DE" sz="800" spc="-1" strike="noStrike">
                <a:solidFill>
                  <a:srgbClr val="000000"/>
                </a:solidFill>
                <a:latin typeface="Arial"/>
                <a:ea typeface="新細明體"/>
              </a:rPr>
              <a:t>Current BOM declared by PE is 48.68 Euro. Business Case BOM 49.3 Euro has included variant adder.</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 is a potential NES of 1.2 Euro for Housing.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cost is 1.66 Euro/unit with 4.5% return rat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otal 4’5 Mio Euro budget includes the 4‘5 Mio Eur NRE from VF, and 9 Mio Euro internal direct cost from PMC planning.  However, after a close investigation, there is some over-estimation on this 9 Mio Euro, and real efforts should be lower. Update of the budget will be finalized before M1.</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M-alpha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1" name=""/>
          <p:cNvSpPr/>
          <p:nvPr/>
        </p:nvSpPr>
        <p:spPr>
          <a:xfrm>
            <a:off x="5521320" y="826920"/>
            <a:ext cx="3460680" cy="53352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82" name=""/>
          <p:cNvGraphicFramePr/>
          <p:nvPr/>
        </p:nvGraphicFramePr>
        <p:xfrm>
          <a:off x="461880" y="668160"/>
          <a:ext cx="4786560" cy="3681720"/>
        </p:xfrm>
        <a:graphic>
          <a:graphicData uri="http://schemas.openxmlformats.org/presentationml/2006/ole">
            <p:oleObj progId="Excel.Sheet.12" r:id="rId1" spid="">
              <p:embed/>
              <p:pic>
                <p:nvPicPr>
                  <p:cNvPr id="183" name="" descr=""/>
                  <p:cNvPicPr/>
                  <p:nvPr/>
                </p:nvPicPr>
                <p:blipFill>
                  <a:blip r:embed="rId2"/>
                  <a:stretch/>
                </p:blipFill>
                <p:spPr>
                  <a:xfrm>
                    <a:off x="461880" y="668160"/>
                    <a:ext cx="4786560" cy="3681720"/>
                  </a:xfrm>
                  <a:prstGeom prst="rect">
                    <a:avLst/>
                  </a:prstGeom>
                  <a:ln w="0">
                    <a:noFill/>
                  </a:ln>
                </p:spPr>
              </p:pic>
            </p:oleObj>
          </a:graphicData>
        </a:graphic>
      </p:graphicFrame>
      <p:graphicFrame>
        <p:nvGraphicFramePr>
          <p:cNvPr id="184" name=""/>
          <p:cNvGraphicFramePr/>
          <p:nvPr/>
        </p:nvGraphicFramePr>
        <p:xfrm>
          <a:off x="399960" y="4740120"/>
          <a:ext cx="5524560" cy="1571760"/>
        </p:xfrm>
        <a:graphic>
          <a:graphicData uri="http://schemas.openxmlformats.org/presentationml/2006/ole">
            <p:oleObj progId="Excel.Sheet.12" r:id="rId3" spid="">
              <p:embed/>
              <p:pic>
                <p:nvPicPr>
                  <p:cNvPr id="185" name="" descr=""/>
                  <p:cNvPicPr/>
                  <p:nvPr/>
                </p:nvPicPr>
                <p:blipFill>
                  <a:blip r:embed="rId4"/>
                  <a:stretch/>
                </p:blipFill>
                <p:spPr>
                  <a:xfrm>
                    <a:off x="399960" y="4740120"/>
                    <a:ext cx="5524560" cy="1571760"/>
                  </a:xfrm>
                  <a:prstGeom prst="rect">
                    <a:avLst/>
                  </a:prstGeom>
                  <a:ln w="0">
                    <a:noFill/>
                  </a:ln>
                </p:spPr>
              </p:pic>
            </p:oleObj>
          </a:graphicData>
        </a:graphic>
      </p:graphicFrame>
      <p:sp>
        <p:nvSpPr>
          <p:cNvPr id="186" name=""/>
          <p:cNvSpPr/>
          <p:nvPr/>
        </p:nvSpPr>
        <p:spPr>
          <a:xfrm>
            <a:off x="1521000" y="413532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187" name=""/>
          <p:cNvSpPr/>
          <p:nvPr/>
        </p:nvSpPr>
        <p:spPr>
          <a:xfrm>
            <a:off x="5653080" y="6113520"/>
            <a:ext cx="220680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y 2007</a:t>
            </a:r>
            <a:endParaRPr b="0" lang="en-US" sz="1200" spc="-1" strike="noStrike">
              <a:solidFill>
                <a:srgbClr val="000000"/>
              </a:solidFill>
              <a:latin typeface="Times New Roman"/>
            </a:endParaRPr>
          </a:p>
        </p:txBody>
      </p:sp>
      <p:sp>
        <p:nvSpPr>
          <p:cNvPr id="188" name=""/>
          <p:cNvSpPr/>
          <p:nvPr/>
        </p:nvSpPr>
        <p:spPr>
          <a:xfrm>
            <a:off x="287280" y="27936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Jerry – M0 Business Case</a:t>
            </a:r>
            <a:br>
              <a:rPr sz="2400"/>
            </a:b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803D9993-0FFB-4C3F-B349-FCA02722B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Risks - </a:t>
            </a:r>
            <a:r>
              <a:rPr b="1" lang="en-GB" sz="1800" spc="-1" strike="noStrike">
                <a:solidFill>
                  <a:srgbClr val="3a0e66"/>
                </a:solidFill>
                <a:latin typeface="Arial"/>
              </a:rPr>
              <a:t>Impact vs M0 Business Case</a:t>
            </a:r>
            <a:endParaRPr b="1" lang="en-US" sz="1800" spc="-1" strike="noStrike">
              <a:solidFill>
                <a:srgbClr val="3a0e66"/>
              </a:solidFill>
              <a:latin typeface="Arial"/>
            </a:endParaRPr>
          </a:p>
        </p:txBody>
      </p:sp>
      <p:graphicFrame>
        <p:nvGraphicFramePr>
          <p:cNvPr id="190" name=""/>
          <p:cNvGraphicFramePr/>
          <p:nvPr/>
        </p:nvGraphicFramePr>
        <p:xfrm>
          <a:off x="762120" y="1509840"/>
          <a:ext cx="7734240" cy="3857400"/>
        </p:xfrm>
        <a:graphic>
          <a:graphicData uri="http://schemas.openxmlformats.org/presentationml/2006/ole">
            <p:oleObj progId="Excel.Sheet.12" r:id="rId1" spid="">
              <p:embed/>
              <p:pic>
                <p:nvPicPr>
                  <p:cNvPr id="191" name="" descr=""/>
                  <p:cNvPicPr/>
                  <p:nvPr/>
                </p:nvPicPr>
                <p:blipFill>
                  <a:blip r:embed="rId2"/>
                  <a:stretch/>
                </p:blipFill>
                <p:spPr>
                  <a:xfrm>
                    <a:off x="762120" y="1509840"/>
                    <a:ext cx="7734240" cy="3857400"/>
                  </a:xfrm>
                  <a:prstGeom prst="rect">
                    <a:avLst/>
                  </a:prstGeom>
                  <a:ln w="0">
                    <a:noFill/>
                  </a:ln>
                </p:spPr>
              </p:pic>
            </p:oleObj>
          </a:graphicData>
        </a:graphic>
      </p:graphicFrame>
      <p:sp>
        <p:nvSpPr>
          <p:cNvPr id="3" name="PlaceHolder 2"/>
          <p:cNvSpPr>
            <a:spLocks noGrp="1"/>
          </p:cNvSpPr>
          <p:nvPr>
            <p:ph type="sldNum" idx="4"/>
          </p:nvPr>
        </p:nvSpPr>
        <p:spPr/>
        <p:txBody>
          <a:bodyPr/>
          <a:p>
            <a:fld id="{0226CE91-1147-4549-BB5F-313A103066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93" name=""/>
          <p:cNvGraphicFramePr/>
          <p:nvPr/>
        </p:nvGraphicFramePr>
        <p:xfrm>
          <a:off x="250920" y="981000"/>
          <a:ext cx="8642160" cy="5595840"/>
        </p:xfrm>
        <a:graphic>
          <a:graphicData uri="http://schemas.openxmlformats.org/drawingml/2006/table">
            <a:tbl>
              <a:tblPr/>
              <a:tblGrid>
                <a:gridCol w="1225440"/>
                <a:gridCol w="4103640"/>
                <a:gridCol w="792360"/>
                <a:gridCol w="1008000"/>
                <a:gridCol w="1512720"/>
              </a:tblGrid>
              <a:tr h="57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Finalize remaining sw features clarification  with VF. </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KhengWah K., Thomas Bart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E9B55053-E90E-4E6B-945E-1DB310EBB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96" name=""/>
          <p:cNvSpPr/>
          <p:nvPr/>
        </p:nvSpPr>
        <p:spPr>
          <a:xfrm>
            <a:off x="474840" y="1406520"/>
            <a:ext cx="369504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96B7EF17-3C32-416C-A8F7-CC0AA2DC1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C8FE33E1-157D-4AC4-88BA-3F87B475A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202"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203"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204"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205"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206"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207"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208"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209"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210"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211"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212"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213"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214"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216"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232"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233"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234"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2219400" y="4971960"/>
            <a:ext cx="1368360" cy="868320"/>
            <a:chOff x="2219400" y="4971960"/>
            <a:chExt cx="1368360" cy="868320"/>
          </a:xfrm>
        </p:grpSpPr>
        <p:grpSp>
          <p:nvGrpSpPr>
            <p:cNvPr id="236" name=""/>
            <p:cNvGrpSpPr/>
            <p:nvPr/>
          </p:nvGrpSpPr>
          <p:grpSpPr>
            <a:xfrm>
              <a:off x="2219400" y="4971960"/>
              <a:ext cx="1368360" cy="868320"/>
              <a:chOff x="2219400" y="4971960"/>
              <a:chExt cx="1368360" cy="868320"/>
            </a:xfrm>
          </p:grpSpPr>
          <p:sp>
            <p:nvSpPr>
              <p:cNvPr id="237"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2242800" y="4987800"/>
                <a:ext cx="1344600" cy="794880"/>
                <a:chOff x="2242800" y="4987800"/>
                <a:chExt cx="1344600" cy="794880"/>
              </a:xfrm>
            </p:grpSpPr>
            <p:sp>
              <p:nvSpPr>
                <p:cNvPr id="239"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0"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7"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9"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6"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9"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2"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1"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2"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5"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7"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2760840" y="5060520"/>
              <a:ext cx="279360" cy="258840"/>
              <a:chOff x="2760840" y="5060520"/>
              <a:chExt cx="279360" cy="258840"/>
            </a:xfrm>
          </p:grpSpPr>
          <p:sp>
            <p:nvSpPr>
              <p:cNvPr id="315"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19" name=""/>
            <p:cNvGrpSpPr/>
            <p:nvPr/>
          </p:nvGrpSpPr>
          <p:grpSpPr>
            <a:xfrm>
              <a:off x="3276720" y="5516640"/>
              <a:ext cx="239760" cy="231840"/>
              <a:chOff x="3276720" y="5516640"/>
              <a:chExt cx="239760" cy="231840"/>
            </a:xfrm>
          </p:grpSpPr>
          <p:sp>
            <p:nvSpPr>
              <p:cNvPr id="320"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3006720" y="5060520"/>
              <a:ext cx="171360" cy="165240"/>
              <a:chOff x="3006720" y="5060520"/>
              <a:chExt cx="171360" cy="165240"/>
            </a:xfrm>
          </p:grpSpPr>
          <p:sp>
            <p:nvSpPr>
              <p:cNvPr id="325"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8"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329"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332"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333"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0AE2CF15-BF19-4975-821C-41ABC1462F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3-16T06:17:44Z</dcterms:modified>
  <cp:revision>114</cp:revision>
  <dc:subject/>
  <dc:title>PowerPoint 簡報</dc:title>
</cp:coreProperties>
</file>