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5E2-8EA7-446C-9ED2-A188155F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115-EBBE-452F-992B-3284920A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52B-7399-4256-ACCE-8F0CD7DD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AFF-8F4A-4E5A-ADBE-155BBA1C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D67-DE23-496B-A4AB-40EA4FB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D07-3202-4EB0-B154-D639189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A93-0261-4229-8371-80D60985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FA5-0222-4C50-99BA-0A9E4381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73E-5EFE-4C18-9C59-DA935678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7E2-85F1-4735-BD9E-CE8844C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70C-CFE2-45B7-9547-70FA465B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69F-4E05-4757-B39C-B5CF7B9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7505-AD2C-47F0-8006-4E621C74F9D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B1AF55BE-D2A0-4A18-B780-B9CE3E26F729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8461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Minion"/>
              </a:rPr>
              <a:t>EF81 – Production Plan / Operator Approval / EXIT-Stability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OPC-Europe Repor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14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duction Plan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start to be achieved in cw07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26920"/>
            <a:ext cx="8015400" cy="539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637000"/>
            <a:ext cx="36036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Component Delivery Plan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volumes after DS not secur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884160"/>
            <a:ext cx="8456400" cy="484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757840"/>
            <a:ext cx="8277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145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iving example above – already end of Feb we run in component shortage for upcoming production in March/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Tremendous number of parallel approval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8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1st 18 variants have to be approved till cw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Tremendous number of parallel approvals plann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2nd 18 variants have to be approved till cw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IT Stability EF81 significantly better compared to S75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Number of open defects still too high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 ~950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ults from SMS on EXIT Team / SW-Project Team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888240" cy="46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5913360"/>
            <a:ext cx="827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8277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F81 – Main Problem Area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Beside expected Operator defects – main issues are still weaknesses from SXG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988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– Ranking: AS/S3/DS-relevant (~375 defec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prioritized defects are essent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-mail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MS/ SM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rows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RM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cessory support (various car kits, Audio Quality)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 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PM, file transf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Streaming (functionality available, seems to be setting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Clam shell topic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mory leak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4 basically nice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xt Steps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Operational Excellence is required to secure launch in March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981000"/>
            <a:ext cx="8277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clare S3-HW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production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VF-approval phase A in cw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op immediately finger pointing in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utting “own” function on save side doesn’t help the company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place project manager if they cannot perform the last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of Wednesday Feb 15th a TTM-Team will be established under lead of  TPM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which will secure AI-tracking on daily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We can launch EF81 in March if we all focu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2-14T17:44:31Z</dcterms:modified>
  <cp:revision>155</cp:revision>
  <dc:subject/>
  <dc:title>PHE</dc:title>
</cp:coreProperties>
</file>