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289D-E618-43FE-A66E-1BF3F0C3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762E-59BB-4BD6-AD04-AC990057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A493-ED79-4837-B364-B2D6F8DB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720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0680" y="99036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40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720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0680" y="3769920"/>
            <a:ext cx="28598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AAF8-3FF4-4B1F-9A30-E3740684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C33A-092E-41BE-9DEE-66FC438C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131-7F4F-4ABE-B780-6FBAB1E2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2CF-1444-4FA2-964F-A50A5D6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71B5-5BA8-4039-BE0C-8ED3A82B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4080" y="151920"/>
            <a:ext cx="88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4BD-B594-460A-A8D2-FCE86459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25D0-8CDB-44C9-AE1D-1F5F52D8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200" y="376992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8CE-E115-474F-8C22-04BBF66A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408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200" y="990360"/>
            <a:ext cx="43340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4080" y="3769920"/>
            <a:ext cx="8881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7ECB-0FD2-4203-9007-5AA4248D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151920"/>
            <a:ext cx="88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4080" y="990360"/>
            <a:ext cx="8881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00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3940-485F-431B-BD07-8A9210D037D2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@2006, BenQ Mobile – Product House Europe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fld id="{111A9F4E-E108-46D1-8CB2-A92CF29C0588}" type="slidenum"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61800"/>
                <a:tab algn="l" pos="723960"/>
                <a:tab algn="l" pos="1085760"/>
                <a:tab algn="l" pos="1447920"/>
                <a:tab algn="l" pos="1809720"/>
                <a:tab algn="l" pos="2171880"/>
                <a:tab algn="l" pos="2533680"/>
                <a:tab algn="l" pos="2895480"/>
                <a:tab algn="l" pos="3257640"/>
                <a:tab algn="l" pos="3619440"/>
                <a:tab algn="l" pos="3981600"/>
                <a:tab algn="l" pos="4343400"/>
                <a:tab algn="l" pos="4705200"/>
                <a:tab algn="l" pos="5067360"/>
                <a:tab algn="l" pos="5429160"/>
                <a:tab algn="l" pos="5791320"/>
                <a:tab algn="l" pos="6153120"/>
                <a:tab algn="l" pos="6515280"/>
                <a:tab algn="l" pos="6877080"/>
                <a:tab algn="l" pos="7238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560" y="2158560"/>
            <a:ext cx="846108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Product House Europe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Minion"/>
              </a:rPr>
              <a:t>EF81 – Production Plan / Operator Approval / EXIT-Stability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Minion"/>
              </a:rPr>
              <a:t>OPC-Europe Report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358920" y="5037120"/>
            <a:ext cx="359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Mario To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Minion"/>
                <a:ea typeface="文鼎中黑"/>
              </a:rPr>
              <a:t>14. February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Production Plan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start to be achieved in cw07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9640" y="826920"/>
            <a:ext cx="8015400" cy="5399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637000"/>
            <a:ext cx="360360" cy="360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Component Delivery Plan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Production volumes after DS not secur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884160"/>
            <a:ext cx="8456400" cy="484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9640" y="5757840"/>
            <a:ext cx="82774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lvl="1" marL="145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Giving example above – already end of Feb we run in component shortage for upcoming production in March/Ap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Tremendous number of parallel approval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871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1st 18 variants have to be approved till cw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 hidden="1"/>
          <p:cNvSpPr/>
          <p:nvPr/>
        </p:nvSpPr>
        <p:spPr>
          <a:xfrm>
            <a:off x="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Operator Approval Plan EF81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Tremendous number of parallel approvals planned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898560"/>
            <a:ext cx="845676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9640" y="4857840"/>
            <a:ext cx="82774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2nd 18 variants have to be approved till cw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To achieve this approval plan an excellent collaboration between ST/SW/PM has to be implem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178920"/>
            <a:ext cx="82771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EXIT Stability EF81 significantly better compared to S75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Number of open defects still too high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Minion"/>
              </a:rPr>
              <a:t> ~950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Results from SMS on EXIT Team / SW-Project Team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6888240" cy="4680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9640" y="5913360"/>
            <a:ext cx="82774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5661000"/>
            <a:ext cx="8277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Current nCCPi is 198.000 – thereof 120 defects /w RPN&gt;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F81 – Main Problem Areas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  <a:ea typeface="文鼎中黑"/>
              </a:rPr>
              <a:t>Beside expected Operator defects – main issues are still weaknesses from SXG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988920"/>
            <a:ext cx="878544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– Ranking: AS/S3/DS-relevant (~375 defect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1-R3 prioritized defects are essenti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e-mail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MS/ SMS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rows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RM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ccessory support (various car kits, Audio Quality)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 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PM, file transfer (same as in </a:t>
            </a:r>
            <a:r>
              <a:rPr b="1" lang="en-US" sz="2000" spc="-1" strike="noStrike">
                <a:solidFill>
                  <a:srgbClr val="ff0000"/>
                </a:solidFill>
                <a:latin typeface="Minion"/>
                <a:ea typeface="文鼎中黑"/>
              </a:rPr>
              <a:t>Wolf5</a:t>
            </a:r>
            <a:r>
              <a:rPr b="1" lang="en-US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Streaming (functionality available, seems to be setting proble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Clam shell topic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35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Minion"/>
                <a:ea typeface="文鼎中黑"/>
              </a:rPr>
              <a:t>Memory leaks (Kestrel specif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77480">
              <a:lnSpc>
                <a:spcPct val="10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R4 basically nice to 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 hidden="1"/>
          <p:cNvSpPr/>
          <p:nvPr/>
        </p:nvSpPr>
        <p:spPr>
          <a:xfrm>
            <a:off x="69840" y="-1440"/>
            <a:ext cx="7920" cy="161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8920" y="179280"/>
            <a:ext cx="82771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Next Steps 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Minion"/>
              </a:rPr>
              <a:t>Operational Excellence is required to secure launch in March</a:t>
            </a:r>
            <a:endParaRPr b="1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981000"/>
            <a:ext cx="8277480" cy="51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Declare S3-HW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production in cw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art VF-approval phase A in cw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Stop immediately finger pointing in al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Putting “own” function on save side doesn’t help the company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Replace project manager if they cannot perform the last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As of Wednesday Feb 15th a TTM-Team will be established under lead of  TPM</a:t>
            </a:r>
            <a:br>
              <a:rPr sz="1800"/>
            </a:br>
            <a:r>
              <a:rPr b="1" lang="en-US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   which will secure AI-tracking on daily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Minion"/>
                <a:ea typeface="文鼎中黑"/>
              </a:rPr>
              <a:t>We can launch EF81 in March if we all focu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Kai Fischer</dc:creator>
  <dc:description/>
  <dc:language>en-US</dc:language>
  <cp:lastModifiedBy>Mario Topel</cp:lastModifiedBy>
  <dcterms:modified xsi:type="dcterms:W3CDTF">2006-02-14T17:44:31Z</dcterms:modified>
  <cp:revision>155</cp:revision>
  <dc:subject/>
  <dc:title>PHE</dc:title>
</cp:coreProperties>
</file>