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dt" idx="3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4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5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0636-176A-4978-A6E3-D4ED568260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920" y="453240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7" idx="0"/>
            <a:endCxn id="197" idx="1"/>
          </p:cNvCxnSpPr>
          <p:nvPr/>
        </p:nvCxnSpPr>
        <p:spPr>
          <a:xfrm>
            <a:off x="673200" y="453204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199" name=""/>
          <p:cNvCxnSpPr>
            <a:stCxn id="197" idx="2"/>
            <a:endCxn id="197" idx="3"/>
          </p:cNvCxnSpPr>
          <p:nvPr/>
        </p:nvCxnSpPr>
        <p:spPr>
          <a:xfrm>
            <a:off x="673200" y="473832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D895-8C3D-4228-8803-F8F64510975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42840" y="76356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23400" y="466884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0020-9121-4613-AFED-58D81ECD5D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42840" y="76356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23400" y="466884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8D58-549D-4CF7-8E78-88A3DDA659D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2840" y="76356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23400" y="4668840"/>
            <a:ext cx="493884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58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374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5384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58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374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920" y="232920"/>
            <a:ext cx="61862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458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374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5384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458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374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2831-52A9-4688-92A7-298F9D13BE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FC8E1-9AE2-4DCC-910F-5C66599308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5552-6CE7-4A10-AF24-B847C4EA17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CAD4-63C1-4E85-BE53-58ACA81DBC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2FFD-6250-4AE6-8E0A-461E143B1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50920" y="232920"/>
            <a:ext cx="61862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4688-6DAD-4C46-BBC3-5E51542A20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9DDF-9637-466F-BAB9-DBB94495CF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04E9-ED42-49FE-8C97-5CD5BD4B1E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42A7-ABEE-4DA7-B510-70D1A06DD9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B052-66C0-47F6-9ED2-8D17ACCD08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8D67-3DEF-48C5-A27A-0237495B46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7458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374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65384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7458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374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4595-E3C8-4C77-BCBA-CCD419FE01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250920" y="232920"/>
            <a:ext cx="61862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7458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837400" y="19159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65384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7458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837400" y="3910320"/>
            <a:ext cx="199188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0920" y="232920"/>
            <a:ext cx="61862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4000" y="39103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5384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000" y="1915920"/>
            <a:ext cx="301896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53840" y="3910320"/>
            <a:ext cx="6186600" cy="1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115920"/>
            <a:ext cx="8866080" cy="9046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53840" y="1915920"/>
            <a:ext cx="61866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1778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1774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1778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1778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1778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17784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48720" y="80640"/>
            <a:ext cx="324000" cy="32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6200000">
            <a:off x="8648640" y="5634000"/>
            <a:ext cx="324000" cy="324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81800" y="6237360"/>
            <a:ext cx="1727280" cy="576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565800" y="6640560"/>
            <a:ext cx="189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Siemens 2004 -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99720" y="659772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2CBA-6F0D-4043-B609-C45503F3F5C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743200"/>
            <a:ext cx="9144000" cy="16002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099040" y="5334120"/>
            <a:ext cx="3218040" cy="1114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2610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53840" y="2787480"/>
            <a:ext cx="6653160" cy="10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8496000" y="4495680"/>
            <a:ext cx="324000" cy="32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820000" y="0"/>
            <a:ext cx="32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8515080" y="304560"/>
            <a:ext cx="323640" cy="32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1"/>
          </p:nvPr>
        </p:nvSpPr>
        <p:spPr>
          <a:xfrm>
            <a:off x="1727280" y="6568200"/>
            <a:ext cx="576720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m MD PBM PM  -  A. Merte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2"/>
          </p:nvPr>
        </p:nvSpPr>
        <p:spPr>
          <a:xfrm>
            <a:off x="45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5EDCFA7D-3AC9-43AB-BE0D-4FF5D77E80E3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3079800"/>
            <a:ext cx="8318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ultitasking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-with mapping onto Style / Design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57200" y="4859280"/>
            <a:ext cx="1993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a3912"/>
                </a:solidFill>
                <a:latin typeface="Arial"/>
              </a:rPr>
              <a:t>D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a3912"/>
                </a:solidFill>
                <a:latin typeface="Arial"/>
              </a:rPr>
              <a:t>CONFID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ca39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a391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a3912"/>
                </a:solidFill>
                <a:latin typeface="Arial"/>
              </a:rPr>
              <a:t>do not 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buClr>
                <a:srgbClr val="ca39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a391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a3912"/>
                </a:solidFill>
                <a:latin typeface="Arial"/>
              </a:rPr>
              <a:t>do not dis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7040" y="4162320"/>
            <a:ext cx="305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Mertens,  Com MP PBM IPM 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ree Levels relevant for different ph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9360" y="1181160"/>
            <a:ext cx="838188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Music &amp; Download Backgrounding"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  for all phones that have a Music player and/ or FM radio integr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ic (any kind of, i.e MP3, FM radio; DVB-H audio broadcast)  runs in the background to any other screen-consuming application (eg Browser, SMS Editor) and can be controlled via Music / Volume key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loads (eg of Music) also run in the background (status indication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Toggling between applications"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specified in detail in next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 for Multimedia-capable,  especially 3G -phon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than one (probably 3-5) applications are "open" simultaneously, but only one of them is visible on the screen and controlled by the us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s for "open" applications: if user goes from one application to another and after that back, switching (toggling) between applications must not take more than 1 second and application must be in the exact state as it was before. Indication (task bar) of open applications must be visibl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"Windows-like multitasking"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than one application on screen and simultanouesly - this is  not realistic on smartphones (one-hand operation),   but will become relevant for PDA-like phones (touchscreen, pen-operated). It makes little sense to construct a proprietary GUI for this, it must be part of a Open 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759600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ltitasking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Toggling“ to be implemented between specific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06520" y="1027080"/>
            <a:ext cx="7494480" cy="56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232920"/>
            <a:ext cx="618624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ltitaski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vel required for different „Style&amp;Design“ ph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9360" y="1181160"/>
            <a:ext cx="838188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o Multitas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arnet (tbc from Convenience perspect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bsid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Music &amp; Download Backgrounding"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pislazuli (tb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oonstone (FM radio backgrounding 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merald (option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"Toggling between applications"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y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ethy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merald (option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quamar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"Windows-like multitasking"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chdm410</cp:lastModifiedBy>
  <cp:lastPrinted>2004-09-01T19:14:42Z</cp:lastPrinted>
  <dcterms:modified xsi:type="dcterms:W3CDTF">2005-09-08T16:50:53Z</dcterms:modified>
  <cp:revision>996</cp:revision>
  <dc:subject/>
  <dc:title>PowerPoint Presentation</dc:title>
</cp:coreProperties>
</file>