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3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4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5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4B7B-257E-45B8-8000-6B7D062B655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920" y="453240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7" idx="0"/>
            <a:endCxn id="197" idx="1"/>
          </p:cNvCxnSpPr>
          <p:nvPr/>
        </p:nvCxnSpPr>
        <p:spPr>
          <a:xfrm>
            <a:off x="673200" y="453204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199" name=""/>
          <p:cNvCxnSpPr>
            <a:stCxn id="197" idx="2"/>
            <a:endCxn id="197" idx="3"/>
          </p:cNvCxnSpPr>
          <p:nvPr/>
        </p:nvCxnSpPr>
        <p:spPr>
          <a:xfrm>
            <a:off x="673200" y="473832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B919-1A77-4114-AEAE-AFE548E806D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42840" y="76356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23400" y="466884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414C-A7DC-4137-830D-EF47A248034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42840" y="76356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23400" y="466884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6C35-B8E7-4A52-AA43-E6F2AD33D9A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42840" y="76356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23400" y="466884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3840" y="39103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400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4580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3740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5384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4580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3740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920" y="232920"/>
            <a:ext cx="618624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2400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53840" y="39103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2400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4580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3740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5384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4580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3740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B440-CA2F-4F4B-818F-BF6CE7A06F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7A42-E2C2-40C5-BF10-817FFAEC94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843C-D773-4242-819C-FB9B93C82B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5270-6A1D-4B91-AB56-5D6F5D7F44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B492-6FBC-462A-A7F0-D85D369FC7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50920" y="232920"/>
            <a:ext cx="618624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4A486-6A2E-442B-8F41-EF402C4D52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6F57-13EC-42D6-88C3-336BE9A957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2400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B76F9-DE25-4E19-BB9E-B9F89DBF37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4D0D-BADB-482F-88CD-D260E71462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653840" y="39103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8AA5-B6D7-42FA-8C22-EA63824D41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2400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087A-075B-4ED7-8EB7-6E23E3DE96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74580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3740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65384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74580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3740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CE6C-59EC-40C6-A8FD-D8B325F379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250920" y="232920"/>
            <a:ext cx="618624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82400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653840" y="39103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82400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74580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83740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65384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74580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83740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0920" y="232920"/>
            <a:ext cx="618624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400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115920"/>
            <a:ext cx="8866080" cy="9046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778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1774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4520" indent="-1778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1778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1778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1778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48720" y="80640"/>
            <a:ext cx="324000" cy="323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8648640" y="5634000"/>
            <a:ext cx="324000" cy="324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81800" y="6237360"/>
            <a:ext cx="1727280" cy="5763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565800" y="6640560"/>
            <a:ext cx="189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Siemens 2004 -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99720" y="659772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0B0B-4220-4507-9794-8EE556EB755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743200"/>
            <a:ext cx="9144000" cy="16002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99040" y="5334120"/>
            <a:ext cx="3218040" cy="1114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2610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53840" y="2787480"/>
            <a:ext cx="6653160" cy="10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8496000" y="4495680"/>
            <a:ext cx="324000" cy="323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8515080" y="304560"/>
            <a:ext cx="323640" cy="323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1"/>
          </p:nvPr>
        </p:nvSpPr>
        <p:spPr>
          <a:xfrm>
            <a:off x="1727280" y="6568200"/>
            <a:ext cx="576720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m MD PBM PM  -  A. Merte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2"/>
          </p:nvPr>
        </p:nvSpPr>
        <p:spPr>
          <a:xfrm>
            <a:off x="45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15F848CB-E198-4C75-B88E-836984E75545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3079800"/>
            <a:ext cx="83181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ultitasking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with mapping onto Style / Design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57200" y="4859280"/>
            <a:ext cx="1993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a3912"/>
                </a:solidFill>
                <a:latin typeface="Arial"/>
              </a:rPr>
              <a:t>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a3912"/>
                </a:solidFill>
                <a:latin typeface="Arial"/>
              </a:rPr>
              <a:t>CONFID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ca39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a391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a3912"/>
                </a:solidFill>
                <a:latin typeface="Arial"/>
              </a:rPr>
              <a:t>do not 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ca39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a391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a3912"/>
                </a:solidFill>
                <a:latin typeface="Arial"/>
              </a:rPr>
              <a:t>do not dis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7040" y="4162320"/>
            <a:ext cx="305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Mertens,  Com MP PBM IPM 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ree Levels relevant for different ph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9360" y="1181160"/>
            <a:ext cx="8381880" cy="51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"Music &amp; Download Backgrounding"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ment  for all phones that have a Music player and/ or FM radio integr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ic (any kind of, i.e MP3, FM radio; DVB-H audio broadcast)  runs in the background to any other screen-consuming application (eg Browser, SMS Editor) and can be controlled via Music / Volume key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s (eg of Music) also run in the background (status indication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"Toggling between applications"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specified in detail in next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d  for Multimedia-capable,  especially 3G -phon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than one (probably 3-5) applications are "open" simultaneously, but only one of them is visible on the screen and controlled by the us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ments for "open" applications: if user goes from one application to another and after that back, switching (toggling) between applications must not take more than 1 second and application must be in the exact state as it was before. Indication (task bar) of open applications must be visib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"Windows-like multitasking"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than one application on screen and simultanouesly - this is  not realistic on smartphones (one-hand operation),   but will become relevant for PDA-like phones (touchscreen, pen-operated). It makes little sense to construct a proprietary GUI for this, it must be part of a Open 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759600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ltitasking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Toggling“ to be implemented between specific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06520" y="1027080"/>
            <a:ext cx="7494480" cy="56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vel required for different „Style&amp;Design“ ph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9360" y="1181160"/>
            <a:ext cx="838188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o Multitas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arnet (tbc from Convenience perspect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sid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"Music &amp; Download Backgrounding"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pislazuli (tb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onstone (FM radio backgrounding 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merald (option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"Toggling between applications"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y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ethy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merald (option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quamar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"Windows-like multitasking"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chdm410</cp:lastModifiedBy>
  <cp:lastPrinted>2004-09-01T19:14:42Z</cp:lastPrinted>
  <dcterms:modified xsi:type="dcterms:W3CDTF">2005-09-08T16:50:53Z</dcterms:modified>
  <cp:revision>996</cp:revision>
  <dc:subject/>
  <dc:title>PowerPoint Presentation</dc:title>
</cp:coreProperties>
</file>