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8EF1-F860-42D8-8730-97E439AB069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A298-9259-4855-9CB2-FA7ED849103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368280" y="4535280"/>
            <a:ext cx="598824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59DF-484E-410E-AFC6-280C7437FF6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68280" y="4535280"/>
            <a:ext cx="598824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85 S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22. Apr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1442880"/>
            <a:ext cx="1184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atform Tim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09880" y="1117440"/>
            <a:ext cx="6657840" cy="12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8720" y="202680"/>
            <a:ext cx="655308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latform – reporting – 85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1324440" y="1580400"/>
            <a:ext cx="652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1585800" y="142056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1585800" y="16333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585800" y="18460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1580400" y="1630080"/>
            <a:ext cx="12888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998880"/>
            <a:ext cx="1996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022480" y="2389320"/>
            <a:ext cx="6638400" cy="3698640"/>
            <a:chOff x="2022480" y="2389320"/>
            <a:chExt cx="6638400" cy="3698640"/>
          </a:xfrm>
        </p:grpSpPr>
        <p:sp>
          <p:nvSpPr>
            <p:cNvPr id="105" name=""/>
            <p:cNvSpPr/>
            <p:nvPr/>
          </p:nvSpPr>
          <p:spPr>
            <a:xfrm>
              <a:off x="2022480" y="2389320"/>
              <a:ext cx="6638400" cy="369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71800" y="2389320"/>
              <a:ext cx="6569280" cy="36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ilestones, timeline, primavera plann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arget M0 31.03.2005 is not feasible from SW platform point of vie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-&gt; </a:t>
              </a: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M0 platform date will be communicated at 2005-04-22 (M0 target A06/200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follow up milestones are not verified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y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evelopment aspe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+ Top level feature list of X85 SG2 PF SW Release 2 froze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+ CCB process established. Regular CCB meetings will start in M05/200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o CCB buffer of 7MY decided (PD &amp; PBM management). Split into departments and SW components ongoin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o Final alignment of ‘Requirements to SW’ list ongoing. DL feedback scheduled for E04/2005 and CA feedback until E05/200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o Decision: Plover should base on SG2 PF. Impact to platform development ope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ajor threa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W is heavily booked by Rel1 activities (PLC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stimation of component milestone not before cw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 SW top level requirement assignment to component projects is ongoing.</a:t>
              </a: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 First version is scheduled for 2005-05-13. Finalization is planned until 2005-06-10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TO TS have to assure detailed F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108160" y="1235160"/>
            <a:ext cx="605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0 (Rel2) target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06/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S (Rel2) target  02/2006 (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o be verifi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s SG2 85 platform &amp; produ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47640" y="1279440"/>
          <a:ext cx="2036880" cy="15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279440"/>
                    <a:ext cx="203688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latform – reporting – 85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2880" y="2192400"/>
            <a:ext cx="16606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ftwar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252520" y="1379520"/>
            <a:ext cx="6367320" cy="2283480"/>
            <a:chOff x="2252520" y="1379520"/>
            <a:chExt cx="6367320" cy="2283480"/>
          </a:xfrm>
        </p:grpSpPr>
        <p:sp>
          <p:nvSpPr>
            <p:cNvPr id="111" name=""/>
            <p:cNvSpPr/>
            <p:nvPr/>
          </p:nvSpPr>
          <p:spPr>
            <a:xfrm>
              <a:off x="2252520" y="1379520"/>
              <a:ext cx="6367320" cy="228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99680" y="1379520"/>
              <a:ext cx="630108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225520" y="4057560"/>
            <a:ext cx="6394320" cy="1977120"/>
            <a:chOff x="2225520" y="4057560"/>
            <a:chExt cx="6394320" cy="1977120"/>
          </a:xfrm>
        </p:grpSpPr>
        <p:sp>
          <p:nvSpPr>
            <p:cNvPr id="114" name=""/>
            <p:cNvSpPr/>
            <p:nvPr/>
          </p:nvSpPr>
          <p:spPr>
            <a:xfrm>
              <a:off x="2225520" y="4057560"/>
              <a:ext cx="6394320" cy="197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73040" y="4057560"/>
              <a:ext cx="6327720" cy="197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4160" y="4770360"/>
            <a:ext cx="1431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27280" y="211140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85960" y="21574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85960" y="2585880"/>
            <a:ext cx="144360" cy="14472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85960" y="2381400"/>
            <a:ext cx="14436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474516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11160" y="4816440"/>
            <a:ext cx="144720" cy="144360"/>
          </a:xfrm>
          <a:prstGeom prst="ellipse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11160" y="501660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11160" y="5205240"/>
            <a:ext cx="14472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22360" y="1469880"/>
            <a:ext cx="621036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- No fixed M0 date yet; no rough project pan until DS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Detailing SW requirements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Announcement of M0 date is scheduled for 22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+ SW for Polaris A1 run was provided in time and boards were produced as plan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 In a meeting of Klebsch and Lepold a CR Buffer of 7 PY (3,5 PY in FY04/05) was discussed, but not yet officially agreed by PD (budget clarification is still ongo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o First CCB Meeting was held and it was decided to immediately start the evaluation of some high prio CRs (the regular CCB work on all other CRs will start mid/end 05/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11560" y="4113360"/>
            <a:ext cx="59688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M0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till no Feature list will provide by PL-SW, ST can not set the neseccary    Resources. Rough planning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S0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The Approval strategy according to the necessary Certification could not be seattled cause of missing timeline from S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M1: Neither budget planning could be succeeded nor Resourcen planning and Testplan setup could be executed by 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040" y="1906560"/>
            <a:ext cx="1749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rdwar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057400" y="1147680"/>
            <a:ext cx="6238440" cy="3703680"/>
            <a:chOff x="2057400" y="1147680"/>
            <a:chExt cx="6238440" cy="3703680"/>
          </a:xfrm>
        </p:grpSpPr>
        <p:sp>
          <p:nvSpPr>
            <p:cNvPr id="131" name=""/>
            <p:cNvSpPr/>
            <p:nvPr/>
          </p:nvSpPr>
          <p:spPr>
            <a:xfrm>
              <a:off x="2057400" y="1147680"/>
              <a:ext cx="6238440" cy="370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03840" y="1147680"/>
              <a:ext cx="6173640" cy="37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612800" y="184464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1480" y="1916280"/>
            <a:ext cx="144720" cy="144360"/>
          </a:xfrm>
          <a:prstGeom prst="ellipse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1480" y="2116080"/>
            <a:ext cx="14472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71480" y="2305080"/>
            <a:ext cx="1447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2560" y="1461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latform – reporting – 85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66800" y="230508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1249200"/>
            <a:ext cx="596916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W feature list for X75 and X85 SG2 platform available.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Update scheduled for Mcw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Prototype planning list for X75 and X85 products avail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First master schematic release for X85 SG2 platform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Malpha.4_1 tape out done. First boards are available. Because of restrictions in prototype shop main run delayed to cw16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Assembling ongoing. Board delivery planned until Ecw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Primavera planning started for X85 SG2 HW platform.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ert planning team set up. Subprojects defined and establishment requested from PV sup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X85 SG2 HW concept discussions in some parts are ongoing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+ Status LED concept defined. Detailed measurements are ongoing.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+ Illumination concept defined. Alignment with product projects ongoing.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o Flash LED interconnection @ SG2: X75 SG2 concept available. Second option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under evaluation.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o 2Mpix camera @ SG2: Feature not confirmed until now. Related CR available.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valuations are on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960" y="202680"/>
            <a:ext cx="655308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– Polaris -&gt; Status Upd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2000" y="3370320"/>
            <a:ext cx="11840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43120" y="1290600"/>
            <a:ext cx="6964200" cy="528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lestones, timeline, Prima 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0 -&gt;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Q-Gate not passed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atus reached (except SW relevant WP)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D; HW; LCM (NPI 2&amp;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atus op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ST;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S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 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0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atus reached (except SW relevant WP)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atus ope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W; LCM (NPI 2&amp;3); ST;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S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 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Prima-Vera Pl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completed due to missing links to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HW relevant WP in time with “Target S15”: 29.06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IMD window will be empl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1: PCBA Build: 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done on 15-Apr-05, first pass rate 95%, ‘normal mode’ possi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A Build: 06.06.05 ;WB TO: 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done on 18-Apr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00"/>
                </a:solidFill>
                <a:uFillTx/>
                <a:latin typeface="Arial"/>
              </a:rPr>
              <a:t>TimeLine: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M0: 3.5 month de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S2: 1 month delayed (based on SW Platform DL C25 planning 09/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Time between M1 and AS app. 3month only (based on M1 08/05 PL-T assum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X85 portfolio review - invest on hold – decision on 25-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BC: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rget cost gap of app. 7,-EUR due to reduced ASP and additional PD Budget (1/6 of X75 platform cost to be covered by Polar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3139920"/>
            <a:ext cx="287640" cy="6480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76480" y="32115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76480" y="3411360"/>
            <a:ext cx="144360" cy="14472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6480" y="3600360"/>
            <a:ext cx="14436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960" y="202680"/>
            <a:ext cx="655308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– Polaris -&gt; Decis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640" y="1468440"/>
            <a:ext cx="8005680" cy="33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cisions Du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claration of M0 Mile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lease of Invest/ Budget till M0 (has been passed on to PBM Head as wel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&gt;PD Budget till M0 (6/05) 1.7Mio EUR (including SCM Budget 135k EU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&gt;Tooling due till M0 (6/05) 1.478Mio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posal of Polaris Project Tea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 declare M0 Polar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due to missing input from platform, esp. missing time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tinue WP as planne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with preliminary Time Schedule and release Budget/ Invest in order to minimize DS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3040" y="15192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- Swif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6080" y="3514680"/>
            <a:ext cx="7365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22480" y="331956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1160" y="33908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81160" y="359100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81160" y="3780000"/>
            <a:ext cx="144360" cy="14436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800360" y="1359000"/>
            <a:ext cx="7021080" cy="4656600"/>
            <a:chOff x="1800360" y="1359000"/>
            <a:chExt cx="7021080" cy="4656600"/>
          </a:xfrm>
        </p:grpSpPr>
        <p:sp>
          <p:nvSpPr>
            <p:cNvPr id="158" name=""/>
            <p:cNvSpPr/>
            <p:nvPr/>
          </p:nvSpPr>
          <p:spPr>
            <a:xfrm>
              <a:off x="1800360" y="1359000"/>
              <a:ext cx="7021080" cy="465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52560" y="1359000"/>
              <a:ext cx="6948000" cy="46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28800" y="1432080"/>
            <a:ext cx="6964200" cy="44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rough PV planning done, alignment of detailed plans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eckbrie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is upd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W M0 delayed to M Jun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=&gt; the current Swift DS date is extremely unrealistic from project point of view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=&gt; T-PSR feedback: continue with the current DS target; a SW delay is not known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maining Swift S0-HW issues solved, S0-HW status will be reached by 22.04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wift A1 PCB tapeout on 04.05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wift might need a non platform display because of a different flex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has reached M0 status for all HW related topic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wift BOM target cannot be met (about 7€ delta); CRW showed only very minor saving potent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wift supplier selection was done and agreed between purchasing and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latform SW timeline missing therefore an overall project planning is not possible 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=&gt; Swift and Ibis will not declare M1 or M1-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needed investment until end of May was approved but must not be spent before cw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Q-GATE concl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eam proposes to continue until expected M0 in M June 05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ring SW issue to management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3040" y="15192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- Ib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0200" y="3486240"/>
            <a:ext cx="5493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22480" y="331956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81160" y="33908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81160" y="359100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81160" y="3780000"/>
            <a:ext cx="144360" cy="14436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800360" y="1359000"/>
            <a:ext cx="7021080" cy="4656600"/>
            <a:chOff x="1800360" y="1359000"/>
            <a:chExt cx="7021080" cy="4656600"/>
          </a:xfrm>
        </p:grpSpPr>
        <p:sp>
          <p:nvSpPr>
            <p:cNvPr id="169" name=""/>
            <p:cNvSpPr/>
            <p:nvPr/>
          </p:nvSpPr>
          <p:spPr>
            <a:xfrm>
              <a:off x="1800360" y="1359000"/>
              <a:ext cx="7021080" cy="465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52560" y="1359000"/>
              <a:ext cx="6948000" cy="46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1432080"/>
            <a:ext cx="6964200" cy="44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bis rough PV planning don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Steckbrief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“ is upd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W M0 delayed to M Jun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=&gt; the current Swift DS date is extremely unrealistic from project point of view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=&gt; T-PSR feedback: continue with the current DS target; a SW delay is not known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bis M0-HW status is beginning of May – except for SW related issues no M0 stopper identified so f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bis BOM target cannot be met (about 7€ del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latform SW timeline missing therefore an overall project planning is not possible 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3040" y="15192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- Brambl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2920" y="3495600"/>
            <a:ext cx="1192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ramb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24160" y="333864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90760" y="3409920"/>
            <a:ext cx="144360" cy="144360"/>
          </a:xfrm>
          <a:prstGeom prst="ellipse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90760" y="361008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90760" y="3798720"/>
            <a:ext cx="14436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800360" y="1359000"/>
            <a:ext cx="7021080" cy="4656600"/>
            <a:chOff x="1800360" y="1359000"/>
            <a:chExt cx="7021080" cy="4656600"/>
          </a:xfrm>
        </p:grpSpPr>
        <p:sp>
          <p:nvSpPr>
            <p:cNvPr id="180" name=""/>
            <p:cNvSpPr/>
            <p:nvPr/>
          </p:nvSpPr>
          <p:spPr>
            <a:xfrm>
              <a:off x="1800360" y="1359000"/>
              <a:ext cx="7021080" cy="465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52560" y="1359000"/>
              <a:ext cx="6948000" cy="46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828800" y="1432080"/>
            <a:ext cx="696420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3040" y="15192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- Hummingbir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" y="3371760"/>
            <a:ext cx="12733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umming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24160" y="333864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90760" y="3409920"/>
            <a:ext cx="144360" cy="144360"/>
          </a:xfrm>
          <a:prstGeom prst="ellipse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90760" y="361008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90760" y="3798720"/>
            <a:ext cx="14436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800360" y="1359000"/>
            <a:ext cx="7021080" cy="4656600"/>
            <a:chOff x="1800360" y="1359000"/>
            <a:chExt cx="7021080" cy="4656600"/>
          </a:xfrm>
        </p:grpSpPr>
        <p:sp>
          <p:nvSpPr>
            <p:cNvPr id="191" name=""/>
            <p:cNvSpPr/>
            <p:nvPr/>
          </p:nvSpPr>
          <p:spPr>
            <a:xfrm>
              <a:off x="1800360" y="1359000"/>
              <a:ext cx="7021080" cy="465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52560" y="1359000"/>
              <a:ext cx="6948000" cy="46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828800" y="1432080"/>
            <a:ext cx="696420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Crutziger Michael</cp:lastModifiedBy>
  <cp:lastPrinted>2004-02-29T14:41:19Z</cp:lastPrinted>
  <dcterms:modified xsi:type="dcterms:W3CDTF">2005-04-25T09:03:18Z</dcterms:modified>
  <cp:revision>8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15332766</vt:r8>
  </property>
  <property fmtid="{D5CDD505-2E9C-101B-9397-08002B2CF9AE}" pid="3" name="_AuthorEmail">
    <vt:lpwstr>michael.crutziger@siemens.com</vt:lpwstr>
  </property>
  <property fmtid="{D5CDD505-2E9C-101B-9397-08002B2CF9AE}" pid="4" name="_AuthorEmailDisplayName">
    <vt:lpwstr>Crutziger Michael Com MD PD PGG</vt:lpwstr>
  </property>
  <property fmtid="{D5CDD505-2E9C-101B-9397-08002B2CF9AE}" pid="5" name="_EmailSubject">
    <vt:lpwstr>X85 SG2 platform &amp; product highlights 2005-04-22</vt:lpwstr>
  </property>
</Properties>
</file>