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732000" cy="985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1"/>
          </p:nvPr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901800" y="739800"/>
            <a:ext cx="4927680" cy="369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73200" y="4846680"/>
            <a:ext cx="538488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2"/>
          </p:nvPr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3"/>
          </p:nvPr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12283-BFAF-44ED-87AE-A6B3659FC190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449F-A0A5-4F72-973D-C59DFB5DD89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38127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93DBC-D28E-413C-B662-557B1974AF7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9361440"/>
            <a:ext cx="29163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3812760" y="-360"/>
            <a:ext cx="2916360" cy="49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2960" y="744480"/>
            <a:ext cx="4910040" cy="36831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368280" y="4535280"/>
            <a:ext cx="5988240" cy="48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85 SG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22. Ap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1442880"/>
            <a:ext cx="11844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 Time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009880" y="1117440"/>
            <a:ext cx="6657840" cy="123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8872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rot="5400000">
            <a:off x="1324440" y="1580400"/>
            <a:ext cx="652680" cy="228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rot="5400000">
            <a:off x="1585800" y="1420560"/>
            <a:ext cx="128520" cy="1252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rot="5400000">
            <a:off x="1585800" y="163332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5400000">
            <a:off x="1585800" y="1846080"/>
            <a:ext cx="128520" cy="1252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760" bIns="41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5400000">
            <a:off x="1580400" y="1630080"/>
            <a:ext cx="12888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3998880"/>
            <a:ext cx="19969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2022480" y="2389320"/>
            <a:ext cx="6638400" cy="3698640"/>
            <a:chOff x="2022480" y="2389320"/>
            <a:chExt cx="6638400" cy="3698640"/>
          </a:xfrm>
        </p:grpSpPr>
        <p:sp>
          <p:nvSpPr>
            <p:cNvPr id="105" name=""/>
            <p:cNvSpPr/>
            <p:nvPr/>
          </p:nvSpPr>
          <p:spPr>
            <a:xfrm>
              <a:off x="2022480" y="2389320"/>
              <a:ext cx="6638400" cy="3698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71800" y="2389320"/>
              <a:ext cx="6569280" cy="369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ilestones, timeline, primavera planning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target M0 31.03.2005 is not feasible from SW platform point of view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-&gt;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M0 platform date will be communicated at 2005-04-22 (M0 target A06/2005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follow up milestones are not verified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ff0000"/>
                  </a:solidFill>
                  <a:latin typeface="Arial"/>
                </a:rPr>
                <a:t>ye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development aspe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Top level feature list of X85 SG2 PF SW Release 2 froz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+ CCB process established. Regular CCB meetings will start in M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CCB buffer of 7MY decided (PD &amp; PBM management). Split into departments and SW components ongo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Final alignment of ‘Requirements to SW’ list ongoing. DL feedback scheduled for E04/2005 and CA feedback until E05/2005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o Decision: Plover should base on SG2 PF. Impact to platform development ope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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200" spc="-1" strike="noStrike">
                  <a:solidFill>
                    <a:srgbClr val="000000"/>
                  </a:solidFill>
                  <a:latin typeface="Arial"/>
                </a:rPr>
                <a:t>major threa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-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W is heavily booked by Rel1 activities (PLC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estimation of component milestone not before cw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o SW top level requirement assignment to component projects is ongoing.</a:t>
              </a:r>
              <a:r>
                <a:rPr b="0" lang="en-GB" sz="1200" spc="-1" strike="noStrike">
                  <a:solidFill>
                    <a:srgbClr val="0000ff"/>
                  </a:solidFill>
                  <a:latin typeface="Arial"/>
                </a:rPr>
                <a:t> First version is scheduled for 2005-05-13. Finalization is planned until 2005-06-1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571680">
                <a:lnSpc>
                  <a:spcPct val="100000"/>
                </a:lnSpc>
                <a:buClr>
                  <a:srgbClr val="000000"/>
                </a:buClr>
                <a:buFont typeface="Wingdings" charset="2"/>
                <a:buChar char="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CTO TS have to assure detailed F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2108160" y="1235160"/>
            <a:ext cx="6058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0 (Rel2) target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A06/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S (Rel2) target  02/2006 (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to be verifi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tions SG2 85 platform &amp; produ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47640" y="1279440"/>
          <a:ext cx="2036880" cy="1590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279440"/>
                    <a:ext cx="2036880" cy="15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2880" y="2192400"/>
            <a:ext cx="166068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oft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252520" y="1379520"/>
            <a:ext cx="6367320" cy="2283480"/>
            <a:chOff x="2252520" y="1379520"/>
            <a:chExt cx="6367320" cy="2283480"/>
          </a:xfrm>
        </p:grpSpPr>
        <p:sp>
          <p:nvSpPr>
            <p:cNvPr id="111" name=""/>
            <p:cNvSpPr/>
            <p:nvPr/>
          </p:nvSpPr>
          <p:spPr>
            <a:xfrm>
              <a:off x="2252520" y="1379520"/>
              <a:ext cx="6367320" cy="228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99680" y="1379520"/>
              <a:ext cx="6301080" cy="228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25520" y="4057560"/>
            <a:ext cx="6394320" cy="1977120"/>
            <a:chOff x="2225520" y="4057560"/>
            <a:chExt cx="6394320" cy="1977120"/>
          </a:xfrm>
        </p:grpSpPr>
        <p:sp>
          <p:nvSpPr>
            <p:cNvPr id="114" name=""/>
            <p:cNvSpPr/>
            <p:nvPr/>
          </p:nvSpPr>
          <p:spPr>
            <a:xfrm>
              <a:off x="2225520" y="4057560"/>
              <a:ext cx="6394320" cy="1977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73040" y="4057560"/>
              <a:ext cx="6327720" cy="197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4160" y="4770360"/>
            <a:ext cx="1431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ystem T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27280" y="211140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785960" y="215748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85960" y="258588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785960" y="2381400"/>
            <a:ext cx="14436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47451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811160" y="481644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811160" y="5016600"/>
            <a:ext cx="144720" cy="144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11160" y="5205240"/>
            <a:ext cx="14472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22360" y="1469880"/>
            <a:ext cx="62103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0000"/>
                </a:solidFill>
                <a:latin typeface="Arial"/>
              </a:rPr>
              <a:t>- No fixed M0 date yet; no rough project pan until DS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Detailing SW requirement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Announcement of M0 date is scheduled for 22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+ SW for Polaris A1 run was provided in time and boards were produced as plann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o In a meeting of Klebsch and Lepold a CR Buffer of 7 PY (3,5 PY in FY04/05) was discussed, but not yet officially agreed by PD (budget clarification is still ongo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o First CCB Meeting was held and it was decided to immediately start the evaluation of some high prio CRs (the regular CCB work on all other CRs will start mid/end 05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11560" y="4113360"/>
            <a:ext cx="5968800" cy="13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Untill no Feature list will provide by PL-SW, ST can not set the neseccary    Resources. Rough planning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0: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The Approval strategy according to the necessary Certification could not be seattled cause of missing timeline from S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M1: Neither budget planning could be succeeded nor Resourcen planning and Testplan setup could be executed by 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9040" y="1906560"/>
            <a:ext cx="174960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Hardware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057400" y="1147680"/>
            <a:ext cx="6238440" cy="3703680"/>
            <a:chOff x="2057400" y="1147680"/>
            <a:chExt cx="6238440" cy="3703680"/>
          </a:xfrm>
        </p:grpSpPr>
        <p:sp>
          <p:nvSpPr>
            <p:cNvPr id="131" name=""/>
            <p:cNvSpPr/>
            <p:nvPr/>
          </p:nvSpPr>
          <p:spPr>
            <a:xfrm>
              <a:off x="2057400" y="1147680"/>
              <a:ext cx="6238440" cy="3703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103840" y="1147680"/>
              <a:ext cx="6173640" cy="37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1612800" y="1844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671480" y="1916280"/>
            <a:ext cx="14472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1480" y="2116080"/>
            <a:ext cx="14472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71480" y="2305080"/>
            <a:ext cx="144720" cy="144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12560" y="1461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latform – reporting – 85 gener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66800" y="2305080"/>
            <a:ext cx="144360" cy="144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1249200"/>
            <a:ext cx="5969160" cy="34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HW feature list for X75 and X85 SG2 platform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pdate scheduled for M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Prototype planning list for X75 and X85 products availa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First master schematic release for X85 SG2 platform avail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 Malpha.4_1 tape out done. First boards are available. Because of restrictions in prototype shop main run delayed to cw16.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Assembling ongoing. Board delivery planned until Ecw1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Primavera planning started for X85 SG2 HW platform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xpert planning team set up. Subprojects defined and establishment requested from PV suppo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X85 SG2 HW concept discussions in some parts are ongoing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+ Status LED concept defined. Detailed measurements are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+ Illumination concept defined. Alignment with product projects ongoing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Flash LED interconnection @ SG2: X75 SG2 concept available. Second option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under evaluation.</a:t>
            </a:r>
            <a:br>
              <a:rPr sz="1200"/>
            </a:b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o 2Mpix camera @ SG2: Feature not confirmed until now. Related CR available.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Evaluations are on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Status Update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2000" y="3370320"/>
            <a:ext cx="118404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olar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43120" y="1290600"/>
            <a:ext cx="6964200" cy="528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ilestones, timeline, Prima 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0 -&gt; </a:t>
            </a: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Q-Gate not passed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D; HW; LCM (NPI 2&amp;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0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reached (except SW relevant WP)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Status open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HW; LCM (NPI 2&amp;3); ST;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W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; Q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spcAft>
                <a:spcPts val="300"/>
              </a:spcAft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Prima-Vera Plan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 completed due to missing links to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HW relevant WP in time with “Target S15”: 29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IMD window will be emplo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1: PCBA Build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5-Apr-05, first pass rate 95%, ‘normal mode’ possi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LA Build: 06.06.05 ;WB TO: 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done on 18-Apr-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ff0000"/>
                </a:solidFill>
                <a:uFillTx/>
                <a:latin typeface="Arial"/>
              </a:rPr>
              <a:t>TimeLine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M0: 3.5 month delay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S2: 1 month delayed (based on SW Platform DL C25 planning 09/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Time between M1 and AS app. 3month only (based on M1 08/05 PL-T assumpt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X85 portfolio review - invest on hold – decision on 25-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BC:</a:t>
            </a:r>
            <a:r>
              <a:rPr b="0" lang="en-GB" sz="1200" spc="-1" strike="noStrike">
                <a:solidFill>
                  <a:srgbClr val="0000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arget cost gap of app. 7,-EUR due to reduced ASP and additional PD Budget (1/6 of X75 platform cost to be covered by Polar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17440" y="3139920"/>
            <a:ext cx="287640" cy="64800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76480" y="3211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76480" y="3411360"/>
            <a:ext cx="144360" cy="14472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6480" y="360036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3960" y="202680"/>
            <a:ext cx="655308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– Polaris -&gt; Decision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1640" y="1468440"/>
            <a:ext cx="8005680" cy="332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ecisions Du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claration of M0 Milest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lease of Invest/ Budget till M0 (has been passed on to PBM Head as wel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PD Budget till M0 (6/05) 1.7Mio EUR (including SCM Budget 135k EU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&gt;Tooling due till M0 (6/05) 1.478Mio E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osal of Polaris Project Tea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not declare M0 Polaris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due to missing input from platform, esp. missing time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AutoNum type="arabicPeriod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tinue WP as planne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ith preliminary Time Schedule and release Budget/ Invest in order to minimize DS 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Swif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16080" y="3514680"/>
            <a:ext cx="7365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i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58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828800" y="1432080"/>
            <a:ext cx="6964200" cy="44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rough PV planning done, alignment of detailed plans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 „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remaining Swift S0-HW issues solved, S0-HW status will be reached by 22.04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A1 PCB tapeout on 04.05.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might need a non platform display because of a different flex l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ft has reached M0 status for all HW related topic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BOM target cannot be met (about 7€ delta); CRW showed only very minor saving potenti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ift supplier selection was done and agreed between purchasing and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=&gt; Swift and Ibis will not declare M1 or M1-H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The needed investment until end of May was approved but must not be spent before cw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Q-GATE conclusion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eam proposes to continue until expected M0 in M June 05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bring SW issue to management atten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Ibi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30200" y="3486240"/>
            <a:ext cx="54936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b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122480" y="331956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81160" y="33908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181160" y="359100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181160" y="378000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69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828800" y="1432080"/>
            <a:ext cx="6964200" cy="440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rough PV planning don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„</a:t>
            </a: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Steckbrief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“ is upd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M0 delayed to M June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=&gt; the current Swift DS date is extremely unrealistic from project point of view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=&gt; T-PSR feedback: continue with the current DS target; a SW delay is not known to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Ibis M0-HW status is beginning of May – except for SW related issues no M0 stopper identified so f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bis BOM target cannot be met (about 7€ delt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Platform SW timeline missing therefore an overall project planning is not possible </a:t>
            </a:r>
            <a:br>
              <a:rPr sz="1200"/>
            </a:b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Brambling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42920" y="3495600"/>
            <a:ext cx="11923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ramb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80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03040" y="151920"/>
            <a:ext cx="6553440" cy="62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2 products - Hummingbird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33200" y="3371760"/>
            <a:ext cx="12733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umming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424160" y="3338640"/>
            <a:ext cx="28728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3409920"/>
            <a:ext cx="144360" cy="144360"/>
          </a:xfrm>
          <a:prstGeom prst="ellipse">
            <a:avLst/>
          </a:prstGeom>
          <a:solidFill>
            <a:srgbClr val="ff00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90760" y="361008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490760" y="3798720"/>
            <a:ext cx="144360" cy="14472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240" bIns="302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1800360" y="1359000"/>
            <a:ext cx="7021080" cy="4656600"/>
            <a:chOff x="1800360" y="1359000"/>
            <a:chExt cx="7021080" cy="4656600"/>
          </a:xfrm>
        </p:grpSpPr>
        <p:sp>
          <p:nvSpPr>
            <p:cNvPr id="191" name=""/>
            <p:cNvSpPr/>
            <p:nvPr/>
          </p:nvSpPr>
          <p:spPr>
            <a:xfrm>
              <a:off x="1800360" y="1359000"/>
              <a:ext cx="7021080" cy="4656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52560" y="1359000"/>
              <a:ext cx="6948000" cy="46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1828800" y="1432080"/>
            <a:ext cx="6964200" cy="14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lestones, timeline, Primavera pla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ical aspects, next ste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Wingdings" charset="2"/>
              <a:buChar char="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rutziger Michael</cp:lastModifiedBy>
  <cp:lastPrinted>2004-02-29T14:41:19Z</cp:lastPrinted>
  <dcterms:modified xsi:type="dcterms:W3CDTF">2005-04-25T09:03:18Z</dcterms:modified>
  <cp:revision>80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15332766</vt:r8>
  </property>
  <property fmtid="{D5CDD505-2E9C-101B-9397-08002B2CF9AE}" pid="3" name="_AuthorEmail">
    <vt:lpwstr>michael.crutziger@siemens.com</vt:lpwstr>
  </property>
  <property fmtid="{D5CDD505-2E9C-101B-9397-08002B2CF9AE}" pid="4" name="_AuthorEmailDisplayName">
    <vt:lpwstr>Crutziger Michael Com MD PD PGG</vt:lpwstr>
  </property>
  <property fmtid="{D5CDD505-2E9C-101B-9397-08002B2CF9AE}" pid="5" name="_EmailSubject">
    <vt:lpwstr>X85 SG2 platform &amp; product highlights 2005-04-22</vt:lpwstr>
  </property>
</Properties>
</file>