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C10C-DF36-4CA2-ACE9-D867047644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C9E8-CEB3-4F33-A749-FC95189514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84B5-4290-4EE7-AA97-9D5E72B62FC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8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22. Ap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1442880"/>
            <a:ext cx="118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9880" y="1117440"/>
            <a:ext cx="6657840" cy="12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872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324440" y="1580400"/>
            <a:ext cx="652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585800" y="142056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585800" y="16333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585800" y="18460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580400" y="1630080"/>
            <a:ext cx="12888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998880"/>
            <a:ext cx="199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22480" y="2389320"/>
            <a:ext cx="6638400" cy="3698640"/>
            <a:chOff x="2022480" y="2389320"/>
            <a:chExt cx="6638400" cy="3698640"/>
          </a:xfrm>
        </p:grpSpPr>
        <p:sp>
          <p:nvSpPr>
            <p:cNvPr id="105" name=""/>
            <p:cNvSpPr/>
            <p:nvPr/>
          </p:nvSpPr>
          <p:spPr>
            <a:xfrm>
              <a:off x="2022480" y="2389320"/>
              <a:ext cx="6638400" cy="369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71800" y="2389320"/>
              <a:ext cx="6569280" cy="36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ilestones, timeline, primavera plan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arget M0 31.03.2005 is not feasible from SW platform point of vie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&gt;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M0 platform date will be communicated at 2005-04-22 (M0 target A06/200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follow up milestones are not verified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y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evelopment aspe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Top level feature list of X85 SG2 PF SW Release 2 froze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CCB process established. Regular CCB meetings will start in M05/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CCB buffer of 7MY decided (PD &amp; PBM management). Split into departments and SW components ongo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Final alignment of ‘Requirements to SW’ list ongoing. DL feedback scheduled for E04/2005 and CA feedback until E05/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Decision: Plover should base on SG2 PF. Impact to platform development ope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jor thre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W is heavily booked by Rel1 activities (PLC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stimation of component milestone not before cw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 SW top level requirement assignment to component projects is ongoing.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 First version is scheduled for 2005-05-13. Finalization is planned until 2005-06-10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TO TS have to assure detailed F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108160" y="1235160"/>
            <a:ext cx="605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0 (Rel2) target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06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S (Rel2) target  02/2006 (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o be verif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 SG2 85 platform &amp;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47640" y="1279440"/>
          <a:ext cx="203688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279440"/>
                    <a:ext cx="203688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2192400"/>
            <a:ext cx="1660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52520" y="1379520"/>
            <a:ext cx="6367320" cy="2283480"/>
            <a:chOff x="2252520" y="1379520"/>
            <a:chExt cx="6367320" cy="2283480"/>
          </a:xfrm>
        </p:grpSpPr>
        <p:sp>
          <p:nvSpPr>
            <p:cNvPr id="111" name=""/>
            <p:cNvSpPr/>
            <p:nvPr/>
          </p:nvSpPr>
          <p:spPr>
            <a:xfrm>
              <a:off x="2252520" y="1379520"/>
              <a:ext cx="6367320" cy="228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99680" y="1379520"/>
              <a:ext cx="630108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25520" y="4057560"/>
            <a:ext cx="6394320" cy="1977120"/>
            <a:chOff x="2225520" y="4057560"/>
            <a:chExt cx="6394320" cy="1977120"/>
          </a:xfrm>
        </p:grpSpPr>
        <p:sp>
          <p:nvSpPr>
            <p:cNvPr id="114" name=""/>
            <p:cNvSpPr/>
            <p:nvPr/>
          </p:nvSpPr>
          <p:spPr>
            <a:xfrm>
              <a:off x="2225520" y="4057560"/>
              <a:ext cx="6394320" cy="197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73040" y="4057560"/>
              <a:ext cx="6327720" cy="19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4160" y="4770360"/>
            <a:ext cx="1431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27280" y="211140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85960" y="2157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85960" y="2585880"/>
            <a:ext cx="144360" cy="14472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5960" y="2381400"/>
            <a:ext cx="1443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47451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1160" y="4816440"/>
            <a:ext cx="14472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1160" y="501660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1160" y="5205240"/>
            <a:ext cx="14472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22360" y="1469880"/>
            <a:ext cx="62103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- No fixed M0 date yet; no rough project pan until DS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Detailing SW requirement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Announcement of M0 date is scheduled for 22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+ SW for Polaris A1 run was provided in time and boards were produced as plan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 In a meeting of Klebsch and Lepold a CR Buffer of 7 PY (3,5 PY in FY04/05) was discussed, but not yet officially agreed by PD (budget clarification is still ongo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o First CCB Meeting was held and it was decided to immediately start the evaluation of some high prio CRs (the regular CCB work on all other CRs will start mid/end 05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11560" y="4113360"/>
            <a:ext cx="59688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M0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ill no Feature list will provide by PL-SW, ST can not set the neseccary    Resources. Rough planning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S0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The Approval strategy according to the necessary Certification could not be seattled cause of missing timeline from S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M1: Neither budget planning could be succeeded nor Resourcen planning and Testplan setup could be executed by 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040" y="190656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rd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57400" y="1147680"/>
            <a:ext cx="6238440" cy="3703680"/>
            <a:chOff x="2057400" y="1147680"/>
            <a:chExt cx="6238440" cy="3703680"/>
          </a:xfrm>
        </p:grpSpPr>
        <p:sp>
          <p:nvSpPr>
            <p:cNvPr id="131" name=""/>
            <p:cNvSpPr/>
            <p:nvPr/>
          </p:nvSpPr>
          <p:spPr>
            <a:xfrm>
              <a:off x="2057400" y="1147680"/>
              <a:ext cx="6238440" cy="370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3840" y="1147680"/>
              <a:ext cx="6173640" cy="37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612800" y="1844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1480" y="1916280"/>
            <a:ext cx="14472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1480" y="2116080"/>
            <a:ext cx="14472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1480" y="23050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146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66800" y="230508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1249200"/>
            <a:ext cx="596916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W feature list for X75 and X85 SG2 platform available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pdate scheduled for Mcw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Prototype planning list for X75 and X85 product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First master schematic release for X85 SG2 platform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Malpha.4_1 tape out done. First boards are available. Because of restrictions in prototype shop main run delayed to cw16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Assembling ongoing. Board delivery planned until Ecw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Primavera planning started for X85 SG2 HW platform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ert planning team set up. Subprojects defined and establishment requested from PV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X85 SG2 HW concept discussions in some parts are ongoing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+ Status LED concept defined. Detailed measurements are ongoing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+ Illumination concept defined. Alignment with product projects ongoing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o Flash LED interconnection @ SG2: X75 SG2 concept available. Second option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nder evaluation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o 2Mpix camera @ SG2: Feature not confirmed until now. Related CR available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valuations are on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-&gt; Status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2000" y="3370320"/>
            <a:ext cx="1184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43120" y="1290600"/>
            <a:ext cx="6964200" cy="528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lestones, timeline, Prima 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0 -&gt;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Q-Gate not passed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reached (except SW relevant WP)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D; HW; LCM (NPI 2&amp;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op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ST;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 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0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reached (except SW relevant WP)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ope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W; LCM (NPI 2&amp;3); ST;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 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rima-Vera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completed due to missing links to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HW relevant WP in time with “Target S15”: 29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IMD window will be empl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1: PCBA Build: 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done on 15-Apr-05, first pass rate 95%, ‘normal mode’ possi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A Build: 06.06.05 ;WB TO: 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done on 18-Apr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TimeLine: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M0: 3.5 month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2: 1 month delayed (based on SW Platform DL C25 planning 09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Time between M1 and AS app. 3month only (based on M1 08/05 PL-T assum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X85 portfolio review - invest on hold – decision on 25-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C: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cost gap of app. 7,-EUR due to reduced ASP and additional PD Budget (1/6 of X75 platform cost to be covered by Polar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3139920"/>
            <a:ext cx="28764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76480" y="32115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76480" y="3411360"/>
            <a:ext cx="144360" cy="14472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6480" y="360036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-&gt; Decis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640" y="1468440"/>
            <a:ext cx="8005680" cy="33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isions D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laration of M0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lease of Invest/ Budget till M0 (has been passed on to PBM Head as we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&gt;PD Budget till M0 (6/05) 1.7Mio EUR (including SCM Budget 135k 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&gt;Tooling due till M0 (6/05) 1.478Mio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posal of Polaris Project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 declare M0 Polar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due to missing input from platform, esp. missing tim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tinue WP as plann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ith preliminary Time Schedule and release Budget/ Invest in order to minimize DS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Swi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6080" y="3514680"/>
            <a:ext cx="7365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24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33908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1160" y="359100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1160" y="378000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58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28800" y="1432080"/>
            <a:ext cx="696420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rough PV planning done, alignment of detailed pla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eckbrie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is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W M0 delayed to M 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=&gt; the current Swift DS date is extremely unrealistic from project point of view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=&gt; T-PSR feedback: continue with the current DS target; a SW delay is not known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maining Swift S0-HW issues solved, S0-HW status will be reached by 22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A1 PCB tapeout on 04.05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might need a non platform display because of a different fle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has reached M0 status for all HW related topic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BOM target cannot be met (about 7€ delta); CRW showed only very minor saving potent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supplier selection was done and agreed between purchasing and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latform SW timeline missing therefore an overall project planning is not possible 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=&gt; Swift and Ibis will not declare M1 or M1-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needed investment until end of May was approved but must not be spent before cw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Q-GATE concl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eam proposes to continue until expected M0 in M June 0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ring SW issue to management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Ib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0200" y="3486240"/>
            <a:ext cx="5493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224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81160" y="33908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81160" y="359100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81160" y="378000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69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1432080"/>
            <a:ext cx="6964200" cy="44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bis rough PV planning don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Steckbrief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“ is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W M0 delayed to M 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=&gt; the current Swift DS date is extremely unrealistic from project point of view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=&gt; T-PSR feedback: continue with the current DS target; a SW delay is not known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bis M0-HW status is beginning of May – except for SW related issues no M0 stopper identified so f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bis BOM target cannot be met (about 7€ del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latform SW timeline missing therefore an overall project planning is not possible 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Brambl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920" y="3495600"/>
            <a:ext cx="1192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ramb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24160" y="3338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90760" y="3409920"/>
            <a:ext cx="14436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90760" y="361008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90760" y="379872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80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828800" y="1432080"/>
            <a:ext cx="696420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Hummingbir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" y="3371760"/>
            <a:ext cx="12733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umming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160" y="3338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3409920"/>
            <a:ext cx="14436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90760" y="361008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90760" y="379872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91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28800" y="1432080"/>
            <a:ext cx="696420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rutziger Michael</cp:lastModifiedBy>
  <cp:lastPrinted>2004-02-29T14:41:19Z</cp:lastPrinted>
  <dcterms:modified xsi:type="dcterms:W3CDTF">2005-04-25T09:03:18Z</dcterms:modified>
  <cp:revision>8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15332766</vt:r8>
  </property>
  <property fmtid="{D5CDD505-2E9C-101B-9397-08002B2CF9AE}" pid="3" name="_AuthorEmail">
    <vt:lpwstr>michael.crutziger@siemens.com</vt:lpwstr>
  </property>
  <property fmtid="{D5CDD505-2E9C-101B-9397-08002B2CF9AE}" pid="4" name="_AuthorEmailDisplayName">
    <vt:lpwstr>Crutziger Michael Com MD PD PGG</vt:lpwstr>
  </property>
  <property fmtid="{D5CDD505-2E9C-101B-9397-08002B2CF9AE}" pid="5" name="_EmailSubject">
    <vt:lpwstr>X85 SG2 platform &amp; product highlights 2005-04-22</vt:lpwstr>
  </property>
</Properties>
</file>