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March</a:t>
            </a: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16495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008000" y="1120680"/>
            <a:ext cx="7719840" cy="4929840"/>
            <a:chOff x="1008000" y="1120680"/>
            <a:chExt cx="7719840" cy="4929840"/>
          </a:xfrm>
        </p:grpSpPr>
        <p:sp>
          <p:nvSpPr>
            <p:cNvPr id="91" name=""/>
            <p:cNvSpPr/>
            <p:nvPr/>
          </p:nvSpPr>
          <p:spPr>
            <a:xfrm>
              <a:off x="1008000" y="1120680"/>
              <a:ext cx="7719840" cy="49298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065240" y="1120680"/>
              <a:ext cx="7639560" cy="492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1014480" y="1170000"/>
            <a:ext cx="697716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PV-Milestones Phoenix/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05.05 / 20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W Freeze   13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99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-Control-Bug in Intel Memory (Flash/SRAM) may lead to decreased standby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Key Function of the Project Team stuffed with not so experienced Colleagu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Help from experienced Experts &amp; Commitment form Mario Topel to reach D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of Phoenix-Mechanics due to belated Samples in Shanghai may delay 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alignment of Phoenix-Joystick =&gt; Countermeasures under Eval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Free Soldering Process seems not to be stable yet (Mozart and I/O-Connecto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Accessories of 75 Generation will not be supported by Phoenix and Siriu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+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Phoenix finished, Sirius ongo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o change form B1+ to B2 Layout plan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34800" y="2425680"/>
            <a:ext cx="28764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3840" y="269712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93840" y="288612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98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01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04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07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10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392040" y="25052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13160" y="1212840"/>
            <a:ext cx="4214880" cy="229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till fea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W S25 declared by SW in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tability one week after S25 SW Freeze already remarkable good –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hough many bugs (up to 30 per day)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53520" y="2428920"/>
            <a:ext cx="228600" cy="652320"/>
            <a:chOff x="353520" y="2428920"/>
            <a:chExt cx="228600" cy="652320"/>
          </a:xfrm>
        </p:grpSpPr>
        <p:sp>
          <p:nvSpPr>
            <p:cNvPr id="116" name=""/>
            <p:cNvSpPr/>
            <p:nvPr/>
          </p:nvSpPr>
          <p:spPr>
            <a:xfrm rot="5400000">
              <a:off x="141480" y="2640600"/>
              <a:ext cx="652320" cy="228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402840" y="248112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402840" y="2693880"/>
              <a:ext cx="128520" cy="12564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402840" y="2906640"/>
              <a:ext cx="128520" cy="12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3-20T06:56:11Z</dcterms:modified>
  <cp:revision>718</cp:revision>
  <dc:subject/>
  <dc:title>PowerPoint Presentation</dc:title>
</cp:coreProperties>
</file>