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742113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476"/>
              </a:spcAft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8640" y="838080"/>
            <a:ext cx="82774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46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3440" y="5784840"/>
            <a:ext cx="1201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400" spc="-1" strike="noStrike">
                <a:solidFill>
                  <a:srgbClr val="0d1d40"/>
                </a:solidFill>
                <a:latin typeface="Arial"/>
              </a:rPr>
              <a:t>03/2004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400" spc="-1" strike="noStrike">
                <a:solidFill>
                  <a:srgbClr val="0d1d40"/>
                </a:solidFill>
                <a:latin typeface="Arial"/>
              </a:rPr>
              <a:t>p. </a:t>
            </a:r>
            <a:fld id="{E2311D3A-83F1-4B69-8E2A-6962FD41C529}" type="slidenum">
              <a:rPr b="0" lang="de-DE" sz="1400" spc="-1" strike="noStrike">
                <a:solidFill>
                  <a:srgbClr val="0d1d40"/>
                </a:solidFill>
                <a:latin typeface="Arial"/>
              </a:rPr>
              <a:t>&lt;number&gt;</a:t>
            </a:fld>
            <a:r>
              <a:rPr b="0" lang="de-DE" sz="1400" spc="-1" strike="noStrike">
                <a:solidFill>
                  <a:srgbClr val="0d1d40"/>
                </a:solidFill>
                <a:latin typeface="Arial"/>
              </a:rPr>
              <a:t>/28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70960" y="6491160"/>
            <a:ext cx="21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102b"/>
                </a:solidFill>
                <a:latin typeface="Arial Narrow"/>
              </a:rPr>
              <a:t>company confidential</a:t>
            </a:r>
            <a:endParaRPr b="0" lang="en-US" sz="18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700" spc="-1" strike="noStrike">
                <a:solidFill>
                  <a:srgbClr val="001e64"/>
                </a:solidFill>
                <a:latin typeface="Arial Narrow"/>
              </a:rPr>
              <a:t>Click to edit the title text format</a:t>
            </a: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6080" indent="-316080">
              <a:spcBef>
                <a:spcPts val="476"/>
              </a:spcBef>
              <a:spcAft>
                <a:spcPts val="476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1e64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  <a:p>
            <a:pPr lvl="1" marL="685800" indent="-239760">
              <a:spcBef>
                <a:spcPts val="425"/>
              </a:spcBef>
              <a:spcAft>
                <a:spcPts val="425"/>
              </a:spcAft>
              <a:buClr>
                <a:srgbClr val="001e64"/>
              </a:buClr>
              <a:buFont typeface="Arial"/>
              <a:buChar char="–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1e64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1e64"/>
              </a:solidFill>
              <a:latin typeface="Arial"/>
            </a:endParaRPr>
          </a:p>
          <a:p>
            <a:pPr lvl="2" marL="1158840" indent="-285840">
              <a:spcBef>
                <a:spcPts val="374"/>
              </a:spcBef>
              <a:spcAft>
                <a:spcPts val="374"/>
              </a:spcAft>
              <a:buClr>
                <a:srgbClr val="001e64"/>
              </a:buClr>
              <a:buSzPct val="80000"/>
              <a:buFont typeface="Wingdings" charset="2"/>
              <a:buChar char="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1e6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1e64"/>
              </a:solidFill>
              <a:latin typeface="Arial"/>
            </a:endParaRPr>
          </a:p>
          <a:p>
            <a:pPr lvl="3" marL="1531800" indent="-187200">
              <a:spcBef>
                <a:spcPts val="349"/>
              </a:spcBef>
              <a:spcAft>
                <a:spcPts val="349"/>
              </a:spcAft>
              <a:buClr>
                <a:srgbClr val="001e64"/>
              </a:buClr>
              <a:buFont typeface="Arial"/>
              <a:buChar char="–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1e64"/>
              </a:solidFill>
              <a:latin typeface="Arial"/>
            </a:endParaRPr>
          </a:p>
          <a:p>
            <a:pPr lvl="4" marL="1903320" indent="-185760">
              <a:spcBef>
                <a:spcPts val="300"/>
              </a:spcBef>
              <a:spcAft>
                <a:spcPts val="300"/>
              </a:spcAft>
              <a:buClr>
                <a:srgbClr val="001e64"/>
              </a:buClr>
              <a:buFont typeface="Arial"/>
              <a:buChar char="»"/>
              <a:tabLst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1e64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1e64"/>
              </a:solidFill>
              <a:latin typeface="Arial"/>
            </a:endParaRPr>
          </a:p>
          <a:p>
            <a:pPr lvl="5" marL="1903320" indent="-185760">
              <a:spcBef>
                <a:spcPts val="300"/>
              </a:spcBef>
              <a:buClr>
                <a:srgbClr val="0d1d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1e64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1e64"/>
              </a:solidFill>
              <a:latin typeface="Arial"/>
            </a:endParaRPr>
          </a:p>
          <a:p>
            <a:pPr lvl="6" marL="1903320" indent="-185760">
              <a:spcBef>
                <a:spcPts val="300"/>
              </a:spcBef>
              <a:buClr>
                <a:srgbClr val="0d1d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1e64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236160"/>
            <a:ext cx="51339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Different Modulator Architectures – I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95440" y="4241880"/>
            <a:ext cx="5450040" cy="2030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25800" y="1200240"/>
            <a:ext cx="6529320" cy="203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55040" y="3168720"/>
            <a:ext cx="581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Modulation at IF followed  by upconversion mixing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28400" y="58644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Direct modulation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96960" y="236160"/>
            <a:ext cx="5883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Delta-Sigma Frac.-N PLL Modulation Loop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79600" y="892080"/>
            <a:ext cx="5727600" cy="4444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770440" y="3606840"/>
            <a:ext cx="4027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A solution could be found,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which is: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ff"/>
              </a:buClr>
              <a:buFont typeface="Arial"/>
              <a:buChar char="+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highly suitable for CMOS</a:t>
            </a:r>
            <a:br>
              <a:rPr sz="2000"/>
            </a:b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  implementation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ff"/>
              </a:buClr>
              <a:buFont typeface="Arial"/>
              <a:buChar char="+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highly suitable for full</a:t>
            </a:r>
            <a:br>
              <a:rPr sz="2000"/>
            </a:b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  integration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ff"/>
              </a:buClr>
              <a:buFont typeface="Arial"/>
              <a:buChar char="+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needs a minimum number of </a:t>
            </a:r>
            <a:br>
              <a:rPr sz="2000"/>
            </a:b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  building blocks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0200" y="236160"/>
            <a:ext cx="83059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BABS (Binary Auto Band Selection): Measurement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7040" y="790560"/>
            <a:ext cx="847908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308320" y="1628640"/>
            <a:ext cx="6056280" cy="4545000"/>
            <a:chOff x="2308320" y="1628640"/>
            <a:chExt cx="6056280" cy="4545000"/>
          </a:xfrm>
        </p:grpSpPr>
        <p:grpSp>
          <p:nvGrpSpPr>
            <p:cNvPr id="97" name=""/>
            <p:cNvGrpSpPr/>
            <p:nvPr/>
          </p:nvGrpSpPr>
          <p:grpSpPr>
            <a:xfrm>
              <a:off x="2308320" y="1628640"/>
              <a:ext cx="6056280" cy="4545000"/>
              <a:chOff x="2308320" y="1628640"/>
              <a:chExt cx="6056280" cy="4545000"/>
            </a:xfrm>
          </p:grpSpPr>
          <p:sp>
            <p:nvSpPr>
              <p:cNvPr id="98" name=""/>
              <p:cNvSpPr/>
              <p:nvPr/>
            </p:nvSpPr>
            <p:spPr>
              <a:xfrm>
                <a:off x="2308320" y="1628640"/>
                <a:ext cx="6056280" cy="454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095640" y="1967040"/>
                <a:ext cx="4686480" cy="156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95640" y="1967040"/>
                <a:ext cx="4686480" cy="15602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95640" y="1967040"/>
                <a:ext cx="468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95640" y="3527280"/>
                <a:ext cx="468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7782120" y="1967040"/>
                <a:ext cx="1440" cy="156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3095640" y="1967040"/>
                <a:ext cx="1440" cy="156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95640" y="3527280"/>
                <a:ext cx="468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3095640" y="1967040"/>
                <a:ext cx="1440" cy="156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309564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9564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4056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332424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32424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6916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3560760" y="3479760"/>
                <a:ext cx="180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560760" y="196704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0568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797280" y="3479760"/>
                <a:ext cx="180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97280" y="196704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4220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403236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03236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97872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26096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6096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0732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449748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9748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4204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473400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3400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7892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497052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7052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91544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519912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9912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4404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543564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3564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35680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567072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7072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9368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590724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0724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3020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613584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13584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5700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1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637236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37236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29352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660888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0888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3004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2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684540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4540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6656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7072200" y="3479760"/>
                <a:ext cx="180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072200" y="196704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99516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3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7308720" y="3479760"/>
                <a:ext cx="180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08720" y="196704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3168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7545240" y="3479760"/>
                <a:ext cx="180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545240" y="196704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46676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4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78212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78212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70328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095640" y="352728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7733880" y="3527280"/>
                <a:ext cx="47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09960" y="3463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95640" y="313380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7733880" y="3133800"/>
                <a:ext cx="47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9440" y="30700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95640" y="274788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7733880" y="2747880"/>
                <a:ext cx="47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44360" y="268452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095640" y="235440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7733880" y="2354400"/>
                <a:ext cx="47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844360" y="229068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095640" y="19670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7733880" y="1967040"/>
                <a:ext cx="47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844360" y="190512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095640" y="1967040"/>
                <a:ext cx="468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95640" y="3527280"/>
                <a:ext cx="468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7782120" y="1967040"/>
                <a:ext cx="1440" cy="156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3095640" y="1967040"/>
                <a:ext cx="1440" cy="156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986280" y="3519360"/>
                <a:ext cx="396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98628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32360" y="3519360"/>
                <a:ext cx="396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3236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79880" y="3519360"/>
                <a:ext cx="396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7988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135320" y="3519360"/>
                <a:ext cx="399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35320" y="3519360"/>
                <a:ext cx="399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83200" y="3519360"/>
                <a:ext cx="396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18320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30720" y="3519360"/>
                <a:ext cx="38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30720" y="3519360"/>
                <a:ext cx="381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284720" y="3511440"/>
                <a:ext cx="39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284720" y="3511440"/>
                <a:ext cx="39600" cy="15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32240" y="3495600"/>
                <a:ext cx="3960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32240" y="3495600"/>
                <a:ext cx="39600" cy="31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80120" y="3495600"/>
                <a:ext cx="4752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380120" y="3495600"/>
                <a:ext cx="47520" cy="31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33760" y="3487680"/>
                <a:ext cx="3996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433760" y="3487680"/>
                <a:ext cx="39960" cy="39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481640" y="3471840"/>
                <a:ext cx="39600" cy="5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81640" y="3471840"/>
                <a:ext cx="39600" cy="55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29160" y="3471840"/>
                <a:ext cx="47520" cy="5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29160" y="3471840"/>
                <a:ext cx="47520" cy="55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84600" y="3456000"/>
                <a:ext cx="39960" cy="7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584600" y="3456000"/>
                <a:ext cx="39960" cy="71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32480" y="3424320"/>
                <a:ext cx="37800" cy="10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2480" y="3424320"/>
                <a:ext cx="37800" cy="102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686480" y="3408480"/>
                <a:ext cx="39600" cy="11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86480" y="3408480"/>
                <a:ext cx="39600" cy="118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34000" y="3400560"/>
                <a:ext cx="39600" cy="12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34000" y="3400560"/>
                <a:ext cx="39600" cy="126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81520" y="3354480"/>
                <a:ext cx="39600" cy="172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781520" y="3354480"/>
                <a:ext cx="39600" cy="172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35520" y="3346560"/>
                <a:ext cx="39600" cy="180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35520" y="3346560"/>
                <a:ext cx="39600" cy="180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83040" y="3322800"/>
                <a:ext cx="39960" cy="20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83040" y="3322800"/>
                <a:ext cx="39960" cy="204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30920" y="3282840"/>
                <a:ext cx="39600" cy="244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30920" y="3282840"/>
                <a:ext cx="39600" cy="244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86360" y="3267000"/>
                <a:ext cx="39600" cy="260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86360" y="3267000"/>
                <a:ext cx="39600" cy="260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033880" y="3251160"/>
                <a:ext cx="38160" cy="27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33880" y="3251160"/>
                <a:ext cx="38160" cy="276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79960" y="3187800"/>
                <a:ext cx="39600" cy="339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79960" y="3187800"/>
                <a:ext cx="39600" cy="339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35760" y="3203640"/>
                <a:ext cx="39600" cy="32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35760" y="3203640"/>
                <a:ext cx="39600" cy="3236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83280" y="3211560"/>
                <a:ext cx="39600" cy="31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83280" y="3211560"/>
                <a:ext cx="39600" cy="315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30800" y="3181320"/>
                <a:ext cx="38160" cy="34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230800" y="3181320"/>
                <a:ext cx="38160" cy="345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84800" y="3133800"/>
                <a:ext cx="39600" cy="39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284800" y="3133800"/>
                <a:ext cx="39600" cy="393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332320" y="3173400"/>
                <a:ext cx="39960" cy="35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32320" y="3173400"/>
                <a:ext cx="39960" cy="353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380200" y="3117960"/>
                <a:ext cx="39600" cy="40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380200" y="3117960"/>
                <a:ext cx="39600" cy="409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435640" y="3181320"/>
                <a:ext cx="38160" cy="34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435640" y="3181320"/>
                <a:ext cx="38160" cy="345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481720" y="3187800"/>
                <a:ext cx="39600" cy="339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481720" y="3187800"/>
                <a:ext cx="39600" cy="339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529240" y="3195720"/>
                <a:ext cx="47520" cy="331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29240" y="3195720"/>
                <a:ext cx="47520" cy="331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584680" y="3243240"/>
                <a:ext cx="39960" cy="28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584680" y="3243240"/>
                <a:ext cx="39960" cy="284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632560" y="3251160"/>
                <a:ext cx="38160" cy="27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632560" y="3251160"/>
                <a:ext cx="38160" cy="276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86560" y="3267000"/>
                <a:ext cx="39600" cy="260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686560" y="3267000"/>
                <a:ext cx="39600" cy="260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734080" y="3298680"/>
                <a:ext cx="39600" cy="22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34080" y="3298680"/>
                <a:ext cx="39600" cy="228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81600" y="3314880"/>
                <a:ext cx="39960" cy="212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81600" y="3314880"/>
                <a:ext cx="39960" cy="212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837400" y="3346560"/>
                <a:ext cx="37800" cy="180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37400" y="3346560"/>
                <a:ext cx="37800" cy="180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883480" y="3354480"/>
                <a:ext cx="39600" cy="172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83480" y="3354480"/>
                <a:ext cx="39600" cy="172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31000" y="3370320"/>
                <a:ext cx="39600" cy="156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931000" y="3370320"/>
                <a:ext cx="39600" cy="156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86440" y="3392640"/>
                <a:ext cx="39600" cy="13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986440" y="3392640"/>
                <a:ext cx="39600" cy="1346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033960" y="3416400"/>
                <a:ext cx="38160" cy="11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33960" y="3416400"/>
                <a:ext cx="38160" cy="110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80040" y="3432240"/>
                <a:ext cx="39960" cy="9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080040" y="3432240"/>
                <a:ext cx="39960" cy="9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35840" y="3463920"/>
                <a:ext cx="3960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135840" y="3463920"/>
                <a:ext cx="39600" cy="63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83360" y="3463920"/>
                <a:ext cx="3960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183360" y="3463920"/>
                <a:ext cx="39600" cy="63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30880" y="3479760"/>
                <a:ext cx="38160" cy="47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30880" y="3479760"/>
                <a:ext cx="38160" cy="47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84880" y="3479760"/>
                <a:ext cx="39600" cy="47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284880" y="3479760"/>
                <a:ext cx="39600" cy="47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32400" y="3495600"/>
                <a:ext cx="3996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32400" y="3495600"/>
                <a:ext cx="39960" cy="31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80280" y="3495600"/>
                <a:ext cx="3960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380280" y="3495600"/>
                <a:ext cx="39600" cy="31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435720" y="3503520"/>
                <a:ext cx="3816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435720" y="3503520"/>
                <a:ext cx="38160" cy="23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81800" y="3511440"/>
                <a:ext cx="39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81800" y="3511440"/>
                <a:ext cx="39600" cy="15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529320" y="3511440"/>
                <a:ext cx="478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29320" y="3511440"/>
                <a:ext cx="47880" cy="15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85120" y="3519360"/>
                <a:ext cx="396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8512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32640" y="3519360"/>
                <a:ext cx="38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632640" y="3519360"/>
                <a:ext cx="381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678720" y="3511440"/>
                <a:ext cx="475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684520" y="1762200"/>
              <a:ext cx="5099040" cy="4052520"/>
              <a:chOff x="2684520" y="1762200"/>
              <a:chExt cx="5099040" cy="4052520"/>
            </a:xfrm>
          </p:grpSpPr>
          <p:sp>
            <p:nvSpPr>
              <p:cNvPr id="299" name=""/>
              <p:cNvSpPr/>
              <p:nvPr/>
            </p:nvSpPr>
            <p:spPr>
              <a:xfrm>
                <a:off x="6678720" y="3511440"/>
                <a:ext cx="47520" cy="15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34160" y="3519360"/>
                <a:ext cx="396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3416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1680" y="3519360"/>
                <a:ext cx="399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781680" y="3519360"/>
                <a:ext cx="399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837480" y="3527280"/>
                <a:ext cx="3816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37480" y="3527280"/>
                <a:ext cx="381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83560" y="3519360"/>
                <a:ext cx="396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88356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931080" y="3519360"/>
                <a:ext cx="396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93108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98628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8628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3236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03236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07988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7988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135320" y="3527280"/>
                <a:ext cx="399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35320" y="3527280"/>
                <a:ext cx="399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18320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8320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230720" y="3527280"/>
                <a:ext cx="381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30720" y="3527280"/>
                <a:ext cx="381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28472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28472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3224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3224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80120" y="3527280"/>
                <a:ext cx="4752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80120" y="3527280"/>
                <a:ext cx="4752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33760" y="3527280"/>
                <a:ext cx="399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433760" y="3527280"/>
                <a:ext cx="399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48164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48164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29160" y="3527280"/>
                <a:ext cx="4752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29160" y="3527280"/>
                <a:ext cx="4752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84600" y="3527280"/>
                <a:ext cx="399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84600" y="3527280"/>
                <a:ext cx="399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632480" y="3527280"/>
                <a:ext cx="378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632480" y="3527280"/>
                <a:ext cx="378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68648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68648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3400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3400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8152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8152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83552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83552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883040" y="3527280"/>
                <a:ext cx="399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83040" y="3527280"/>
                <a:ext cx="399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3092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3092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86360" y="3519360"/>
                <a:ext cx="39600" cy="7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98636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33880" y="3519360"/>
                <a:ext cx="38160" cy="7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33880" y="3519360"/>
                <a:ext cx="381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79960" y="3479760"/>
                <a:ext cx="39600" cy="47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079960" y="3479760"/>
                <a:ext cx="39600" cy="47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35760" y="3370320"/>
                <a:ext cx="39600" cy="156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35760" y="3370320"/>
                <a:ext cx="39600" cy="156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83280" y="3086280"/>
                <a:ext cx="39600" cy="441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83280" y="3086280"/>
                <a:ext cx="39600" cy="441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230800" y="2644920"/>
                <a:ext cx="38160" cy="882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30800" y="2644920"/>
                <a:ext cx="38160" cy="882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84800" y="2259000"/>
                <a:ext cx="39600" cy="12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84800" y="2259000"/>
                <a:ext cx="39600" cy="1268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332320" y="2085840"/>
                <a:ext cx="39960" cy="144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32320" y="2085840"/>
                <a:ext cx="39960" cy="144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80200" y="2085840"/>
                <a:ext cx="39600" cy="144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80200" y="2085840"/>
                <a:ext cx="39600" cy="144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435640" y="2463840"/>
                <a:ext cx="38160" cy="1063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435640" y="2463840"/>
                <a:ext cx="38160" cy="1063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481720" y="2897280"/>
                <a:ext cx="39600" cy="630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481720" y="2897280"/>
                <a:ext cx="39600" cy="630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29240" y="3219480"/>
                <a:ext cx="47520" cy="307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529240" y="3219480"/>
                <a:ext cx="47520" cy="307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84680" y="3400560"/>
                <a:ext cx="39960" cy="126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84680" y="3400560"/>
                <a:ext cx="39960" cy="126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32560" y="3495600"/>
                <a:ext cx="38160" cy="31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32560" y="3495600"/>
                <a:ext cx="38160" cy="31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86560" y="3519360"/>
                <a:ext cx="39600" cy="7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68656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73408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73408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781600" y="3527280"/>
                <a:ext cx="399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781600" y="3527280"/>
                <a:ext cx="399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37400" y="3527280"/>
                <a:ext cx="378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37400" y="3527280"/>
                <a:ext cx="378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88348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8348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93100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93100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98644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98644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33960" y="3527280"/>
                <a:ext cx="381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33960" y="3527280"/>
                <a:ext cx="381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80040" y="3527280"/>
                <a:ext cx="399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080040" y="3527280"/>
                <a:ext cx="399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13584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13584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8336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8336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30880" y="3527280"/>
                <a:ext cx="381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30880" y="3527280"/>
                <a:ext cx="381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28488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8488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332400" y="3527280"/>
                <a:ext cx="399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332400" y="3527280"/>
                <a:ext cx="399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38028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38028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35720" y="3527280"/>
                <a:ext cx="381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435720" y="3527280"/>
                <a:ext cx="381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48180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48180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29320" y="3527280"/>
                <a:ext cx="4788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529320" y="3527280"/>
                <a:ext cx="4788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58512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58512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32640" y="3527280"/>
                <a:ext cx="381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32640" y="3527280"/>
                <a:ext cx="381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78720" y="3527280"/>
                <a:ext cx="4752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78720" y="3527280"/>
                <a:ext cx="4752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3416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73416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781680" y="3527280"/>
                <a:ext cx="399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781680" y="3527280"/>
                <a:ext cx="399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837480" y="3527280"/>
                <a:ext cx="381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837480" y="3527280"/>
                <a:ext cx="381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8356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8356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93108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93108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87640" y="1785960"/>
                <a:ext cx="1250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onteCarlo Analysis OLGA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25680" y="176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002120" y="3117960"/>
                <a:ext cx="2952720" cy="409320"/>
              </a:xfrm>
              <a:custGeom>
                <a:avLst/>
                <a:gdLst/>
                <a:ahLst/>
                <a:rect l="l" t="t" r="r" b="b"/>
                <a:pathLst>
                  <a:path w="1860" h="258">
                    <a:moveTo>
                      <a:pt x="0" y="253"/>
                    </a:moveTo>
                    <a:lnTo>
                      <a:pt x="34" y="253"/>
                    </a:lnTo>
                    <a:lnTo>
                      <a:pt x="64" y="253"/>
                    </a:lnTo>
                    <a:lnTo>
                      <a:pt x="94" y="253"/>
                    </a:lnTo>
                    <a:lnTo>
                      <a:pt x="129" y="253"/>
                    </a:lnTo>
                    <a:lnTo>
                      <a:pt x="158" y="253"/>
                    </a:lnTo>
                    <a:lnTo>
                      <a:pt x="188" y="248"/>
                    </a:lnTo>
                    <a:lnTo>
                      <a:pt x="223" y="238"/>
                    </a:lnTo>
                    <a:lnTo>
                      <a:pt x="253" y="238"/>
                    </a:lnTo>
                    <a:lnTo>
                      <a:pt x="282" y="233"/>
                    </a:lnTo>
                    <a:lnTo>
                      <a:pt x="317" y="223"/>
                    </a:lnTo>
                    <a:lnTo>
                      <a:pt x="347" y="223"/>
                    </a:lnTo>
                    <a:lnTo>
                      <a:pt x="377" y="213"/>
                    </a:lnTo>
                    <a:lnTo>
                      <a:pt x="411" y="193"/>
                    </a:lnTo>
                    <a:lnTo>
                      <a:pt x="441" y="183"/>
                    </a:lnTo>
                    <a:lnTo>
                      <a:pt x="471" y="178"/>
                    </a:lnTo>
                    <a:lnTo>
                      <a:pt x="506" y="149"/>
                    </a:lnTo>
                    <a:lnTo>
                      <a:pt x="535" y="144"/>
                    </a:lnTo>
                    <a:lnTo>
                      <a:pt x="565" y="129"/>
                    </a:lnTo>
                    <a:lnTo>
                      <a:pt x="600" y="104"/>
                    </a:lnTo>
                    <a:lnTo>
                      <a:pt x="630" y="94"/>
                    </a:lnTo>
                    <a:lnTo>
                      <a:pt x="664" y="84"/>
                    </a:lnTo>
                    <a:lnTo>
                      <a:pt x="694" y="44"/>
                    </a:lnTo>
                    <a:lnTo>
                      <a:pt x="724" y="54"/>
                    </a:lnTo>
                    <a:lnTo>
                      <a:pt x="759" y="59"/>
                    </a:lnTo>
                    <a:lnTo>
                      <a:pt x="788" y="40"/>
                    </a:lnTo>
                    <a:lnTo>
                      <a:pt x="818" y="10"/>
                    </a:lnTo>
                    <a:lnTo>
                      <a:pt x="853" y="35"/>
                    </a:lnTo>
                    <a:lnTo>
                      <a:pt x="883" y="0"/>
                    </a:lnTo>
                    <a:lnTo>
                      <a:pt x="912" y="40"/>
                    </a:lnTo>
                    <a:lnTo>
                      <a:pt x="947" y="44"/>
                    </a:lnTo>
                    <a:lnTo>
                      <a:pt x="977" y="49"/>
                    </a:lnTo>
                    <a:lnTo>
                      <a:pt x="1007" y="79"/>
                    </a:lnTo>
                    <a:lnTo>
                      <a:pt x="1041" y="84"/>
                    </a:lnTo>
                    <a:lnTo>
                      <a:pt x="1071" y="94"/>
                    </a:lnTo>
                    <a:lnTo>
                      <a:pt x="1101" y="114"/>
                    </a:lnTo>
                    <a:lnTo>
                      <a:pt x="1136" y="124"/>
                    </a:lnTo>
                    <a:lnTo>
                      <a:pt x="1165" y="144"/>
                    </a:lnTo>
                    <a:lnTo>
                      <a:pt x="1195" y="149"/>
                    </a:lnTo>
                    <a:lnTo>
                      <a:pt x="1230" y="159"/>
                    </a:lnTo>
                    <a:lnTo>
                      <a:pt x="1260" y="173"/>
                    </a:lnTo>
                    <a:lnTo>
                      <a:pt x="1289" y="188"/>
                    </a:lnTo>
                    <a:lnTo>
                      <a:pt x="1324" y="198"/>
                    </a:lnTo>
                    <a:lnTo>
                      <a:pt x="1354" y="218"/>
                    </a:lnTo>
                    <a:lnTo>
                      <a:pt x="1389" y="218"/>
                    </a:lnTo>
                    <a:lnTo>
                      <a:pt x="1418" y="228"/>
                    </a:lnTo>
                    <a:lnTo>
                      <a:pt x="1448" y="228"/>
                    </a:lnTo>
                    <a:lnTo>
                      <a:pt x="1483" y="238"/>
                    </a:lnTo>
                    <a:lnTo>
                      <a:pt x="1513" y="238"/>
                    </a:lnTo>
                    <a:lnTo>
                      <a:pt x="1542" y="243"/>
                    </a:lnTo>
                    <a:lnTo>
                      <a:pt x="1577" y="248"/>
                    </a:lnTo>
                    <a:lnTo>
                      <a:pt x="1607" y="248"/>
                    </a:lnTo>
                    <a:lnTo>
                      <a:pt x="1637" y="253"/>
                    </a:lnTo>
                    <a:lnTo>
                      <a:pt x="1671" y="253"/>
                    </a:lnTo>
                    <a:lnTo>
                      <a:pt x="1701" y="248"/>
                    </a:lnTo>
                    <a:lnTo>
                      <a:pt x="1731" y="253"/>
                    </a:lnTo>
                    <a:lnTo>
                      <a:pt x="1766" y="253"/>
                    </a:lnTo>
                    <a:lnTo>
                      <a:pt x="1795" y="258"/>
                    </a:lnTo>
                    <a:lnTo>
                      <a:pt x="1825" y="253"/>
                    </a:lnTo>
                    <a:lnTo>
                      <a:pt x="1860" y="2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002120" y="2085840"/>
                <a:ext cx="2952720" cy="1441440"/>
              </a:xfrm>
              <a:custGeom>
                <a:avLst/>
                <a:gdLst/>
                <a:ahLst/>
                <a:rect l="l" t="t" r="r" b="b"/>
                <a:pathLst>
                  <a:path w="1860" h="908">
                    <a:moveTo>
                      <a:pt x="0" y="908"/>
                    </a:moveTo>
                    <a:lnTo>
                      <a:pt x="34" y="908"/>
                    </a:lnTo>
                    <a:lnTo>
                      <a:pt x="64" y="908"/>
                    </a:lnTo>
                    <a:lnTo>
                      <a:pt x="94" y="908"/>
                    </a:lnTo>
                    <a:lnTo>
                      <a:pt x="129" y="908"/>
                    </a:lnTo>
                    <a:lnTo>
                      <a:pt x="158" y="908"/>
                    </a:lnTo>
                    <a:lnTo>
                      <a:pt x="188" y="908"/>
                    </a:lnTo>
                    <a:lnTo>
                      <a:pt x="223" y="908"/>
                    </a:lnTo>
                    <a:lnTo>
                      <a:pt x="253" y="908"/>
                    </a:lnTo>
                    <a:lnTo>
                      <a:pt x="282" y="908"/>
                    </a:lnTo>
                    <a:lnTo>
                      <a:pt x="317" y="908"/>
                    </a:lnTo>
                    <a:lnTo>
                      <a:pt x="347" y="908"/>
                    </a:lnTo>
                    <a:lnTo>
                      <a:pt x="377" y="908"/>
                    </a:lnTo>
                    <a:lnTo>
                      <a:pt x="411" y="908"/>
                    </a:lnTo>
                    <a:lnTo>
                      <a:pt x="441" y="908"/>
                    </a:lnTo>
                    <a:lnTo>
                      <a:pt x="471" y="908"/>
                    </a:lnTo>
                    <a:lnTo>
                      <a:pt x="506" y="908"/>
                    </a:lnTo>
                    <a:lnTo>
                      <a:pt x="535" y="908"/>
                    </a:lnTo>
                    <a:lnTo>
                      <a:pt x="565" y="908"/>
                    </a:lnTo>
                    <a:lnTo>
                      <a:pt x="600" y="908"/>
                    </a:lnTo>
                    <a:lnTo>
                      <a:pt x="630" y="903"/>
                    </a:lnTo>
                    <a:lnTo>
                      <a:pt x="664" y="903"/>
                    </a:lnTo>
                    <a:lnTo>
                      <a:pt x="694" y="878"/>
                    </a:lnTo>
                    <a:lnTo>
                      <a:pt x="724" y="809"/>
                    </a:lnTo>
                    <a:lnTo>
                      <a:pt x="759" y="630"/>
                    </a:lnTo>
                    <a:lnTo>
                      <a:pt x="788" y="352"/>
                    </a:lnTo>
                    <a:lnTo>
                      <a:pt x="818" y="109"/>
                    </a:lnTo>
                    <a:lnTo>
                      <a:pt x="853" y="0"/>
                    </a:lnTo>
                    <a:lnTo>
                      <a:pt x="883" y="0"/>
                    </a:lnTo>
                    <a:lnTo>
                      <a:pt x="912" y="238"/>
                    </a:lnTo>
                    <a:lnTo>
                      <a:pt x="947" y="511"/>
                    </a:lnTo>
                    <a:lnTo>
                      <a:pt x="977" y="714"/>
                    </a:lnTo>
                    <a:lnTo>
                      <a:pt x="1007" y="828"/>
                    </a:lnTo>
                    <a:lnTo>
                      <a:pt x="1041" y="888"/>
                    </a:lnTo>
                    <a:lnTo>
                      <a:pt x="1071" y="903"/>
                    </a:lnTo>
                    <a:lnTo>
                      <a:pt x="1101" y="908"/>
                    </a:lnTo>
                    <a:lnTo>
                      <a:pt x="1136" y="908"/>
                    </a:lnTo>
                    <a:lnTo>
                      <a:pt x="1165" y="908"/>
                    </a:lnTo>
                    <a:lnTo>
                      <a:pt x="1195" y="908"/>
                    </a:lnTo>
                    <a:lnTo>
                      <a:pt x="1230" y="908"/>
                    </a:lnTo>
                    <a:lnTo>
                      <a:pt x="1260" y="908"/>
                    </a:lnTo>
                    <a:lnTo>
                      <a:pt x="1289" y="908"/>
                    </a:lnTo>
                    <a:lnTo>
                      <a:pt x="1324" y="908"/>
                    </a:lnTo>
                    <a:lnTo>
                      <a:pt x="1354" y="908"/>
                    </a:lnTo>
                    <a:lnTo>
                      <a:pt x="1389" y="908"/>
                    </a:lnTo>
                    <a:lnTo>
                      <a:pt x="1418" y="908"/>
                    </a:lnTo>
                    <a:lnTo>
                      <a:pt x="1448" y="908"/>
                    </a:lnTo>
                    <a:lnTo>
                      <a:pt x="1483" y="908"/>
                    </a:lnTo>
                    <a:lnTo>
                      <a:pt x="1513" y="908"/>
                    </a:lnTo>
                    <a:lnTo>
                      <a:pt x="1542" y="908"/>
                    </a:lnTo>
                    <a:lnTo>
                      <a:pt x="1577" y="908"/>
                    </a:lnTo>
                    <a:lnTo>
                      <a:pt x="1607" y="908"/>
                    </a:lnTo>
                    <a:lnTo>
                      <a:pt x="1637" y="908"/>
                    </a:lnTo>
                    <a:lnTo>
                      <a:pt x="1671" y="908"/>
                    </a:lnTo>
                    <a:lnTo>
                      <a:pt x="1701" y="908"/>
                    </a:lnTo>
                    <a:lnTo>
                      <a:pt x="1731" y="908"/>
                    </a:lnTo>
                    <a:lnTo>
                      <a:pt x="1766" y="908"/>
                    </a:lnTo>
                    <a:lnTo>
                      <a:pt x="1795" y="908"/>
                    </a:lnTo>
                    <a:lnTo>
                      <a:pt x="1825" y="908"/>
                    </a:lnTo>
                    <a:lnTo>
                      <a:pt x="1860" y="908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6200000">
                <a:off x="2582640" y="2758320"/>
                <a:ext cx="325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ensity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915080" y="368460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LG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127120" y="3755880"/>
                <a:ext cx="1882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eas</a:t>
                </a:r>
                <a:endParaRPr b="0" lang="en-US" sz="6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206680" y="3684600"/>
                <a:ext cx="302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 OLG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513040" y="3755880"/>
                <a:ext cx="15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om</a:t>
                </a:r>
                <a:endParaRPr b="0" lang="en-US" sz="6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676840" y="368460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%]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364440" y="2022480"/>
                <a:ext cx="1361880" cy="33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364440" y="2022480"/>
                <a:ext cx="1361880" cy="3380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364440" y="2022480"/>
                <a:ext cx="1361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364440" y="2360520"/>
                <a:ext cx="136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7726320" y="2022120"/>
                <a:ext cx="1800" cy="338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6364440" y="2022120"/>
                <a:ext cx="1440" cy="338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64440" y="2360520"/>
                <a:ext cx="136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6364440" y="2022120"/>
                <a:ext cx="1440" cy="338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64440" y="2022480"/>
                <a:ext cx="1361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364440" y="2360520"/>
                <a:ext cx="136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7726320" y="2022120"/>
                <a:ext cx="1800" cy="338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6364440" y="2022120"/>
                <a:ext cx="1440" cy="338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663600" y="2062080"/>
                <a:ext cx="601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efore OLGA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103880" y="203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662880" y="2211480"/>
                <a:ext cx="517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fter OLGA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198920" y="218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245720" y="2211480"/>
                <a:ext cx="404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+Ncorr)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419880" y="2117880"/>
                <a:ext cx="181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419880" y="2266920"/>
                <a:ext cx="18108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095640" y="4110120"/>
                <a:ext cx="4686480" cy="155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095640" y="4110120"/>
                <a:ext cx="4686480" cy="1558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95640" y="4110120"/>
                <a:ext cx="468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095640" y="5668920"/>
                <a:ext cx="468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7782120" y="4110120"/>
                <a:ext cx="1440" cy="155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3095640" y="4110120"/>
                <a:ext cx="1440" cy="155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095640" y="5668920"/>
                <a:ext cx="468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3095640" y="4110120"/>
                <a:ext cx="1440" cy="155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3095640" y="5622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095640" y="411012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2436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60760" y="5622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60760" y="411012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48948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4025880" y="5622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025880" y="411012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5460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7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4497480" y="5622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97480" y="411012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2764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4970520" y="5622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970520" y="411012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89888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9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5435640" y="5622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435640" y="411012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11880" y="5692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5907240" y="5622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907240" y="411012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83740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1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372360" y="5622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372360" y="411012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30072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845400" y="5622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45400" y="411012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77376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7308720" y="5622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08720" y="411012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23888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4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7782120" y="5622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782120" y="411012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899440" y="4046400"/>
              <a:ext cx="4953600" cy="1768320"/>
              <a:chOff x="2899440" y="4046400"/>
              <a:chExt cx="4953600" cy="1768320"/>
            </a:xfrm>
          </p:grpSpPr>
          <p:sp>
            <p:nvSpPr>
              <p:cNvPr id="500" name=""/>
              <p:cNvSpPr/>
              <p:nvPr/>
            </p:nvSpPr>
            <p:spPr>
              <a:xfrm>
                <a:off x="771048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095640" y="5668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7733880" y="5668920"/>
                <a:ext cx="47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009960" y="5607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095640" y="52754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7733880" y="5275440"/>
                <a:ext cx="47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899440" y="52135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095640" y="4889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7733880" y="4889520"/>
                <a:ext cx="47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99440" y="48276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095640" y="449568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7733880" y="4495680"/>
                <a:ext cx="47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899440" y="44323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095640" y="41101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7733880" y="4110120"/>
                <a:ext cx="47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99440" y="4046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095640" y="4110120"/>
                <a:ext cx="468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095640" y="5668920"/>
                <a:ext cx="468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7782120" y="4110120"/>
                <a:ext cx="1440" cy="155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095640" y="4110120"/>
                <a:ext cx="1440" cy="155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60960" y="5661000"/>
                <a:ext cx="23760" cy="7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260960" y="5661000"/>
                <a:ext cx="237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292640" y="5661000"/>
                <a:ext cx="23760" cy="7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292640" y="5661000"/>
                <a:ext cx="237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316400" y="5661000"/>
                <a:ext cx="23760" cy="7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316400" y="5661000"/>
                <a:ext cx="237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348080" y="5654520"/>
                <a:ext cx="23760" cy="14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348080" y="5654520"/>
                <a:ext cx="23760" cy="14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380120" y="5654520"/>
                <a:ext cx="15840" cy="14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380120" y="5654520"/>
                <a:ext cx="15840" cy="14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403880" y="5661000"/>
                <a:ext cx="23760" cy="7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403880" y="5661000"/>
                <a:ext cx="237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433760" y="5646600"/>
                <a:ext cx="24120" cy="22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433760" y="5646600"/>
                <a:ext cx="24120" cy="22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465800" y="5646600"/>
                <a:ext cx="15840" cy="22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465800" y="5646600"/>
                <a:ext cx="15840" cy="22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489560" y="5607000"/>
                <a:ext cx="23760" cy="61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489560" y="5607000"/>
                <a:ext cx="23760" cy="61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521240" y="5607000"/>
                <a:ext cx="23760" cy="61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21240" y="5607000"/>
                <a:ext cx="23760" cy="61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552920" y="5583240"/>
                <a:ext cx="15840" cy="85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552920" y="5583240"/>
                <a:ext cx="15840" cy="85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576680" y="5567400"/>
                <a:ext cx="23760" cy="101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576680" y="5567400"/>
                <a:ext cx="23760" cy="101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08720" y="5583240"/>
                <a:ext cx="23760" cy="85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08720" y="5583240"/>
                <a:ext cx="23760" cy="85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638600" y="5551560"/>
                <a:ext cx="15840" cy="117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638600" y="5551560"/>
                <a:ext cx="15840" cy="117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662360" y="5567400"/>
                <a:ext cx="24120" cy="101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662360" y="5567400"/>
                <a:ext cx="24120" cy="101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694400" y="5535720"/>
                <a:ext cx="23760" cy="133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694400" y="5535720"/>
                <a:ext cx="23760" cy="1332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726080" y="5504040"/>
                <a:ext cx="15840" cy="164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726080" y="5504040"/>
                <a:ext cx="15840" cy="164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749840" y="5402160"/>
                <a:ext cx="23760" cy="266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749840" y="5402160"/>
                <a:ext cx="23760" cy="266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781520" y="5362560"/>
                <a:ext cx="23760" cy="306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781520" y="5362560"/>
                <a:ext cx="23760" cy="306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13200" y="5370480"/>
                <a:ext cx="15840" cy="298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813200" y="5370480"/>
                <a:ext cx="15840" cy="298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835520" y="5221440"/>
                <a:ext cx="23760" cy="447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835520" y="5221440"/>
                <a:ext cx="23760" cy="447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867200" y="5229360"/>
                <a:ext cx="23760" cy="4395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867200" y="5229360"/>
                <a:ext cx="23760" cy="439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898880" y="5205240"/>
                <a:ext cx="16200" cy="463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898880" y="5205240"/>
                <a:ext cx="16200" cy="463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923000" y="5189400"/>
                <a:ext cx="23760" cy="47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923000" y="5189400"/>
                <a:ext cx="23760" cy="479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954680" y="4976640"/>
                <a:ext cx="23760" cy="69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954680" y="4976640"/>
                <a:ext cx="23760" cy="692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978440" y="4992840"/>
                <a:ext cx="23760" cy="676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978440" y="4992840"/>
                <a:ext cx="23760" cy="676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10120" y="4992840"/>
                <a:ext cx="23760" cy="676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10120" y="4992840"/>
                <a:ext cx="23760" cy="676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40360" y="4929120"/>
                <a:ext cx="23760" cy="739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040360" y="4929120"/>
                <a:ext cx="23760" cy="739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064120" y="4849920"/>
                <a:ext cx="23760" cy="819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064120" y="4849920"/>
                <a:ext cx="23760" cy="819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095800" y="4857840"/>
                <a:ext cx="23760" cy="811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95800" y="4857840"/>
                <a:ext cx="23760" cy="811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27480" y="4865760"/>
                <a:ext cx="24120" cy="803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127480" y="4865760"/>
                <a:ext cx="24120" cy="803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51600" y="4668840"/>
                <a:ext cx="23760" cy="1000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151600" y="4668840"/>
                <a:ext cx="23760" cy="1000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183280" y="4668840"/>
                <a:ext cx="23760" cy="1000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183280" y="4668840"/>
                <a:ext cx="23760" cy="1000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214960" y="4740120"/>
                <a:ext cx="23760" cy="928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214960" y="4740120"/>
                <a:ext cx="23760" cy="928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238720" y="4732200"/>
                <a:ext cx="22320" cy="936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238720" y="4732200"/>
                <a:ext cx="22320" cy="936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268960" y="4606920"/>
                <a:ext cx="23760" cy="1062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268960" y="4606920"/>
                <a:ext cx="23760" cy="1062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300640" y="4700520"/>
                <a:ext cx="23760" cy="9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300640" y="4700520"/>
                <a:ext cx="23760" cy="968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24400" y="4599000"/>
                <a:ext cx="23760" cy="1069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324400" y="4599000"/>
                <a:ext cx="23760" cy="1069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356080" y="4503600"/>
                <a:ext cx="24120" cy="1165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356080" y="4503600"/>
                <a:ext cx="24120" cy="1165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388120" y="4479840"/>
                <a:ext cx="23760" cy="1189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388120" y="4479840"/>
                <a:ext cx="23760" cy="1189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411880" y="4456080"/>
                <a:ext cx="23760" cy="1212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11880" y="4456080"/>
                <a:ext cx="23760" cy="1212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42120" y="4629240"/>
                <a:ext cx="23760" cy="1039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442120" y="4629240"/>
                <a:ext cx="23760" cy="1039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473800" y="4487760"/>
                <a:ext cx="23760" cy="1181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473800" y="4487760"/>
                <a:ext cx="23760" cy="1181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497560" y="4575240"/>
                <a:ext cx="23760" cy="1093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7560" y="4575240"/>
                <a:ext cx="23760" cy="1093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529240" y="4668840"/>
                <a:ext cx="23760" cy="1000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529240" y="4668840"/>
                <a:ext cx="23760" cy="1000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560920" y="4464000"/>
                <a:ext cx="23760" cy="1204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560920" y="4464000"/>
                <a:ext cx="23760" cy="1204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584680" y="4692600"/>
                <a:ext cx="24120" cy="976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584680" y="4692600"/>
                <a:ext cx="24120" cy="976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616720" y="4606920"/>
                <a:ext cx="23760" cy="1062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616720" y="4606920"/>
                <a:ext cx="23760" cy="1062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646600" y="4811760"/>
                <a:ext cx="24120" cy="857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646600" y="4811760"/>
                <a:ext cx="24120" cy="857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670720" y="4827600"/>
                <a:ext cx="23760" cy="841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670720" y="4827600"/>
                <a:ext cx="23760" cy="841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702400" y="4740120"/>
                <a:ext cx="23760" cy="928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702400" y="4740120"/>
                <a:ext cx="23760" cy="928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34080" y="4921200"/>
                <a:ext cx="23760" cy="747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734080" y="4921200"/>
                <a:ext cx="23760" cy="747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757840" y="4819680"/>
                <a:ext cx="23760" cy="849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757840" y="4819680"/>
                <a:ext cx="23760" cy="849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89520" y="4944960"/>
                <a:ext cx="23760" cy="723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789520" y="4944960"/>
                <a:ext cx="23760" cy="723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821560" y="5032440"/>
                <a:ext cx="21960" cy="636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821560" y="5032440"/>
                <a:ext cx="21960" cy="636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843520" y="5046840"/>
                <a:ext cx="23760" cy="622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843520" y="5046840"/>
                <a:ext cx="23760" cy="622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75200" y="5118120"/>
                <a:ext cx="24120" cy="550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875200" y="5118120"/>
                <a:ext cx="24120" cy="550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907240" y="5126040"/>
                <a:ext cx="23760" cy="542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907240" y="5126040"/>
                <a:ext cx="23760" cy="542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931000" y="5157720"/>
                <a:ext cx="23760" cy="511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931000" y="5157720"/>
                <a:ext cx="23760" cy="5112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962680" y="5221440"/>
                <a:ext cx="23760" cy="447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962680" y="5221440"/>
                <a:ext cx="23760" cy="447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994360" y="5299200"/>
                <a:ext cx="23760" cy="369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994360" y="5299200"/>
                <a:ext cx="23760" cy="369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018120" y="5330880"/>
                <a:ext cx="23760" cy="338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018120" y="5330880"/>
                <a:ext cx="23760" cy="338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048360" y="5386320"/>
                <a:ext cx="23760" cy="282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048360" y="5386320"/>
                <a:ext cx="23760" cy="282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080040" y="5346720"/>
                <a:ext cx="23760" cy="322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080040" y="5346720"/>
                <a:ext cx="23760" cy="3222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103800" y="5362560"/>
                <a:ext cx="24120" cy="306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103800" y="5362560"/>
                <a:ext cx="24120" cy="306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135840" y="5410080"/>
                <a:ext cx="23760" cy="258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135840" y="5410080"/>
                <a:ext cx="23760" cy="258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167520" y="5433840"/>
                <a:ext cx="23760" cy="235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167520" y="5433840"/>
                <a:ext cx="23760" cy="235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191280" y="5394240"/>
                <a:ext cx="23760" cy="274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191280" y="5394240"/>
                <a:ext cx="23760" cy="274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22960" y="5479920"/>
                <a:ext cx="23760" cy="189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22960" y="5479920"/>
                <a:ext cx="23760" cy="189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53200" y="5504040"/>
                <a:ext cx="23760" cy="164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253200" y="5504040"/>
                <a:ext cx="23760" cy="164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276960" y="5551560"/>
                <a:ext cx="23760" cy="117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276960" y="5551560"/>
                <a:ext cx="23760" cy="117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08640" y="5559480"/>
                <a:ext cx="23760" cy="109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308640" y="5559480"/>
                <a:ext cx="23760" cy="109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340680" y="5551560"/>
                <a:ext cx="23760" cy="117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340680" y="5551560"/>
                <a:ext cx="23760" cy="117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364440" y="5551560"/>
                <a:ext cx="23760" cy="117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364440" y="5551560"/>
                <a:ext cx="23760" cy="117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396120" y="5575320"/>
                <a:ext cx="23760" cy="93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396120" y="5575320"/>
                <a:ext cx="23760" cy="93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427800" y="5567400"/>
                <a:ext cx="22320" cy="101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427800" y="5567400"/>
                <a:ext cx="22320" cy="101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450120" y="5599080"/>
                <a:ext cx="2376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450120" y="5599080"/>
                <a:ext cx="23760" cy="69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481800" y="5607000"/>
                <a:ext cx="23760" cy="61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481800" y="5607000"/>
                <a:ext cx="23760" cy="61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513480" y="5599080"/>
                <a:ext cx="2376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513480" y="5599080"/>
                <a:ext cx="23760" cy="69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537240" y="5607000"/>
                <a:ext cx="23760" cy="61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537240" y="5607000"/>
                <a:ext cx="23760" cy="61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569280" y="5630760"/>
                <a:ext cx="23760" cy="38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569280" y="5630760"/>
                <a:ext cx="23760" cy="38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600960" y="5646600"/>
                <a:ext cx="23760" cy="22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600960" y="5646600"/>
                <a:ext cx="23760" cy="22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624720" y="5638680"/>
                <a:ext cx="23760" cy="3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624720" y="5638680"/>
                <a:ext cx="23760" cy="30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654960" y="5654520"/>
                <a:ext cx="23760" cy="14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654960" y="5654520"/>
                <a:ext cx="23760" cy="14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686640" y="5622840"/>
                <a:ext cx="23760" cy="46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686640" y="5622840"/>
                <a:ext cx="23760" cy="46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710400" y="5638680"/>
                <a:ext cx="23760" cy="3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710400" y="5638680"/>
                <a:ext cx="23760" cy="30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742080" y="5654520"/>
                <a:ext cx="23760" cy="14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42080" y="5654520"/>
                <a:ext cx="23760" cy="14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73760" y="5661000"/>
                <a:ext cx="24120" cy="7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773760" y="5661000"/>
                <a:ext cx="2412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797880" y="5654520"/>
                <a:ext cx="23760" cy="14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797880" y="5654520"/>
                <a:ext cx="23760" cy="14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829560" y="5661000"/>
                <a:ext cx="21960" cy="7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829560" y="5661000"/>
                <a:ext cx="219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6859440" y="5654520"/>
              <a:ext cx="24120" cy="14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859440" y="5654520"/>
              <a:ext cx="2412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83560" y="5661000"/>
              <a:ext cx="23760" cy="7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883560" y="5661000"/>
              <a:ext cx="23760" cy="7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15240" y="5668920"/>
              <a:ext cx="23760" cy="1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915240" y="5668920"/>
              <a:ext cx="2376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46920" y="5661000"/>
              <a:ext cx="23760" cy="7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46920" y="5661000"/>
              <a:ext cx="23760" cy="7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70680" y="5654520"/>
              <a:ext cx="23760" cy="14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970680" y="5654520"/>
              <a:ext cx="2376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02360" y="5668920"/>
              <a:ext cx="24120" cy="1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02360" y="5668920"/>
              <a:ext cx="241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034400" y="5668920"/>
              <a:ext cx="21960" cy="1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34400" y="5668920"/>
              <a:ext cx="2196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56360" y="5668920"/>
              <a:ext cx="23760" cy="1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056360" y="5668920"/>
              <a:ext cx="2376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88040" y="5668920"/>
              <a:ext cx="24120" cy="1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088040" y="5668920"/>
              <a:ext cx="241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20080" y="5661000"/>
              <a:ext cx="23760" cy="7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20080" y="5661000"/>
              <a:ext cx="23760" cy="7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6200000">
              <a:off x="2641320" y="4899960"/>
              <a:ext cx="32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nsity</a:t>
              </a:r>
              <a:endParaRPr b="0" lang="en-US" sz="8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198400" y="582768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cp   [mA]</a:t>
              </a:r>
              <a:endParaRPr b="0" lang="en-US" sz="8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1600200" y="236160"/>
            <a:ext cx="83059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OLGA² (Open Loop Gain Auto Adjust): Design Goal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1600200" y="236160"/>
            <a:ext cx="83059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OLGA² (Open Loop Gain Auto Adjust): Measurement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1442880" y="1044720"/>
            <a:ext cx="846324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0200" y="236160"/>
            <a:ext cx="5211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Different Modulator Architectures – II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38240" y="1174680"/>
            <a:ext cx="7069320" cy="208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14560" y="4491000"/>
            <a:ext cx="3143160" cy="1206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47520" y="3282840"/>
            <a:ext cx="55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Modulation at IF followed  by upconversion loop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9800" y="5742000"/>
            <a:ext cx="470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Idea for minimal modulation architecture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96600" y="236160"/>
            <a:ext cx="46828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New Modulation Loop – Close up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1119240"/>
            <a:ext cx="4035240" cy="3036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31880" y="4178160"/>
            <a:ext cx="6337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Parameters to be specified: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d1d40"/>
              </a:buClr>
              <a:buFont typeface="Arial"/>
              <a:buAutoNum type="arabicParenR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Frequency resolution </a:t>
            </a:r>
            <a:br>
              <a:rPr sz="2000"/>
            </a:b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(i.e. amplitude quantization of the dig. controlword)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d1d40"/>
              </a:buClr>
              <a:buFont typeface="Arial"/>
              <a:buAutoNum type="arabicParenR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Oversampling rate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d1d40"/>
              </a:buClr>
              <a:buFont typeface="Arial"/>
              <a:buAutoNum type="arabicParenR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Noise performance of the PLL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d1d40"/>
              </a:buClr>
              <a:buFont typeface="Arial"/>
              <a:buAutoNum type="arabicParenR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Loopbandwidth needed</a:t>
            </a:r>
            <a:br>
              <a:rPr sz="2000"/>
            </a:b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(more precise: loopdynamic needed)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98040" y="236160"/>
            <a:ext cx="619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Traditional PLL Architecture – Integer-N PLL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8640" y="944640"/>
            <a:ext cx="4065840" cy="1977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24600" y="987480"/>
            <a:ext cx="3544920" cy="1081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00880" y="2971800"/>
            <a:ext cx="26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Integer-N architecture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66240" y="22464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LTI-Model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822320" y="3614760"/>
            <a:ext cx="4264200" cy="3002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98760" y="236160"/>
            <a:ext cx="49035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Requirements for new architecture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49440" y="1073160"/>
            <a:ext cx="3878280" cy="3090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549760" y="1035000"/>
            <a:ext cx="3916440" cy="3122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50760" y="4508640"/>
            <a:ext cx="614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d1d4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Phasenoise of better than -80 dBc/Hz needed.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Phasenoise of better than -90 dBc/Hz desirable.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d1d4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Loopbandwidth of wider than 500 kHz is needed.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Loopbandwidth of about 1.5 MHz desirable.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99120" y="236160"/>
            <a:ext cx="26632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Fractional-N PLL I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44760" y="1552680"/>
            <a:ext cx="7997760" cy="3678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17120" y="1027080"/>
            <a:ext cx="42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Equivalence between DAC and PLL: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22520" y="55926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Now one can apply the ‚tricks‘ known from DAC-design in PLL design.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Therefore it is possible to decouple the frequency resolution from</a:t>
            </a:r>
            <a:br>
              <a:rPr sz="2000"/>
            </a:b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the loop multiplication!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99120" y="236160"/>
            <a:ext cx="27410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Fractional-N PLL II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27280" y="1069920"/>
            <a:ext cx="4811760" cy="4300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21400" y="4240080"/>
            <a:ext cx="4026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d1d40"/>
                </a:solidFill>
                <a:latin typeface="Arial"/>
              </a:rPr>
              <a:t>ref</a:t>
            </a: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 = 26 MHz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23 bit accuwidth in MASH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d1d40"/>
              </a:buClr>
              <a:buFont typeface="Symbol" charset="2"/>
              <a:buChar char="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300" spc="-1" strike="noStrike">
                <a:solidFill>
                  <a:srgbClr val="0d1d4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3366ff"/>
                </a:solidFill>
                <a:latin typeface="Arial"/>
              </a:rPr>
              <a:t>f</a:t>
            </a:r>
            <a:r>
              <a:rPr b="0" lang="en-US" sz="2300" spc="-1" strike="noStrike" baseline="-25000">
                <a:solidFill>
                  <a:srgbClr val="3366ff"/>
                </a:solidFill>
                <a:latin typeface="Arial"/>
              </a:rPr>
              <a:t>step</a:t>
            </a:r>
            <a:r>
              <a:rPr b="0" lang="en-US" sz="2300" spc="-1" strike="noStrike">
                <a:solidFill>
                  <a:srgbClr val="3366ff"/>
                </a:solidFill>
                <a:latin typeface="Arial"/>
              </a:rPr>
              <a:t> = 3.0994 Hz</a:t>
            </a:r>
            <a:endParaRPr b="0" lang="en-US" sz="23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d1d40"/>
              </a:buClr>
              <a:buFont typeface="Symbol" charset="2"/>
              <a:buChar char="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300" spc="-1" strike="noStrike">
                <a:solidFill>
                  <a:srgbClr val="0d1d4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3366ff"/>
                </a:solidFill>
                <a:latin typeface="Arial"/>
              </a:rPr>
              <a:t>N = 38.5 (@1GHz) = 32 dB</a:t>
            </a:r>
            <a:endParaRPr b="0" lang="en-US" sz="23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96960" y="236160"/>
            <a:ext cx="41202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Loopdynamic Requirement II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35120" y="5208480"/>
            <a:ext cx="783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e3102b"/>
              </a:buClr>
              <a:buFont typeface="Symbol" charset="2"/>
              <a:buChar char="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e3102b"/>
                </a:solidFill>
                <a:latin typeface="Arial"/>
              </a:rPr>
              <a:t>about 25 dB of loopfilter suppression will be needed at 400 kHz,</a:t>
            </a:r>
            <a:br>
              <a:rPr sz="2000"/>
            </a:br>
            <a:r>
              <a:rPr b="0" lang="en-US" sz="2000" spc="-1" strike="noStrike">
                <a:solidFill>
                  <a:srgbClr val="e3102b"/>
                </a:solidFill>
                <a:latin typeface="Arial"/>
              </a:rPr>
              <a:t>but the modulation needs to have a wide bandwidth!!!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41520" y="1176480"/>
            <a:ext cx="6070680" cy="3789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93720" y="236160"/>
            <a:ext cx="7294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Loopdynamic Problem Using Traditional PLL Design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5680" y="1119240"/>
            <a:ext cx="4894200" cy="3643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643800" y="2013120"/>
            <a:ext cx="3093840" cy="246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4400" y="1401840"/>
            <a:ext cx="171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300" spc="-1" strike="noStrike">
                <a:solidFill>
                  <a:srgbClr val="e3102b"/>
                </a:solidFill>
                <a:latin typeface="Arial"/>
              </a:rPr>
              <a:t>Remember:</a:t>
            </a:r>
            <a:endParaRPr b="0" lang="en-US" sz="23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35120" y="5132520"/>
            <a:ext cx="78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e3102b"/>
              </a:buClr>
              <a:buFont typeface="Symbol" charset="2"/>
              <a:buChar char="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e3102b"/>
                </a:solidFill>
                <a:latin typeface="Arial"/>
              </a:rPr>
              <a:t>108 kHz is far too narrow for GSM-modulation!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3:33:44Z</dcterms:created>
  <dc:creator/>
  <dc:description/>
  <dc:language>en-US</dc:language>
  <cp:lastModifiedBy>lorenzopa</cp:lastModifiedBy>
  <cp:lastPrinted>2003-02-27T12:07:01Z</cp:lastPrinted>
  <dcterms:modified xsi:type="dcterms:W3CDTF">2006-02-21T12:50:51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ge_total">
    <vt:lpwstr>99</vt:lpwstr>
  </property>
</Properties>
</file>