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5 December 2005 – version 3.0 - Page </a:t>
            </a:r>
            <a:fld id="{A5B1B57D-BFEB-42B1-B99D-062342FB561F}" type="slidenum">
              <a: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 of 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" Target="slide3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5758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Minion"/>
                <a:ea typeface="Times New Roman"/>
              </a:rPr>
              <a:t>How to initiate Tracking View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Minion"/>
                <a:ea typeface="Times New Roman"/>
              </a:rPr>
              <a:t>for analysing resources.</a:t>
            </a:r>
            <a:br>
              <a:rPr sz="4000"/>
            </a:b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35733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his guide describes how to set up Tracking View in Primavera Project Manager for analysing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Group and Sort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038480" cy="2994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64000" y="4137120"/>
            <a:ext cx="936720" cy="457200"/>
          </a:xfrm>
          <a:prstGeom prst="wedgeRoundRectCallout">
            <a:avLst>
              <a:gd name="adj1" fmla="val -235930"/>
              <a:gd name="adj2" fmla="val -174652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64000" y="2276640"/>
            <a:ext cx="936720" cy="685800"/>
          </a:xfrm>
          <a:prstGeom prst="wedgeRoundRectCallout">
            <a:avLst>
              <a:gd name="adj1" fmla="val -354236"/>
              <a:gd name="adj2" fmla="val -65509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Click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 Group and Sort settings for the lower left corner has to be chan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Group and Sort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5005440" cy="2610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627280" y="3213000"/>
            <a:ext cx="1523880" cy="762120"/>
          </a:xfrm>
          <a:prstGeom prst="wedgeRoundRectCallout">
            <a:avLst>
              <a:gd name="adj1" fmla="val -153750"/>
              <a:gd name="adj2" fmla="val -156250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Group and sort for the resource view has to be set as shown be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324320" cy="2943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Unit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1628640"/>
            <a:ext cx="1152720" cy="762120"/>
          </a:xfrm>
          <a:prstGeom prst="wedgeRoundRectCallout">
            <a:avLst>
              <a:gd name="adj1" fmla="val -334986"/>
              <a:gd name="adj2" fmla="val 36875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Right click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64000" y="4365720"/>
            <a:ext cx="2664000" cy="1560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64000" y="2598840"/>
            <a:ext cx="2664000" cy="1657080"/>
          </a:xfrm>
          <a:prstGeom prst="wedgeRoundRectCallout">
            <a:avLst>
              <a:gd name="adj1" fmla="val -89870"/>
              <a:gd name="adj2" fmla="val -26629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 the type of units needed to be shown. If choosing Customize more than one type can be in the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81720" y="4537080"/>
            <a:ext cx="863640" cy="317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Different units can be shown in this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Tracking View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860720" cy="357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 Tracking View Layout is now build up and analyses of resources can sta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tart Up Filter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82920" cy="2632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340000" y="2746440"/>
            <a:ext cx="76320" cy="718920"/>
          </a:xfrm>
          <a:custGeom>
            <a:avLst/>
            <a:gdLst>
              <a:gd name="textAreaLeft" fmla="*/ 0 w 76320"/>
              <a:gd name="textAreaRight" fmla="*/ 27360 w 7632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3106800"/>
            <a:ext cx="216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9079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fter “building” the Tracking View the Start Up Filter have to be set back -  in the User Preferen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36572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fter the changes are made - log out and in to Primavera ag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3280" y="2060640"/>
            <a:ext cx="6135480" cy="3876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rojects and Load in a Global Lin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"/>
          <p:cNvSpPr/>
          <p:nvPr/>
        </p:nvSpPr>
        <p:spPr>
          <a:xfrm>
            <a:off x="430200" y="2852640"/>
            <a:ext cx="72072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4920" y="2781360"/>
            <a:ext cx="16560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75280" y="2278080"/>
            <a:ext cx="1573200" cy="585720"/>
          </a:xfrm>
          <a:prstGeom prst="wedgeRoundRectCallout">
            <a:avLst>
              <a:gd name="adj1" fmla="val -67962"/>
              <a:gd name="adj2" fmla="val 154064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List of all Projects where selected Global Line are invol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519280" y="2878200"/>
            <a:ext cx="1595520" cy="1465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34920" y="4294080"/>
            <a:ext cx="16560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9079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 following slides show the planned efforts for projects for a global line, a department or skill group, or a single resour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t is e.g. possible to see which projects the resources have booked their effort on and/or to see which project they are assigned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5292720" cy="3899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rojects and Load in a Depart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4076640"/>
            <a:ext cx="1511280" cy="31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1916280"/>
            <a:ext cx="1608120" cy="761760"/>
          </a:xfrm>
          <a:prstGeom prst="wedgeRoundRectCallout">
            <a:avLst>
              <a:gd name="adj1" fmla="val -108736"/>
              <a:gd name="adj2" fmla="val 63125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List of all Projects where selected Department are invol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627280" y="2781360"/>
            <a:ext cx="1873440" cy="1287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6013440" cy="3857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47640" y="4149720"/>
            <a:ext cx="158292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oad and Projects in a Department by Resourc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27640" y="4076640"/>
            <a:ext cx="3456000" cy="180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659640" y="3284640"/>
            <a:ext cx="1224000" cy="576000"/>
          </a:xfrm>
          <a:prstGeom prst="wedgeRoundRectCallout">
            <a:avLst>
              <a:gd name="adj1" fmla="val -89041"/>
              <a:gd name="adj2" fmla="val 122453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Remove checkmark to show 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9240" y="2003400"/>
            <a:ext cx="23508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859280" y="2276640"/>
            <a:ext cx="504720" cy="187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628640"/>
            <a:ext cx="1441440" cy="838440"/>
          </a:xfrm>
          <a:prstGeom prst="wedgeRoundRectCallout">
            <a:avLst>
              <a:gd name="adj1" fmla="val -24337"/>
              <a:gd name="adj2" fmla="val 71402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List of projects &amp; efforts by resource for selected Depar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484360" y="2492280"/>
            <a:ext cx="719280" cy="158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6002280" cy="38451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rojects and Load of a Resourc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628640"/>
            <a:ext cx="1243080" cy="720720"/>
          </a:xfrm>
          <a:prstGeom prst="wedgeRoundRectCallout">
            <a:avLst>
              <a:gd name="adj1" fmla="val -10027"/>
              <a:gd name="adj2" fmla="val 92953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List of all projects of selected re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4076640"/>
            <a:ext cx="1079640" cy="270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700000" y="2421000"/>
            <a:ext cx="647640" cy="1511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836640"/>
            <a:ext cx="842472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s Tracking View will include a heavy data-transfer, it is absolutely necessary to set up Tracking View as mentioned in the slides of step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(This should only be done onc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. </a:t>
            </a:r>
            <a:r>
              <a:rPr b="0" lang="da-DK" sz="18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1" action="ppaction://hlinksldjump"/>
              </a:rPr>
              <a:t>Initiate Tracking View (when never used before) </a:t>
            </a:r>
            <a:r>
              <a:rPr b="0" lang="da-DK" sz="18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2" action="ppaction://hlinksldjump"/>
              </a:rPr>
              <a:t>–</a:t>
            </a:r>
            <a:r>
              <a:rPr b="0" lang="da-DK" sz="18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3" action="ppaction://hlinksldjump"/>
              </a:rPr>
              <a:t> Page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 slides in step B show the planned effort for projects for a global line, a department or skill group, or a single resour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. </a:t>
            </a:r>
            <a:r>
              <a:rPr b="0" lang="da-DK" sz="18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4" action="ppaction://hlinksldjump"/>
              </a:rPr>
              <a:t>Tracking View – Page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NB!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racking View is based on summaries data which are calculated every night. If recent changes to a project should be included - the project must be open. Then online values will be in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tart Up Filter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174920" cy="341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>
            <a:off x="1653840" y="4027320"/>
            <a:ext cx="131436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3280" y="4416480"/>
            <a:ext cx="863280" cy="199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Go to User Preferences under EDIT in Primavera Project Manager and change the settings of Start Up Fil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tart Up Filter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84360" cy="2630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2341440" y="3105000"/>
            <a:ext cx="214560" cy="1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50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30520" y="2711520"/>
            <a:ext cx="144360" cy="792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et Start Up Filters shown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436572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fter the changes are made - log out and in to Primavera ag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3421080" cy="2589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tart Tracking View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1413000"/>
            <a:ext cx="216000" cy="1103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971640" y="1413000"/>
            <a:ext cx="151272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3280" y="2276640"/>
            <a:ext cx="396720" cy="290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2637000"/>
            <a:ext cx="936720" cy="460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art the Tracking View by using one of the shown butt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365720"/>
            <a:ext cx="842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fter pushing the button it can take some time before the Tracking view is shown. Just be patient. </a:t>
            </a:r>
            <a:r>
              <a:rPr b="1" lang="en-GB" sz="1800" spc="-1" strike="noStrike">
                <a:solidFill>
                  <a:srgbClr val="3a0e66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elect layout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When the view is opened - select the Layout: BenQ Department Resource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068720" cy="3961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932360" y="4255920"/>
            <a:ext cx="1368360" cy="757440"/>
          </a:xfrm>
          <a:prstGeom prst="wedgeRoundRectCallout">
            <a:avLst>
              <a:gd name="adj1" fmla="val -244777"/>
              <a:gd name="adj2" fmla="val 34694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 this Lay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1773360"/>
            <a:ext cx="1368360" cy="1008000"/>
          </a:xfrm>
          <a:prstGeom prst="wedgeRoundRectCallout">
            <a:avLst>
              <a:gd name="adj1" fmla="val -116356"/>
              <a:gd name="adj2" fmla="val -18504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Press to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all layo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elect View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191120" cy="2509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932360" y="2133720"/>
            <a:ext cx="934920" cy="685800"/>
          </a:xfrm>
          <a:prstGeom prst="wedgeRoundRectCallout">
            <a:avLst>
              <a:gd name="adj1" fmla="val -330643"/>
              <a:gd name="adj2" fmla="val 68287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Click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3500280"/>
            <a:ext cx="934920" cy="457200"/>
          </a:xfrm>
          <a:prstGeom prst="wedgeRoundRectCallout">
            <a:avLst>
              <a:gd name="adj1" fmla="val -171560"/>
              <a:gd name="adj2" fmla="val -155555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heck the view in the lower left corner. It has to be Re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Filter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876920" cy="3262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80000" y="2060640"/>
            <a:ext cx="936720" cy="685800"/>
          </a:xfrm>
          <a:prstGeom prst="wedgeRoundRectCallout">
            <a:avLst>
              <a:gd name="adj1" fmla="val -354236"/>
              <a:gd name="adj2" fmla="val 34027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Click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3798720"/>
            <a:ext cx="936720" cy="457200"/>
          </a:xfrm>
          <a:prstGeom prst="wedgeRoundRectCallout">
            <a:avLst>
              <a:gd name="adj1" fmla="val -215930"/>
              <a:gd name="adj2" fmla="val 50347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et up a Filter for the resources before the rights figures are shown. The filter is “build” in the lower left cor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3280" y="1633680"/>
            <a:ext cx="4429080" cy="2622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Filter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78200" y="2637000"/>
            <a:ext cx="1009440" cy="178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2349360"/>
            <a:ext cx="49068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131640" y="1484280"/>
            <a:ext cx="287640" cy="79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“</a:t>
            </a: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uild” a filter like shown below. In the resource tree - select the department in ques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4365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n only </a:t>
            </a:r>
            <a:r>
              <a:rPr b="1" lang="en-GB" sz="18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labor</a:t>
            </a: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resources are vie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5:39:06Z</dcterms:created>
  <dc:creator>Reinholdt Hansen</dc:creator>
  <dc:description>2.2 - 15 December 05 - jju - updated as BenQ template
Changed to Version 3.0 - 25 January 2006 - OSM</dc:description>
  <dc:language>en-US</dc:language>
  <cp:lastModifiedBy>Ole Sletting Madsen</cp:lastModifiedBy>
  <dcterms:modified xsi:type="dcterms:W3CDTF">2006-01-25T11:33:05Z</dcterms:modified>
  <cp:revision>18</cp:revision>
  <dc:subject/>
  <dc:title>How to initiate Tracking View for analysing resources</dc:title>
</cp:coreProperties>
</file>